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3DD-7060-4BCF-AB99-EE3C134F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600-EEA2-4A23-893C-539492A7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87C-5043-4FA3-A337-15697900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2F1-A580-4E02-B9D5-568B3C09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E342-926D-4AAD-B1C8-2519310A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749-2DA0-49DD-B3B7-38945FB7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E8A-07D5-44E9-9E61-5C222719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F15-919D-404F-860F-27B6EB2C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E54-2518-45AC-955D-963BA63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11D-B55F-4ABD-AE20-8C1431F5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EFA-7D1C-48F7-BDA7-895A35B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2D7-BC3B-424C-B408-A61CAF59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A9AD-21C0-436F-9C56-50977FE041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3581280"/>
            <a:ext cx="601992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9966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山野忠彦</a:t>
            </a:r>
            <a:endParaRPr b="1" lang="en-US" sz="7200" spc="1" strike="noStrike">
              <a:ln w="9360">
                <a:solidFill>
                  <a:srgbClr val="ff9966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373120" y="1143000"/>
            <a:ext cx="291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3.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大树医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685800" y="1815840"/>
            <a:ext cx="67057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联系课文内容，再展开想像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树医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孩子们会怎么护理这棵大树？请你把下面这段话补充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巨大的中国古树倒在了地上，从根部往上裂开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多长的裂缝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于，有一天，在树干的断裂处，长出了第一颗新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资料：对于遭受大风危害，折枝、伤害树冠或被风刮倒的树木，要根据受害情况，及时维护。首先要对风倒树及时顺势扶正，培土为馒头形，修去部分和大部分枝条，并立支柱。对裂枝要顶起或吊枝，捆紧基部伤面，或涂激素药膏促其愈合，并加强肥水管理，促进树势的恢复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5791320" y="2514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838080" y="2819520"/>
            <a:ext cx="6477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838080" y="3200400"/>
            <a:ext cx="64771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87280" y="620640"/>
            <a:ext cx="70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    ）切除古树的坏死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    ）注入营养液和自己配制的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    ）给古树切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    ）用泥土来填充裂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（    ）用毛刷清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268360" y="31417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※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孩子们非常认真地执行大树医生的医嘱，做起了大树的护理员。——他像医生一样，看完病留下医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753560" y="16002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53560" y="60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753560" y="2590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53560" y="205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3560" y="114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8284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在唯一的希望，就是找大树医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山野忠彦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33520" y="609480"/>
            <a:ext cx="5790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山野忠彦自幼就深深地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热爱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群山的树木。当他在山间漫步时，意外地发现很多古树失去了活力。他仿佛听见这些古树的灵魂在痛苦地呻吟着，向他呼救，所以他选择了森林管理工作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为了拯救古树，山野忠彦当起了大树医生。他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查阅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了大量的资料，做了很多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研究和实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当时，人们用在树洞或树干的裂缝中填进水泥的方法来加固被损坏的树木。可是山野忠彦不愿意这样。为了让树木吸收更多的水分、空气和养料，他决定不使用水泥，而是用泥土来填充裂缝。他先把古树的坏死部分切除，再用毛刷清理，最后注射营养液和他自己配制的药物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他的方法成功了！许多古树复苏了，长出了嫩绿的新芽，焕发出勃勃的生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现在，山野忠彦已经成为世界知名的大树医生了。而且，他把挽救大树的意义和方法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教给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了孩子们，因为他相信，大树永远需要人们的帮助，而不是伤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2366280" y="162720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大树医生救活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28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395280" y="1489320"/>
            <a:ext cx="82803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永远需要人们的帮助，而不是伤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永远需要的不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树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山野忠彦先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去世。他生前关心树木，与树木交谈，倾听树木的呼声，为拯救全国的病树奔波了后半生。战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前往朝鲜半岛，在那里度过了动荡的岁月。房地产生意成功后，他心机一转开始经营和研究山林。战争期间，军部命令他提供木材，但是他一直表示拒绝。他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类发动的战争很快就会结束，但树木被砍伐后生长起来需要几十年，并且伴有山崩和洪水的危险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5715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史无前例的，于是他开始自学，家业由妻子和女儿支撑。北陆粟津温泉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黄门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这名树医的第一位患者。它的树龄有三四百年，内部已成空洞，只有少量的表皮部分还能存活。虽然病情严重，最后还是救活了。这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6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的事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5715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手拿念珠，抚摸树木，满怀爱心地治疗，嘴里念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活了这么多年，辛苦了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凭借经验和才华进行可靠的诊断，使用独特的药物，还有创造性的外科手术。光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以上的树木就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棵受到治疗，包括很多名贵树种。然而。山野先生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树木没有优劣之分。它们都很了不起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5638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战败归来后，日本一贫如洗，只剩下一座座荒山。山上和城里的树木伤痕累累，古木和名木面临枯死的危险。可是，人们为生活所迫，没有余力倾听大自然悲伤的呼唤。于是山野先生萌生了当树木医生的念头。他认为这是第一个听到大自然呼声的人的使命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7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609480" y="1143000"/>
            <a:ext cx="6477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罕见    笼罩     狂风暴雨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灼热    拯救     生机勃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复苏    摧残     医嘱     呼啸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挽救    呻吟     灵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5715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山野先生交往密切的作家尼柯尔得知山野先生去世后，流着泪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他在一起，会觉得内心温暖。正因为他对所有生物都抱有爱心，所以大量树木得以生还。日本失去了一位伟大的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586764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树永远需要人们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帮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而不是</a:t>
            </a:r>
            <a:r>
              <a:rPr b="1" lang="zh-CN" sz="3600" spc="-1" strike="noStrike">
                <a:solidFill>
                  <a:srgbClr val="ff99ff"/>
                </a:solidFill>
                <a:latin typeface="Arial"/>
                <a:ea typeface="黑体"/>
              </a:rPr>
              <a:t>伤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环境永远需要人们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保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而不是</a:t>
            </a:r>
            <a:r>
              <a:rPr b="1" lang="zh-CN" sz="3600" spc="-1" strike="noStrike">
                <a:solidFill>
                  <a:srgbClr val="ff99ff"/>
                </a:solidFill>
                <a:latin typeface="Arial"/>
                <a:ea typeface="黑体"/>
              </a:rPr>
              <a:t>伤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762120" y="2013480"/>
            <a:ext cx="7738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罕见——难得见到；很少见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灼热——像火烧着、烫着那样热。灼，火烧；火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医嘱——医生根据病情和治疗的需要            对病人在饮食、用药、化验等方面的  指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复苏——恢复正常的生命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摧残——本文指台风使大树受到很大的损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609480" y="914400"/>
            <a:ext cx="73152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罕见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笼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狂风暴雨    复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灼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拯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生机勃勃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09480" y="4343400"/>
            <a:ext cx="6477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笼子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罩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遮盖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罩子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罩衣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养鸡用的笼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捕鱼用的竹器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480760" y="28195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拯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20800" y="281952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灼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火烧、火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829240" y="152388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罩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遮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235160" y="3733920"/>
            <a:ext cx="17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灼：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火烧、火烫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明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zz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98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月的一个夜晚，一场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罕见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台风呼啸着，怒吼着向日本西部的广岛袭来，整个岛屿笼罩在一片狂风暴雨中。   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突然，人们听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啪啦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一阵巨大的爆裂声。大家顶着大雨冲出家门，一看，原来是一棵巨大的古树倒在了地上，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从根部往上裂开了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米多长的裂缝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这可不是一棵普通的大树，很多年以前它经历过一场比这更大的灾难。广岛是遭受世界上第一颗原子弹轰炸的地点。</a:t>
            </a:r>
            <a:r>
              <a:rPr b="1" lang="zh-CN" sz="2000" spc="-1" strike="noStrike">
                <a:solidFill>
                  <a:srgbClr val="333399"/>
                </a:solidFill>
                <a:latin typeface="黑体"/>
                <a:ea typeface="黑体"/>
              </a:rPr>
              <a:t>当年，灼热的气浪曾把这棵树的一半树干烧得焦黑，整个大树也渐渐开始枯萎、死亡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后来，在一所小学孩子们的精心护理之下，它竟然顽强地活了下来，成为活生生的原子弹爆炸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见证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可是这一次，它又受到了强烈台风的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摧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还能活下去吗？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04920" y="1720800"/>
            <a:ext cx="646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是一棵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古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352680" y="2514600"/>
            <a:ext cx="160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历经磨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年代久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见证历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顽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幸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09480" y="2602440"/>
            <a:ext cx="813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树医生一赶到，就把双手紧紧压在树干上，通过手掌的触摸，他感到树里的湿气，感觉大树还在呼吸，树根部的结构也还稳固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还活着呢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向聚在周围焦急等待着的孩子们宣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非常认真地执行大树医生的医嘱，做起了大树的护理员，直到在树干的断裂处长出了第一颗新芽。这是大树医生救活的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2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棵树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1824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赶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866360" y="685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367600" y="121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触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7196400" y="1219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感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08160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791960" y="2362320"/>
            <a:ext cx="23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树还活着呢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d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476280"/>
            <a:ext cx="838080" cy="711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395280" y="2356920"/>
            <a:ext cx="82803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在下面的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 u="sng">
                <a:solidFill>
                  <a:srgbClr val="660033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上填上表示心情的词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大树医生一赶到，看到古树倒在了地上，从根部往上裂开了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米多长的裂缝，他</a:t>
            </a:r>
            <a:r>
              <a:rPr b="1" lang="zh-CN" sz="4000" spc="-1" strike="noStrike" u="sng">
                <a:solidFill>
                  <a:srgbClr val="660033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，当他发现树还能救时，他</a:t>
            </a:r>
            <a:r>
              <a:rPr b="1" lang="zh-CN" sz="4000" spc="-1" strike="noStrike" u="sng">
                <a:solidFill>
                  <a:srgbClr val="660033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地说：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树还活着呢！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407040" y="3809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焦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407040" y="4419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欣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拯救古树，山野忠彦当起了大树医生。他查阅了大量的资料，做了很多研究和实验。当时，人们用在树洞或树干的裂缝中填进水泥的方法来加固被损坏的树木。可是山野忠彦不愿意这样。为了让树木吸收更多的水分、空气和养料，他决定不使用水泥，而是用泥土来填充裂缝。他先把古树的坏死部分切除，再用毛刷清理，最后注射营养液和他自己配制的药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