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E9B-E648-4268-BB63-9B7C7DAC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D56-8B95-4EC7-918B-5A2F7B37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A1C-9BEC-468C-859A-E944D939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986-FA51-4A8E-BFB5-70ED7FCF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8B2-8103-4319-93CA-84778ABE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2CA-070D-4BF7-B03E-37DCCB7A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093-4487-4A68-A166-0EF1B334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2A6B-B290-44F0-8E03-6969C0E8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760-0672-4CEA-9746-4BCB91ED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42C-B389-4ADD-9D6D-08AB4748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38FC-13FB-44D3-BD5F-355CE0E9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2A6-96D5-462F-957B-B5970C8E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BC7F-2F0B-4068-B4B6-0970ED9314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3"/>
          <p:cNvSpPr/>
          <p:nvPr/>
        </p:nvSpPr>
        <p:spPr>
          <a:xfrm>
            <a:off x="2124000" y="90792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 手术台就是阵地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5" descr="语文4年级1a"/>
          <p:cNvPicPr/>
          <p:nvPr/>
        </p:nvPicPr>
        <p:blipFill>
          <a:blip r:embed="rId5"/>
          <a:stretch/>
        </p:blipFill>
        <p:spPr>
          <a:xfrm>
            <a:off x="1908000" y="1844640"/>
            <a:ext cx="4969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求恩说：“谢谢师长的关心。可是，手术台时医生的阵地，战士们没有离开他们的阵地，我怎么能离开手术台呢？部长同志，请你转告师长，我是一名八路军战士，不是你们的客人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666880"/>
            <a:ext cx="65534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505320"/>
            <a:ext cx="73915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267080"/>
            <a:ext cx="16765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04360" y="6453360"/>
            <a:ext cx="360360" cy="404640"/>
          </a:xfrm>
          <a:prstGeom prst="lef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2"/>
          <p:cNvSpPr/>
          <p:nvPr/>
        </p:nvSpPr>
        <p:spPr>
          <a:xfrm>
            <a:off x="612720" y="3436920"/>
            <a:ext cx="80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白求恩仍然争分夺秒地给伤员做手术，做了一个又一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831960" y="811080"/>
            <a:ext cx="78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一连几发炮弹落在小庙周围。庙的一角落下许多瓦片，门口的布帘烧着了。火苗向手术台扑过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next"/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82560" y="1341360"/>
          <a:ext cx="7777080" cy="453564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小庙周围的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白求恩大夫的表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Text Box 29"/>
          <p:cNvSpPr/>
          <p:nvPr/>
        </p:nvSpPr>
        <p:spPr>
          <a:xfrm>
            <a:off x="1692360" y="404640"/>
            <a:ext cx="280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1042920" y="19162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971640" y="19162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几发炮弹落在小庙前的空地上。黑烟滚滚，弹片纷飞，小庙被烟雾淹没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1562040" y="328464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敌机不断地在上空盘旋，炮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不断地在周围爆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2356920" y="4292640"/>
            <a:ext cx="68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一连几发炮弹落在小庙周围。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的一角落下许多瓦片，门口的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帘烧着了。火苗向手术台扑过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5234040" y="213372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白求恩镇静地站在手术台旁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伤员做手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6"/>
          <p:cNvSpPr/>
          <p:nvPr/>
        </p:nvSpPr>
        <p:spPr>
          <a:xfrm>
            <a:off x="5411880" y="328464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白求恩说手术台是医术的阵地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能离开。他继续为伤员做手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5335560" y="450864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白求恩争分夺秒地给伤员做手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755640" y="692280"/>
            <a:ext cx="3311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9"/>
          <p:cNvSpPr/>
          <p:nvPr/>
        </p:nvSpPr>
        <p:spPr>
          <a:xfrm>
            <a:off x="755640" y="6922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填空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620640"/>
            <a:ext cx="82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这次战斗进行了三天三夜，白求恩大夫在手术台旁连续工作了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69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个小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55640" y="907920"/>
            <a:ext cx="79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齐会战斗胜利结束了，获救的伤员遇到白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恩大夫会怎样做？怎么样说？展开想象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语文4年级1a"/>
          <p:cNvPicPr/>
          <p:nvPr/>
        </p:nvPicPr>
        <p:blipFill>
          <a:blip r:embed="rId5"/>
          <a:stretch/>
        </p:blipFill>
        <p:spPr>
          <a:xfrm>
            <a:off x="4788000" y="3357720"/>
            <a:ext cx="3120840" cy="25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3"/>
          <p:cNvSpPr/>
          <p:nvPr/>
        </p:nvSpPr>
        <p:spPr>
          <a:xfrm>
            <a:off x="1258920" y="1000080"/>
            <a:ext cx="66978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选择合适的词语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陆续     继续      连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战斗在激烈地进行着，我军的伤员（   ）从火线上抬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白求恩大夫低下头，（   ）给伤员做手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战斗进行了三天三夜，白求恩大夫在手术台旁（   ）工作了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9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877080" y="22971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659960" y="2712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陆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5795640" y="3362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继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3460320" y="4873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连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4360" y="3284640"/>
            <a:ext cx="7848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时间有先有后，时断时续。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接连续，一个接一个，一次接一次。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活动）连下去；延长下去。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26480" y="3147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陆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06120" y="378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连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4508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继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1768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2860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用“陆续”、“继续”、“连续”填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想一想三个词能不能调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71160" y="1828800"/>
            <a:ext cx="640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这件事就由你（           ）干完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6160" y="2666880"/>
            <a:ext cx="325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体育课上，王刚一口气（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翻了五个跟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74040" y="4038480"/>
            <a:ext cx="627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散会了，代表们（          ）从人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大会堂走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10360" y="1828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继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15120" y="2666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连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91240" y="4038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陆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4920" y="620640"/>
            <a:ext cx="914400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比较句子，说说它们有什么相同和不同之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 战士们没有离开阵地，我怎么能离开手术台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战士们没有离开手术台，我不能离开手术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5319720"/>
            <a:ext cx="84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用反问的形式强调不能离开手术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些字的读音，可要注意哦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      ）（紧挨  ）        （      ）（ 大家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挨  （      ）（挨打  ）   大 （      ）（ 大夫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      ）（ 没有 ）        （        ）（ 盘旋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没  （      ）（ 淹没 ）   旋 （        ）（ 旋风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2133720"/>
            <a:ext cx="5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5573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ā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148428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d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2133720"/>
            <a:ext cx="7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3284640"/>
            <a:ext cx="8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m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386064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Garamond"/>
              </a:rPr>
              <a:t>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08720" y="328464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xu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3860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x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3"/>
          <p:cNvSpPr/>
          <p:nvPr/>
        </p:nvSpPr>
        <p:spPr>
          <a:xfrm>
            <a:off x="539640" y="333360"/>
            <a:ext cx="78822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一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气势汹汹  激烈  陆续  镇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匆匆  争分夺秒  连续  敏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语文4年级1a"/>
          <p:cNvPicPr/>
          <p:nvPr/>
        </p:nvPicPr>
        <p:blipFill>
          <a:blip r:embed="rId5"/>
          <a:stretch/>
        </p:blipFill>
        <p:spPr>
          <a:xfrm>
            <a:off x="5219640" y="3673440"/>
            <a:ext cx="3121200" cy="25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3"/>
          <p:cNvSpPr/>
          <p:nvPr/>
        </p:nvSpPr>
        <p:spPr>
          <a:xfrm>
            <a:off x="468360" y="162864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年春，著名的（   ）战斗打响了，在（          ）的一座小庙里，白求恩大夫正在（           ）。他已经（       ）没有休息了，眼睛里（         ）。战斗越来越激烈。师卫生部长让白求恩（   ），但白求恩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台是医生的（    ） ，战士们没有离开他们的阵地，（                   ）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求恩（   ）给伤员做手术。就这样，白求恩（       ）地给伤员做手术，做了一个又一个，连续工作了（  ）个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684360" y="105264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轻声读课文，试着完成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476360" y="1628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4859280" y="162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齐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826920" y="206064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离火线不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859280" y="2492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两天两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2482920" y="290988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布满了红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3203640" y="33415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离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1908000" y="37861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阵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717480" y="41958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我怎么能离开手术台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6443640" y="414972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继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4643280" y="46386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争分夺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6156360" y="503856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755640" y="2492280"/>
            <a:ext cx="36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给伤员做手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28640" y="1916280"/>
            <a:ext cx="78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755640" y="1484280"/>
            <a:ext cx="74883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齐会战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八路军第一二零○师主力和冀中部队密切配合，在河北河间县齐会村对日伪军的一次歼灭战。日伪军把齐会村紧紧包围，双方战斗激烈，日伪军的炮弹向村内倾泻，八路军战士顽强地坚守着村落，一次又一次地打退了日伪军的进攻；最后内外夹击，将日伪军冲垮。取得了平原歼灭战的首次胜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xin_110903130601921195023"/>
          <p:cNvPicPr/>
          <p:nvPr/>
        </p:nvPicPr>
        <p:blipFill>
          <a:blip r:embed="rId5"/>
          <a:stretch/>
        </p:blipFill>
        <p:spPr>
          <a:xfrm>
            <a:off x="5508720" y="549360"/>
            <a:ext cx="259236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28640" y="1916280"/>
            <a:ext cx="78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635280" y="40464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加拿大人，中国抗日战争爆发后，受加拿大共产党和美国共产党的派遣，为了支援中国人民的抗日战争，率领医疗队，不远万里来到解放区，他以极端负责的工作态度和精湛的医疗技术，为中国的抗日军民医病疗伤，并培训了大批医务干部，为中国人民的抗日战争做出了卓越贡献。后因抢救伤员感染中毒，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939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日在河北完县逝世。毛泽东主席称他是伟大的国际主义战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Img226617148"/>
          <p:cNvPicPr/>
          <p:nvPr/>
        </p:nvPicPr>
        <p:blipFill>
          <a:blip r:embed="rId5"/>
          <a:stretch/>
        </p:blipFill>
        <p:spPr>
          <a:xfrm>
            <a:off x="428760" y="1571760"/>
            <a:ext cx="3090600" cy="38005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0" name="Text Box 9"/>
          <p:cNvSpPr/>
          <p:nvPr/>
        </p:nvSpPr>
        <p:spPr>
          <a:xfrm>
            <a:off x="826920" y="549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白 求 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next"/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682560" y="1476360"/>
          <a:ext cx="7777080" cy="390384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56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小庙周围的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白求恩大夫的表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3"/>
          <p:cNvSpPr/>
          <p:nvPr/>
        </p:nvSpPr>
        <p:spPr>
          <a:xfrm>
            <a:off x="1042920" y="19162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971640" y="2060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发炮弹落在小庙前的空地上。黑烟滚滚，弹片纷飞，小庙被烟雾淹没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1562040" y="307800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机不断地在上空盘旋，炮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断地在周围爆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2356920" y="3933720"/>
            <a:ext cx="68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连几发炮弹落在小庙周围。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一角落下许多瓦片，门口的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帘烧着了。火苗向手术台扑过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4859280" y="1935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900000" y="620640"/>
            <a:ext cx="3384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7"/>
          <p:cNvSpPr/>
          <p:nvPr/>
        </p:nvSpPr>
        <p:spPr>
          <a:xfrm>
            <a:off x="826920" y="76500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填空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880" y="26776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求恩十分镇静地站在手术台旁。他接过助手递过来的镊子，从伤员腹腔里敏捷地取出一片弹片，扔在盘子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90760" y="2871720"/>
            <a:ext cx="22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Garamond"/>
              </a:rPr>
              <a:t>十分镇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25960" y="4784760"/>
            <a:ext cx="1633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Garamond"/>
              </a:rPr>
              <a:t>敏捷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971640" y="549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几发炮弹落在小庙前的空地上。黑烟滚滚，弹片纷飞，小庙被烟雾淹没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1066680"/>
            <a:ext cx="820872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求恩沉思了一会，说：“我同意撤走部分伤员。至于我个人，要和战士们在一起，不能离开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609480"/>
            <a:ext cx="1563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沉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3429000"/>
            <a:ext cx="2693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</a:rPr>
              <a:t>不能离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659040"/>
            <a:ext cx="820908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白求恩沉思了一会，他想：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_____________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，于是说：“我同意撤走部分伤员。至于我个人，要和战士们在一起，不能离开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3"/>
          <p:cNvSpPr/>
          <p:nvPr/>
        </p:nvSpPr>
        <p:spPr>
          <a:xfrm>
            <a:off x="611280" y="26028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敌机不断地在上空盘旋，炮弹不断地在周围爆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8-05T20:06:36Z</dcterms:modified>
  <cp:revision>0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