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6870-4CA8-4CC3-B561-2F0A40F95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BC42-23B6-495A-A525-241002129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F52C-27DC-48D6-A966-25BAE4597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6F80-0DAC-4211-A08E-7DC405678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A7E7-0776-44CA-AD2C-6B68212CC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6834-924C-430D-BDD5-2EAC6AAB7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B4E2-F935-4914-9F4B-83488D6AA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246C-EBD9-446C-BD7D-9DA52ACEF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EA9B-CCE6-4286-BDC5-3CFB27AF5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1516-BDEC-44E4-9D07-97E564E7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C590-D22C-4DDC-AE6B-463CB8C8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A83F-04A8-422F-A0BA-05CB595B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A2504-DB60-44EA-B1E5-140EC23769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在品读经典中成长</a:t>
            </a: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...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 rot="900000">
            <a:off x="1682280" y="1647360"/>
            <a:ext cx="4162680" cy="42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细读品味：打死猛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3080" y="1988640"/>
            <a:ext cx="403092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武松将半截棒丢在一边，两只手就势把大虫顶花皮胳嗒地揪住，一按按将下来。那只大虫急要挣扎，被武松尽力气纳定，哪里肯放半点儿松宽？武松把只脚望大虫面门上、眼睛里，只顾乱踢。那大虫咆哮起来，把身底下扒起两堆黄泥，做了一个土坑。武松把大虫嘴直按下黄泥坑里去。那大虫吃武松奈何得没了些气力。武松把左手紧紧地揪住顶花皮，偷出右手来，提起铁锤般大小拳头，尽平生之力，只顾打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900000" y="2062080"/>
            <a:ext cx="36007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细读品味：打死猛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3080" y="1988640"/>
            <a:ext cx="403092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武松将半截棒丢在一边，两只手就势把大虫顶花皮胳嗒地</a:t>
            </a:r>
            <a:r>
              <a:rPr b="1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揪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住，一</a:t>
            </a:r>
            <a:r>
              <a:rPr b="1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按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按将下来。那只大虫急要挣扎，被武松尽力气</a:t>
            </a:r>
            <a:r>
              <a:rPr b="1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纳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哪里肯放半点儿松宽？武松把只脚望大虫面门上、眼睛里，只顾乱</a:t>
            </a:r>
            <a:r>
              <a:rPr b="1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踢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那大虫咆哮起来，把身底下扒起两堆黄泥，做了一个土坑。武松把大虫嘴直</a:t>
            </a:r>
            <a:r>
              <a:rPr b="1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按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黄泥坑里去。那大虫吃武松奈何得没了些气力。武松把左手紧紧地</a:t>
            </a:r>
            <a:r>
              <a:rPr b="1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揪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住顶花皮，</a:t>
            </a:r>
            <a:r>
              <a:rPr b="1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偷出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右手来，</a:t>
            </a:r>
            <a:r>
              <a:rPr b="1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提起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铁锤般大小拳头，尽平生之力，只顾</a:t>
            </a:r>
            <a:r>
              <a:rPr b="1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打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900000" y="2062080"/>
            <a:ext cx="36007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思考回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8280" y="1601640"/>
            <a:ext cx="7094520" cy="25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本文主要是表现武松的机智勇敢、武艺超群，作者却着力写了老虎非凡的气势和声势，用意何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4579920" y="3232080"/>
            <a:ext cx="228924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朗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怎样读才能读出虎的声势，气势及武松的勇敢无畏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）舒缓、优美的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）中速、平淡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）稍快、紧张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朗读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872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那个大虫又饥又渴，把两只爪在地下略按一按，和身望上一扑，从半空里撺将下来。武松被那一惊，酒都做冷汗出来了。说时迟，那时快，武松见大虫扑来，只一闪，闪在大虫背后。那大虫背后看人最难，便把前爪搭在地下，把腰胯一掀，掀将起来。武松只一闪，闪在一边。大虫见掀他不着，吼一声，却似半天里起个霹雳，震得那山冈也动；把这铁棒也似虎尾倒竖起来，只一剪，武松却又闪在一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朗读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2872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武松将半截棒丢在一边，两只手就势把大虫顶花皮胳嗒地揪住，一按按将下来。那只大虫急要挣扎，被武松尽力气纳定，哪里肯放半点儿松宽？武松把只脚望大虫面门上、眼睛里，只顾乱踢。那大虫咆哮起来，把身底下扒起两堆黄泥，做了一个土坑。武松把大虫嘴直按下黄泥坑里去。那大虫吃武松奈何得没了些气力。武松把左手紧紧地揪住顶花皮，偷出右手来，提起铁锤般大小拳头，尽平生之力，只顾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再读体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cc00cc"/>
                </a:solidFill>
                <a:latin typeface="Arial"/>
                <a:ea typeface="楷体_GB2312"/>
              </a:rPr>
              <a:t>我回去时，须吃他耻笑，不是好汉，难以转去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cc00cc"/>
                </a:solidFill>
                <a:latin typeface="Arial"/>
                <a:ea typeface="楷体_GB2312"/>
              </a:rPr>
              <a:t>怕甚么！且只顾上去，看怎地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cc00cc"/>
                </a:solidFill>
                <a:latin typeface="Arial"/>
                <a:ea typeface="楷体_GB2312"/>
              </a:rPr>
              <a:t>哪得甚么大虫！人自怕了，不敢上山。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畅所欲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武松，我想对你说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96720" y="765000"/>
            <a:ext cx="2159280" cy="22194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2771640" y="1701720"/>
            <a:ext cx="2521080" cy="23655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5580000" y="2997360"/>
            <a:ext cx="2449440" cy="2322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73200" y="310356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ahoma"/>
                <a:ea typeface="黑体"/>
              </a:rPr>
              <a:t>猛虎出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916360" y="4221000"/>
            <a:ext cx="14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ahoma"/>
                <a:ea typeface="黑体"/>
              </a:rPr>
              <a:t>猛虎进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653080" y="5445000"/>
            <a:ext cx="15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ahoma"/>
                <a:ea typeface="黑体"/>
              </a:rPr>
              <a:t>打死猛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5160000">
            <a:off x="1563840" y="4060800"/>
            <a:ext cx="504720" cy="393840"/>
          </a:xfrm>
          <a:custGeom>
            <a:avLst/>
            <a:gdLst>
              <a:gd name="textAreaLeft" fmla="*/ 168120 w 504720"/>
              <a:gd name="textAreaRight" fmla="*/ 432360 w 504720"/>
              <a:gd name="textAreaTop" fmla="*/ 226800 h 393840"/>
              <a:gd name="textAreaBottom" fmla="*/ 337320 h 3938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5160000">
            <a:off x="4012920" y="5356080"/>
            <a:ext cx="506520" cy="395280"/>
          </a:xfrm>
          <a:custGeom>
            <a:avLst/>
            <a:gdLst>
              <a:gd name="textAreaLeft" fmla="*/ 168840 w 506520"/>
              <a:gd name="textAreaRight" fmla="*/ 433800 w 506520"/>
              <a:gd name="textAreaTop" fmla="*/ 227520 h 395280"/>
              <a:gd name="textAreaBottom" fmla="*/ 338760 h 395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3" dur="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作业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自己的话把武松打虎的故事讲给父母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44720" y="2017800"/>
            <a:ext cx="791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zh-CN" sz="2800" spc="-1" strike="noStrike">
                <a:solidFill>
                  <a:srgbClr val="ff66cc"/>
                </a:solidFill>
                <a:latin typeface="楷体_GB2312"/>
                <a:ea typeface="黑体"/>
              </a:rPr>
              <a:t>温馨提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理清打虎经过的三个层次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猛虎出现</a:t>
            </a:r>
            <a:r>
              <a:rPr b="1" lang="zh-CN" sz="2400" spc="-1" strike="noStrike">
                <a:solidFill>
                  <a:srgbClr val="ff66cc"/>
                </a:solidFill>
                <a:latin typeface="楷体_GB2312"/>
                <a:ea typeface="楷体_GB2312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猛虎进攻</a:t>
            </a:r>
            <a:r>
              <a:rPr b="1" lang="zh-CN" sz="2400" spc="-1" strike="noStrike">
                <a:solidFill>
                  <a:srgbClr val="ff66cc"/>
                </a:solidFill>
                <a:latin typeface="楷体_GB2312"/>
                <a:ea typeface="楷体_GB2312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打死猛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语言要简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用自己的话来表述，注意适当运用文中的精彩词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角色选择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武松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猛虎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？？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195640" y="1197000"/>
            <a:ext cx="554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Arial"/>
                <a:ea typeface="黑体"/>
              </a:rPr>
              <a:t>武松打虎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趣读课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师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武松乘着酒兴，只管走上冈子来。走不到半里多路，见一个败落的山神庙。行到庙前，见这庙门上贴着一张印信榜文。武松住了脚读时，上面写道：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    阳谷县示：为景阳冈上新有一只大虫，近来伤害人命，现今杖限各乡里正并猎户人等，打捕未获。如有过往客商人等，可於巳、午、未三个时辰结伴过冈。其余时分及单身客人，白日不许过冈，恐被伤害性命不便。各宜知悉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    武松读了印信榜文，方知端的有虎；欲待转身再回酒店里来，寻思道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生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  <a:ea typeface="楷体_GB2312"/>
              </a:rPr>
              <a:t>“我回去时，须吃他耻笑，不是好汉，难以转去。”</a:t>
            </a: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趣读课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师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存想了一回，说道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生：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  <a:ea typeface="楷体_GB2312"/>
              </a:rPr>
              <a:t>“怕甚么！且只顾上去，看怎地！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师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武松正走，看看酒涌上来，便把毡笠儿背在脊梁上，将哨棒绾在肋下，一步步上那冈子来。回头看这日色时，渐渐地坠下去了。此时正是十月间天气，日短夜长，容易得晚。武松自言自说道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生：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  <a:ea typeface="楷体_GB2312"/>
              </a:rPr>
              <a:t>“哪得甚么大虫！人自怕了，不敢上山。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默读思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默读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-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然段，想一想每个自然段讲了什么内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）猛虎出现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：</a:t>
            </a:r>
            <a:r>
              <a:rPr b="1" lang="zh-CN" sz="2400" spc="-1" strike="noStrike">
                <a:solidFill>
                  <a:srgbClr val="0099cc"/>
                </a:solidFill>
                <a:latin typeface="宋体"/>
              </a:rPr>
              <a:t>大风过后，跳出大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）猛虎进攻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：</a:t>
            </a:r>
            <a:r>
              <a:rPr b="1" lang="zh-CN" sz="2400" spc="-1" strike="noStrike">
                <a:solidFill>
                  <a:srgbClr val="0099cc"/>
                </a:solidFill>
                <a:latin typeface="宋体"/>
              </a:rPr>
              <a:t>老虎一扑、一掀、一剪，武松一闪、一闪、又一闪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6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）打死猛虎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：</a:t>
            </a:r>
            <a:r>
              <a:rPr b="1" lang="zh-CN" sz="2400" spc="-1" strike="noStrike">
                <a:solidFill>
                  <a:srgbClr val="0099cc"/>
                </a:solidFill>
                <a:latin typeface="楷体_GB2312"/>
              </a:rPr>
              <a:t>老虎翻过身来，武松打断梢棒；老虎咆哮起来，武松赤手空拳打老虎；武松用半截梢棒又打了一回，打死了猛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思考回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一部分表现了武松的什么性格特点？从什么地方最能体现出来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5076720" y="3141720"/>
            <a:ext cx="28814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细读品味：猛虎进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428720" y="1917720"/>
            <a:ext cx="4173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那个大虫又饥又渴，把两只爪在地下略按一按，和身望上一扑，从半空里撺将下来。武松被那一惊，酒都做冷汗出来了。说时迟，那时快，武松见大虫扑来，只一闪，闪在大虫背后。那大虫背后看人最难，便把前爪搭在地下，把腰胯一掀，掀将起来。武松只一闪，闪在一边。大虫见掀他不着，吼一声，却似半天里起个霹雳，震得那山冈也动；把这铁棒也似虎尾倒竖起来，只一剪，武松却又闪在一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828720" y="1989000"/>
            <a:ext cx="3600360" cy="46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细读品味：猛虎进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428720" y="1917720"/>
            <a:ext cx="4173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那个大虫又饥又渴，把两只爪在地下略</a:t>
            </a:r>
            <a:r>
              <a:rPr b="1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按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</a:t>
            </a:r>
            <a:r>
              <a:rPr b="1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按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和身望上一</a:t>
            </a:r>
            <a:r>
              <a:rPr b="1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扑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从半空里</a:t>
            </a:r>
            <a:r>
              <a:rPr b="1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撺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下来。武松被那一惊，酒都做冷汗出来了。说时迟，那时快，武松见大虫</a:t>
            </a:r>
            <a:r>
              <a:rPr b="1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扑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，只一闪，闪在大虫背后。那大虫背后看人最难，便把前爪</a:t>
            </a:r>
            <a:r>
              <a:rPr b="1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搭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地下，把腰胯一</a:t>
            </a:r>
            <a:r>
              <a:rPr b="1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掀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掀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起来。武松只一闪，闪在一边。大虫见掀他不着，</a:t>
            </a:r>
            <a:r>
              <a:rPr b="1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吼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声，却似半天里起个霹雳，震得那山冈也动；把这铁棒也似虎尾</a:t>
            </a:r>
            <a:r>
              <a:rPr b="1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倒竖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起来，只一</a:t>
            </a:r>
            <a:r>
              <a:rPr b="1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剪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武松却又闪在一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828720" y="1989000"/>
            <a:ext cx="3600360" cy="46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细读品味：猛虎进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28720" y="1917720"/>
            <a:ext cx="4173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那个大虫又饥又渴，把两只爪在地下略按一按，和身望上一扑，从半空里撺将下来。武松被那一惊，酒都做冷汗出来了。说时迟，那时快，武松见大虫扑来，</a:t>
            </a:r>
            <a:r>
              <a:rPr b="1" lang="zh-CN" sz="20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只一</a:t>
            </a:r>
            <a:r>
              <a:rPr b="1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闪</a:t>
            </a:r>
            <a:r>
              <a:rPr b="1" lang="zh-CN" sz="20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，</a:t>
            </a:r>
            <a:r>
              <a:rPr b="1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闪</a:t>
            </a:r>
            <a:r>
              <a:rPr b="1" lang="zh-CN" sz="20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在大虫背后。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大虫背后看人最难，便把前爪搭在地下，把腰胯一掀，掀将起来。武松</a:t>
            </a:r>
            <a:r>
              <a:rPr b="1" lang="zh-CN" sz="20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只一</a:t>
            </a:r>
            <a:r>
              <a:rPr b="1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闪</a:t>
            </a:r>
            <a:r>
              <a:rPr b="1" lang="zh-CN" sz="20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，</a:t>
            </a:r>
            <a:r>
              <a:rPr b="1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闪</a:t>
            </a:r>
            <a:r>
              <a:rPr b="1" lang="zh-CN" sz="20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在一边。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虫见掀他不着，吼一声，却似半天里起个霹雳，震得那山冈也动；把这铁棒也似虎尾倒竖起来，只一剪，武松却</a:t>
            </a:r>
            <a:r>
              <a:rPr b="1" lang="zh-CN" sz="20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又</a:t>
            </a:r>
            <a:r>
              <a:rPr b="1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闪</a:t>
            </a:r>
            <a:r>
              <a:rPr b="1" lang="zh-CN" sz="20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在一边</a:t>
            </a:r>
            <a:r>
              <a:rPr b="0" lang="zh-CN" sz="2000" spc="-1" strike="noStrike">
                <a:solidFill>
                  <a:srgbClr val="cc00cc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828720" y="1989000"/>
            <a:ext cx="3600360" cy="46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/>
  <dc:language>en-US</dc:language>
  <cp:lastModifiedBy>USER</cp:lastModifiedBy>
  <dcterms:modified xsi:type="dcterms:W3CDTF">2015-08-05T20:06:36Z</dcterms:modified>
  <cp:revision>0</cp:revision>
  <dc:subject/>
  <dc:title>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