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4.jpeg" ContentType="image/jpeg"/>
  <Override PartName="/ppt/media/image59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media/image48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6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53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6.png" ContentType="image/png"/>
  <Override PartName="/ppt/media/image57.jpeg" ContentType="image/jpeg"/>
  <Override PartName="/ppt/media/image5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8EC-3BF6-4FB3-A506-DB6AC518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CB0-BC0B-4BCF-915E-283AD24F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032-9F31-44F3-A5E3-ADF1671E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AEC-717A-4570-92FA-95569CEB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197-0C2C-4BCC-A980-23C2857C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546-9D62-451C-A5A6-2275CD40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5D8-1003-4A72-A378-8B3EE22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781-8349-4992-B7BD-8F0FD58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58E-826A-4C6E-A524-A6CCC3B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B8B-665E-4DA9-9577-332CE047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977-7895-494B-8267-1DB0FB41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48F-2AC8-4CB3-929C-D923D1F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FCA4-7EA5-4A77-B8E7-68ACBDB8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262160" y="2060640"/>
            <a:ext cx="66024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渺小  矿产  恩赐  慷慨  滥用   目睹  璀璨  枯竭   威胁</a:t>
            </a:r>
            <a:br>
              <a:rPr sz="6000"/>
            </a:b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和蔼可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你认会下面的词了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黑体"/>
              </a:rPr>
              <a:t>遨游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漫游；游历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br>
              <a:rPr sz="6000"/>
            </a:b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黑体"/>
              </a:rPr>
              <a:t>璀璨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本指珠玉等光彩夺目。这里指各种星球光亮耀眼。</a:t>
            </a:r>
            <a:br>
              <a:rPr sz="6000"/>
            </a:b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黑体"/>
              </a:rPr>
              <a:t>宇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包括地球及其他一切天体的无限空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>
            <a:hlinkClick r:id="" action="ppaction://hlinkshowjump?jump=nex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恩赐</a:t>
            </a:r>
            <a:r>
              <a:rPr b="0" lang="en-US" sz="5400" spc="-1" strike="noStrike">
                <a:solidFill>
                  <a:srgbClr val="6600cc"/>
                </a:solidFill>
                <a:latin typeface="Arial"/>
                <a:ea typeface="黑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原指帝王给予赏赐，现泛指因怜悯而施舍。</a:t>
            </a:r>
            <a:br>
              <a:rPr sz="5400"/>
            </a:b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慷慨</a:t>
            </a:r>
            <a:r>
              <a:rPr b="0" lang="en-US" sz="5400" spc="-1" strike="noStrike">
                <a:solidFill>
                  <a:srgbClr val="6600cc"/>
                </a:solidFill>
                <a:latin typeface="Arial"/>
                <a:ea typeface="黑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不吝惜。</a:t>
            </a:r>
            <a:br>
              <a:rPr sz="5400"/>
            </a:b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枯竭</a:t>
            </a:r>
            <a:r>
              <a:rPr b="0" lang="en-US" sz="5400" spc="-1" strike="noStrike">
                <a:solidFill>
                  <a:srgbClr val="6600cc"/>
                </a:solidFill>
                <a:latin typeface="Arial"/>
                <a:ea typeface="黑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用尽。</a:t>
            </a:r>
            <a:br>
              <a:rPr sz="5400"/>
            </a:b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目睹</a:t>
            </a:r>
            <a:r>
              <a:rPr b="0" lang="en-US" sz="5400" spc="-1" strike="noStrike">
                <a:solidFill>
                  <a:srgbClr val="6600cc"/>
                </a:solidFill>
                <a:latin typeface="Arial"/>
                <a:ea typeface="黑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亲眼看到。</a:t>
            </a:r>
            <a:br>
              <a:rPr sz="5400"/>
            </a:b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地质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地壳的成分和结构。</a:t>
            </a:r>
            <a:br>
              <a:rPr sz="5400"/>
            </a:b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黑体"/>
              </a:rPr>
              <a:t>滥用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过度使用，没有节制。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滥，不加选择，不加限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5382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课文围绕地球写了哪几个方面的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24000" y="1484280"/>
            <a:ext cx="8496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美丽壮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渺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球自然资源有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前不能移居到其他星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类应该精心保护地球，保护地球的生态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2895480"/>
            <a:ext cx="3733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</a:rPr>
              <a:t>只有一个地球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3581280" y="1447920"/>
            <a:ext cx="444600" cy="3962160"/>
          </a:xfrm>
          <a:custGeom>
            <a:avLst/>
            <a:gdLst>
              <a:gd name="textAreaLeft" fmla="*/ 284040 w 444600"/>
              <a:gd name="textAreaRight" fmla="*/ 444960 w 444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114800" y="1143000"/>
            <a:ext cx="3645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</a:rPr>
              <a:t>美丽而渺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962520" y="2438280"/>
            <a:ext cx="391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</a:rPr>
              <a:t>资源很有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038480" y="3657600"/>
            <a:ext cx="408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</a:rPr>
              <a:t>不可能移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114800" y="4800600"/>
            <a:ext cx="320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00"/>
                </a:solidFill>
                <a:latin typeface="Times New Roman"/>
              </a:rPr>
              <a:t>要精心保护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9696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324000" y="476280"/>
            <a:ext cx="338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交流讨论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24040" y="1989000"/>
            <a:ext cx="6843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为什么说“只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个地球？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324000" y="549360"/>
            <a:ext cx="306216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：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1916280"/>
            <a:ext cx="9105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学习，我们初步了解了地球，知道了她的样子非常──（美丽壮观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同宇宙相比又是显得非常──（渺小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所蕴含的──（自然资源有限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她被破坏，人类根本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法移居）到别的星球。正是基于这些认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向人类发出了呼吁──（只有一个地球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5e3fd93b71b73bfb15cecbdd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900000" y="0"/>
            <a:ext cx="82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得遨游太空的宇航员发出感叹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这个地球太可爱了， 同时又太容易破碎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听到这些，你有什么疑问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76360" y="404640"/>
            <a:ext cx="7489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　　用自己喜欢的方式读课文，找出写地球可爱和容易破碎的句子读一读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c3383ee34b5a4eab3fb95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68360" y="48164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据有幸飞上太空的宇航员介绍，他们在天际遨游时遥望地球，映入眼帘的是一个晶莹的球体，上面蓝色和白色的纹痕相互交错，周围裹着一层薄薄的水蓝色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纱衣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3505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地球，这位人类的母亲，这个生命的摇篮，是那样的美丽壮观，和蔼可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444e1dff37755025024f5644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900000" y="450864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是一个半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千三百多千米的星球。在群星璀璨的宇宙中，就像一叶扁舟。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大，不会再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1"/>
          <p:cNvSpPr/>
          <p:nvPr/>
        </p:nvSpPr>
        <p:spPr>
          <a:xfrm>
            <a:off x="611280" y="765000"/>
            <a:ext cx="80643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本组课文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有一个地球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 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鹿和狼的故事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 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片土地是神圣的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 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青山不老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列举了生活中常见的浪费资源的现象，引导学生结合生活实际进一步认识珍惜资源、保护环境的重要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15048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同（   ）宇宙相比，地球是（   ）的，就像一叶（  ）；地球表面积是（   ）平方公里，人类生活的陆地只占其中的（    ），所以说人类活动的范围（    ）。</a:t>
            </a: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14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同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茫茫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宇宙相比，地球是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渺小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的，就像一叶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扁舟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；地球表面积是（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.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亿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平方公里，人类生活的陆地只占其中的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分之一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，所以说人类活动的范围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很小很小</a:t>
            </a:r>
            <a:r>
              <a:rPr b="1" lang="zh-CN" sz="3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5e3fd93b71b73bfb15cecbdd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01480" y="40464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　　课文的哪些部分写出了地球母亲容易破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5e3fd93b71b73bfb15cecbdd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01480" y="40464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地球是无私的，它向人类慷慨地提供矿产资源。但是，如果不加节制地开采，必将加速地球上矿产资源的枯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708360" y="2276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你知道人类有哪些不加节制的开采行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5e3fd93b71b73bfb15cecbdd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01480" y="40464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类生活所需要的水资源、森林资源、生物资源、大气资源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本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可以不断再生，长期给人类作贡献的。但是，因为人们随意毁坏自然资源，不顾后果地滥用化学品，不但使它们不能再生，还造成了一系列生态灾难，给人类生存带来了严重的威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4000" y="476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什么是生态灾难？你知道的生态灾难有哪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24000" y="1413000"/>
            <a:ext cx="864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生态平衡是动态的平衡。一旦受到自然和人为因素的干扰，超过了生态系统自我调节能力而不能恢复到原来比较稳定的状态时，生态系统的结构和功能遭到破坏，物质和能量输出输入不能平衡，造成系统成分缺损（如生物多样性减少等），结构变化（如动物种群的突增或突减、食物链的改变等），能量流动受阻，物质循环中断，一般称为生态失调，严重的就是生态灾难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3602160"/>
            <a:ext cx="8280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主要的生态灾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室效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臭氧层被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土地退化和沙漠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工业污染环境恶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生物多样性减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水资源枯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79280" y="333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全球生态环境状况的几个数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50920" y="119700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耕地面积严重退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江河水流量减少或被严重严重污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哺乳动物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鸟类濒临灭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所患疾病与环境恶化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土地面临沙漠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严重缺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口受到荒漠化威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333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我国生态环境状况的几个数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50920" y="1052640"/>
            <a:ext cx="8642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土流失日趋严重。我国沙土流失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平方千米，约占全国面积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全国平均每年新增沙土流失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荒漠化土地面积不断扩大。全国荒漠化土地面积已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平方千米，并且每年还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千米的速度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大面积的森林被砍伐，天然植被遭到破坏，大大其防风固沙、蓄水保土、涵养水源、净化空气、保护生物多样性等生态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草地退化、消化和碱化面积逐年增加。全国已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地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3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公顷，约占草地面积的三分之五，并且每年还在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公顷的速度增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生物多样性受到严重破坏。我国已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动植物种类受到威胁，高于世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均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954520" y="6200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大黑简体"/>
              </a:rPr>
              <a:t>这是我们以前家乡的小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a522019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881be01c15cec2a738da59d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811600" y="6093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现在家乡的小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90720" y="11430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只有一个地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636c12dc6d769e155982ddc1"/>
          <p:cNvPicPr/>
          <p:nvPr/>
        </p:nvPicPr>
        <p:blipFill>
          <a:blip r:embed="rId1"/>
          <a:srcRect l="0" t="0" r="0" b="10000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160520" y="47628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99"/>
                </a:solidFill>
                <a:latin typeface="Times New Roman"/>
              </a:rPr>
              <a:t>只有一个地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5dee00cba4da4f60f21fe733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64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882880" y="6021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以前的呼伦贝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009_4_14_8_37_0_564_1"/>
          <p:cNvPicPr/>
          <p:nvPr/>
        </p:nvPicPr>
        <p:blipFill>
          <a:blip r:embed="rId1"/>
          <a:srcRect l="0" t="0" r="-305" b="9543"/>
          <a:stretch/>
        </p:blipFill>
        <p:spPr>
          <a:xfrm>
            <a:off x="179280" y="189000"/>
            <a:ext cx="8812440" cy="5145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882880" y="6021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现在的呼伦贝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963880" y="6093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以前的森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p_3_575_071211172314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6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6-01-20112719857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32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2963880" y="6093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现在的森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963880" y="6093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以前的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1e9079ad2532432c4a36d603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e3e120655953fe73cfcfc3f06ebc32c"/>
          <p:cNvPicPr/>
          <p:nvPr/>
        </p:nvPicPr>
        <p:blipFill>
          <a:blip r:embed="rId1"/>
          <a:stretch/>
        </p:blipFill>
        <p:spPr>
          <a:xfrm>
            <a:off x="252360" y="257040"/>
            <a:ext cx="8640720" cy="5716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963880" y="6093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现在的海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882880" y="6093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以前的小桥流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80afe4547b0dbdecb745aeba"/>
          <p:cNvPicPr/>
          <p:nvPr/>
        </p:nvPicPr>
        <p:blipFill>
          <a:blip r:embed="rId1"/>
          <a:srcRect l="0" t="0" r="-220" b="6642"/>
          <a:stretch/>
        </p:blipFill>
        <p:spPr>
          <a:xfrm>
            <a:off x="324000" y="260280"/>
            <a:ext cx="8515080" cy="53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f48d613063c982b5aaf539c"/>
          <p:cNvPicPr/>
          <p:nvPr/>
        </p:nvPicPr>
        <p:blipFill>
          <a:blip r:embed="rId1"/>
          <a:srcRect l="0" t="0" r="-252" b="16186"/>
          <a:stretch/>
        </p:blipFill>
        <p:spPr>
          <a:xfrm>
            <a:off x="250920" y="260280"/>
            <a:ext cx="8664480" cy="4768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882880" y="6093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现在的小桥流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065400" y="6093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以前的南极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U2163P2DT20090203081543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2-3"/>
          <p:cNvPicPr/>
          <p:nvPr/>
        </p:nvPicPr>
        <p:blipFill>
          <a:blip r:embed="rId1"/>
          <a:srcRect l="0" t="7209" r="627" b="0"/>
          <a:stretch/>
        </p:blipFill>
        <p:spPr>
          <a:xfrm>
            <a:off x="250920" y="609480"/>
            <a:ext cx="8588160" cy="5411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065400" y="6093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是我们现在的南极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qd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59fa022e-49f6-4e54-a89b-af0af980ff7d_700x700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09112310526602"/>
          <p:cNvPicPr/>
          <p:nvPr/>
        </p:nvPicPr>
        <p:blipFill>
          <a:blip r:embed="rId1"/>
          <a:srcRect l="0" t="0" r="-1124" b="11718"/>
          <a:stretch/>
        </p:blipFill>
        <p:spPr>
          <a:xfrm>
            <a:off x="395280" y="189000"/>
            <a:ext cx="8520120" cy="4916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038642_1200x1000_0"/>
          <p:cNvPicPr/>
          <p:nvPr/>
        </p:nvPicPr>
        <p:blipFill>
          <a:blip r:embed="rId1"/>
          <a:srcRect l="0" t="0" r="5950" b="3629"/>
          <a:stretch/>
        </p:blipFill>
        <p:spPr>
          <a:xfrm>
            <a:off x="298440" y="189000"/>
            <a:ext cx="8083440" cy="5526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038635_1200x1000_0"/>
          <p:cNvPicPr/>
          <p:nvPr/>
        </p:nvPicPr>
        <p:blipFill>
          <a:blip r:embed="rId1"/>
          <a:srcRect l="0" t="0" r="7165" b="967"/>
          <a:stretch/>
        </p:blipFill>
        <p:spPr>
          <a:xfrm>
            <a:off x="250920" y="189000"/>
            <a:ext cx="7978680" cy="5678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038641_1200x1000_0"/>
          <p:cNvPicPr/>
          <p:nvPr/>
        </p:nvPicPr>
        <p:blipFill>
          <a:blip r:embed="rId1"/>
          <a:srcRect l="0" t="0" r="7165" b="967"/>
          <a:stretch/>
        </p:blipFill>
        <p:spPr>
          <a:xfrm>
            <a:off x="250920" y="189000"/>
            <a:ext cx="7978680" cy="5678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038643_1200x1000_0"/>
          <p:cNvPicPr/>
          <p:nvPr/>
        </p:nvPicPr>
        <p:blipFill>
          <a:blip r:embed="rId1"/>
          <a:srcRect l="0" t="0" r="6281" b="967"/>
          <a:stretch/>
        </p:blipFill>
        <p:spPr>
          <a:xfrm>
            <a:off x="250920" y="189000"/>
            <a:ext cx="8055000" cy="5678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038644_1200x1000_0"/>
          <p:cNvPicPr/>
          <p:nvPr/>
        </p:nvPicPr>
        <p:blipFill>
          <a:blip r:embed="rId1"/>
          <a:srcRect l="0" t="0" r="7165" b="967"/>
          <a:stretch/>
        </p:blipFill>
        <p:spPr>
          <a:xfrm>
            <a:off x="250920" y="189000"/>
            <a:ext cx="7978680" cy="5678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038646_1200x1000_0"/>
          <p:cNvPicPr/>
          <p:nvPr/>
        </p:nvPicPr>
        <p:blipFill>
          <a:blip r:embed="rId1"/>
          <a:srcRect l="0" t="0" r="6834" b="967"/>
          <a:stretch/>
        </p:blipFill>
        <p:spPr>
          <a:xfrm>
            <a:off x="298440" y="189000"/>
            <a:ext cx="8007480" cy="5678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038647_1200x1000_0"/>
          <p:cNvPicPr/>
          <p:nvPr/>
        </p:nvPicPr>
        <p:blipFill>
          <a:blip r:embed="rId1"/>
          <a:srcRect l="0" t="0" r="6834" b="163"/>
          <a:stretch/>
        </p:blipFill>
        <p:spPr>
          <a:xfrm>
            <a:off x="298440" y="142920"/>
            <a:ext cx="8007480" cy="5724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038654_1200x1000_0"/>
          <p:cNvPicPr/>
          <p:nvPr/>
        </p:nvPicPr>
        <p:blipFill>
          <a:blip r:embed="rId1"/>
          <a:srcRect l="0" t="0" r="6872" b="-352"/>
          <a:stretch/>
        </p:blipFill>
        <p:spPr>
          <a:xfrm>
            <a:off x="225360" y="189000"/>
            <a:ext cx="8004240" cy="575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_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u=4627193,1658718528&amp;gp=2"/>
          <p:cNvPicPr/>
          <p:nvPr/>
        </p:nvPicPr>
        <p:blipFill>
          <a:blip r:embed="rId2"/>
          <a:stretch/>
        </p:blipFill>
        <p:spPr>
          <a:xfrm>
            <a:off x="762120" y="533520"/>
            <a:ext cx="2438280" cy="215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u=402073498,2975568864&amp;gp=12"/>
          <p:cNvPicPr/>
          <p:nvPr/>
        </p:nvPicPr>
        <p:blipFill>
          <a:blip r:embed="rId3"/>
          <a:stretch/>
        </p:blipFill>
        <p:spPr>
          <a:xfrm>
            <a:off x="762120" y="3657600"/>
            <a:ext cx="24382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u=3759833705,187737805&amp;gp=4"/>
          <p:cNvPicPr/>
          <p:nvPr/>
        </p:nvPicPr>
        <p:blipFill>
          <a:blip r:embed="rId4"/>
          <a:stretch/>
        </p:blipFill>
        <p:spPr>
          <a:xfrm>
            <a:off x="5334120" y="53352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u=851417823,1901086270&amp;gp=34"/>
          <p:cNvPicPr/>
          <p:nvPr/>
        </p:nvPicPr>
        <p:blipFill>
          <a:blip r:embed="rId5"/>
          <a:srcRect l="0" t="0" r="0" b="14282"/>
          <a:stretch/>
        </p:blipFill>
        <p:spPr>
          <a:xfrm>
            <a:off x="5562720" y="3962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u=3694878538,2736314728&amp;gp=8"/>
          <p:cNvPicPr/>
          <p:nvPr/>
        </p:nvPicPr>
        <p:blipFill>
          <a:blip r:embed="rId6"/>
          <a:stretch/>
        </p:blipFill>
        <p:spPr>
          <a:xfrm>
            <a:off x="3657600" y="2819520"/>
            <a:ext cx="1650960" cy="90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u=1135667900,1287918659&amp;gp=36"/>
          <p:cNvPicPr/>
          <p:nvPr/>
        </p:nvPicPr>
        <p:blipFill>
          <a:blip r:embed="rId7"/>
          <a:stretch/>
        </p:blipFill>
        <p:spPr>
          <a:xfrm>
            <a:off x="2743200" y="190512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d21f5c59-8e35-4675-94aa-9bc557add16f_700x700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616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3274920" y="6040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  <a:ea typeface="方正粗宋简体"/>
              </a:rPr>
              <a:t>这就是后果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4c3383ee34b5a4eab3fb95eb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0" y="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大黑简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大黑简体"/>
              </a:rPr>
              <a:t>看到上面这一组图片，你想说些什么？请把你的想法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太阳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"/>
          <p:cNvSpPr/>
          <p:nvPr/>
        </p:nvSpPr>
        <p:spPr>
          <a:xfrm>
            <a:off x="179280" y="0"/>
            <a:ext cx="6477120" cy="2592360"/>
          </a:xfrm>
          <a:prstGeom prst="wedgeEllipseCallout">
            <a:avLst>
              <a:gd name="adj1" fmla="val -46643"/>
              <a:gd name="adj2" fmla="val 840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752480" y="11430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295280" y="380880"/>
            <a:ext cx="49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宇宙空间不是大得很吗，那里有数不清的星球，在地球资源枯竭的时候，我们不能移居到别的星球上去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68360" y="2565360"/>
            <a:ext cx="6586560" cy="3168720"/>
          </a:xfrm>
          <a:prstGeom prst="wedgeEllipseCallout">
            <a:avLst>
              <a:gd name="adj1" fmla="val 54962"/>
              <a:gd name="adj2" fmla="val 527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843280" y="29973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科学家已经证明，至少在以地球为中心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万亿公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范围内，没有适合人类居住的第二个星球。人类不能指望在破坏地球以后再移居到别的星球上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600200" y="5029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科学家已经证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至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以地球为中心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亿千米的范围内，没有适合人类居住的第二个星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“至少”一词是强调了目前的研究成果还只限于这个范围，“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亿千米”以外的情况还不能确定，这体现了说明的严谨性。同时，“至少”是“最少”的意思，又进一步说明了距离的遥远，从而简洁有力地证实：目前还找不到第二个适合人类居住的星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010280" y="1295280"/>
            <a:ext cx="1676520" cy="4872240"/>
            <a:chOff x="7010280" y="1295280"/>
            <a:chExt cx="1676520" cy="4872240"/>
          </a:xfrm>
        </p:grpSpPr>
        <p:pic>
          <p:nvPicPr>
            <p:cNvPr id="189" name="Picture 4" descr="032bf"/>
            <p:cNvPicPr/>
            <p:nvPr/>
          </p:nvPicPr>
          <p:blipFill>
            <a:blip r:embed="rId1"/>
            <a:stretch/>
          </p:blipFill>
          <p:spPr>
            <a:xfrm>
              <a:off x="7010280" y="1295280"/>
              <a:ext cx="16383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rocket5"/>
            <p:cNvPicPr/>
            <p:nvPr/>
          </p:nvPicPr>
          <p:blipFill>
            <a:blip r:embed="rId2"/>
            <a:stretch/>
          </p:blipFill>
          <p:spPr>
            <a:xfrm>
              <a:off x="7010280" y="3733920"/>
              <a:ext cx="1676520" cy="2433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太阳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914400" y="838080"/>
            <a:ext cx="5486400" cy="1828800"/>
          </a:xfrm>
          <a:prstGeom prst="wedgeEllipseCallout">
            <a:avLst>
              <a:gd name="adj1" fmla="val -57120"/>
              <a:gd name="adj2" fmla="val 496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447920" y="1295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火星或月球上建造移民基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048120" y="3505320"/>
            <a:ext cx="5486400" cy="1828800"/>
          </a:xfrm>
          <a:prstGeom prst="wedgeEllipseCallout">
            <a:avLst>
              <a:gd name="adj1" fmla="val 42361"/>
              <a:gd name="adj2" fmla="val 746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851280" y="37893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些设想即使能实现，又有多少人能够去居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u=3005090214,1167616663&amp;gp=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143000" y="7621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我们这个地球太可爱了，同时又太容易破碎了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908000" y="3213000"/>
            <a:ext cx="60199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仿宋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仿宋"/>
              </a:rPr>
              <a:t>破碎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仿宋"/>
              </a:rPr>
              <a:t>一词，一般用来形容玻璃、瓷器之类的易碎品，在这里可理解为因各种原因造成的对地球的伤害，生动形象地突出了保护地球生态环境的重要性，引起人们的警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827360" y="260280"/>
            <a:ext cx="58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宇航员为什么会发出这样的感叹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68360" y="1273320"/>
            <a:ext cx="820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地球可爱，是因为她无私地奉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源，为人类的生存提供保障；说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球容易破碎其实是指她很容易遭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破坏，比如资源枯竭、生态灾害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这句话表现了宇航员对地球的赞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情，同时更体现了宇航员对地球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担忧之情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5809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地球妈妈，我要衷心地赞美您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______________________________________________</a:t>
            </a: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406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gg031031_05"/>
          <p:cNvPicPr/>
          <p:nvPr/>
        </p:nvPicPr>
        <p:blipFill>
          <a:blip r:embed="rId1"/>
          <a:stretch/>
        </p:blipFill>
        <p:spPr>
          <a:xfrm>
            <a:off x="1295280" y="228600"/>
            <a:ext cx="6934320" cy="5391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2362320" y="57913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肆捕杀，血流成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歌剧魅影.MP3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砍树2"/>
          <p:cNvPicPr/>
          <p:nvPr/>
        </p:nvPicPr>
        <p:blipFill>
          <a:blip r:embed="rId1"/>
          <a:srcRect l="0" t="0" r="0" b="10624"/>
          <a:stretch/>
        </p:blipFill>
        <p:spPr>
          <a:xfrm>
            <a:off x="1143000" y="304920"/>
            <a:ext cx="6934320" cy="4647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295280" y="5592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乱砍滥伐令人触目惊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arth_001"/>
          <p:cNvPicPr/>
          <p:nvPr/>
        </p:nvPicPr>
        <p:blipFill>
          <a:blip r:embed="rId1"/>
          <a:stretch/>
        </p:blipFill>
        <p:spPr>
          <a:xfrm>
            <a:off x="838080" y="609480"/>
            <a:ext cx="6858000" cy="5372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1904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地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762120" y="2057400"/>
            <a:ext cx="6933960" cy="3886200"/>
            <a:chOff x="762120" y="2057400"/>
            <a:chExt cx="6933960" cy="3886200"/>
          </a:xfrm>
        </p:grpSpPr>
        <p:sp>
          <p:nvSpPr>
            <p:cNvPr id="58" name="AutoShape 6"/>
            <p:cNvSpPr/>
            <p:nvPr/>
          </p:nvSpPr>
          <p:spPr>
            <a:xfrm>
              <a:off x="914400" y="2057400"/>
              <a:ext cx="6781680" cy="388620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762120" y="2286000"/>
              <a:ext cx="693396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仿宋"/>
                </a:rPr>
                <a:t>地球是太阳系九大行星之一，按距离太阳远近的次序计为第三颗，形状像球而略扁，自转一周的时间是一昼夜，绕太阳一周的时间是一年。周围有大气层包围，表面是陆地和海洋，有人类和动植物等生存。它有一个卫星──月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砍树"/>
          <p:cNvPicPr/>
          <p:nvPr/>
        </p:nvPicPr>
        <p:blipFill>
          <a:blip r:embed="rId1"/>
          <a:stretch/>
        </p:blipFill>
        <p:spPr>
          <a:xfrm>
            <a:off x="2362320" y="190440"/>
            <a:ext cx="4706640" cy="4991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057400" y="5334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后一株树与悲哀的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乱挖"/>
          <p:cNvPicPr/>
          <p:nvPr/>
        </p:nvPicPr>
        <p:blipFill>
          <a:blip r:embed="rId1"/>
          <a:stretch/>
        </p:blipFill>
        <p:spPr>
          <a:xfrm>
            <a:off x="1447920" y="2286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371600" y="5257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凄惨的考古遗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污染2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56930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121932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浓烟滚滚，遮天蔽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shui12324"/>
          <p:cNvPicPr/>
          <p:nvPr/>
        </p:nvPicPr>
        <p:blipFill>
          <a:blip r:embed="rId1"/>
          <a:stretch/>
        </p:blipFill>
        <p:spPr>
          <a:xfrm>
            <a:off x="1600200" y="3049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1600200" y="5257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污染的河流与成千上万的“浮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干旱2"/>
          <p:cNvPicPr/>
          <p:nvPr/>
        </p:nvPicPr>
        <p:blipFill>
          <a:blip r:embed="rId1"/>
          <a:srcRect l="0" t="0" r="0" b="18443"/>
          <a:stretch/>
        </p:blipFill>
        <p:spPr>
          <a:xfrm>
            <a:off x="990720" y="190440"/>
            <a:ext cx="7162560" cy="4381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990720" y="5668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干旱正威胁着地球的沙漠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洪水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370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洪水2"/>
          <p:cNvPicPr/>
          <p:nvPr/>
        </p:nvPicPr>
        <p:blipFill>
          <a:blip r:embed="rId2"/>
          <a:stretch/>
        </p:blipFill>
        <p:spPr>
          <a:xfrm>
            <a:off x="4724280" y="609480"/>
            <a:ext cx="4114800" cy="30783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371600" y="4572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情的洪水正吞噬着生命和大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污染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240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1066680" y="55926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残酷的战争与悲哀的孩子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干旱"/>
          <p:cNvPicPr/>
          <p:nvPr/>
        </p:nvPicPr>
        <p:blipFill>
          <a:blip r:embed="rId1"/>
          <a:stretch/>
        </p:blipFill>
        <p:spPr>
          <a:xfrm>
            <a:off x="1066680" y="209520"/>
            <a:ext cx="7239240" cy="5429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1371600" y="5715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饥饿和疾病迫使一些家庭抛妻弃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5e3fd93b71b73bfb15cecbdd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43020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一个地球，如果它被破坏了，我们别无去处。如果地球上各种资源都枯竭了，我们很难从别的地方得到补充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要精心保护地球，保护地球的生态环境。让地球更好地造福于我们的子孙后代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04920" y="2819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此时此刻，我们应当对人类，对那些无情地破坏地球的人们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fires"/>
          <p:cNvPicPr/>
          <p:nvPr/>
        </p:nvPicPr>
        <p:blipFill>
          <a:blip r:embed="rId1"/>
          <a:stretch/>
        </p:blipFill>
        <p:spPr>
          <a:xfrm>
            <a:off x="380880" y="228600"/>
            <a:ext cx="3124440" cy="2152800"/>
          </a:xfrm>
          <a:prstGeom prst="rect">
            <a:avLst/>
          </a:prstGeom>
          <a:ln w="0">
            <a:noFill/>
          </a:ln>
        </p:spPr>
      </p:pic>
      <p:pic>
        <p:nvPicPr>
          <p:cNvPr id="229" name="歌剧魅影.MP3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260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24000" y="1258920"/>
            <a:ext cx="88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、自由读课文，给生字注音、组词；联系上下文，查字典解释不懂的词语，把意思写在书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、课文写了关于地球的哪几个方面的内容？遨游太空的宇航员为什么会发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大黑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我们这个地球太可爱了，同时又太容易破碎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大黑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的感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、把不理解的问题写下来，提出来大家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04920" y="281952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类啊人类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fires"/>
          <p:cNvPicPr/>
          <p:nvPr/>
        </p:nvPicPr>
        <p:blipFill>
          <a:blip r:embed="rId1"/>
          <a:stretch/>
        </p:blipFill>
        <p:spPr>
          <a:xfrm>
            <a:off x="380880" y="228600"/>
            <a:ext cx="31244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19"/>
          <p:cNvPicPr/>
          <p:nvPr/>
        </p:nvPicPr>
        <p:blipFill>
          <a:blip r:embed="rId1"/>
          <a:stretch/>
        </p:blipFill>
        <p:spPr>
          <a:xfrm>
            <a:off x="609480" y="304920"/>
            <a:ext cx="2210040" cy="2136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990720" y="2666880"/>
            <a:ext cx="761976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我们向地球妈妈宣誓，我们决心加入环保行列，珍爱地球、善待地球，从小做起，从我做起，争创“环保小卫士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          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2971800" y="762120"/>
            <a:ext cx="5029200" cy="1295280"/>
          </a:xfrm>
          <a:prstGeom prst="wedgeEllipseCallout">
            <a:avLst>
              <a:gd name="adj1" fmla="val -54638"/>
              <a:gd name="adj2" fmla="val 653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我们郑重地宣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8"/>
          <p:cNvSpPr txBox="1"/>
          <p:nvPr/>
        </p:nvSpPr>
        <p:spPr>
          <a:xfrm>
            <a:off x="1676520" y="68580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字词正音</a:t>
            </a:r>
            <a:endParaRPr b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4360" y="28195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晶   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508720" y="4724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威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胁  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目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50920" y="19810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īn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ɡ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258920" y="4005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3780000" y="39625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l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732640" y="40053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132000" y="20574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Gif0405_030"/>
          <p:cNvPicPr/>
          <p:nvPr/>
        </p:nvPicPr>
        <p:blipFill>
          <a:blip r:embed="rId1"/>
          <a:stretch/>
        </p:blipFill>
        <p:spPr>
          <a:xfrm>
            <a:off x="228600" y="38088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3"/>
          <p:cNvSpPr/>
          <p:nvPr/>
        </p:nvSpPr>
        <p:spPr>
          <a:xfrm>
            <a:off x="2565360" y="3962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960480" y="4724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恩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7"/>
          <p:cNvSpPr/>
          <p:nvPr/>
        </p:nvSpPr>
        <p:spPr>
          <a:xfrm>
            <a:off x="3035160" y="279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和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蔼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4200480" y="4724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滥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5484960" y="278136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资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源   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矿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5364000" y="20574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544840" y="4724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枯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7461360" y="4022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d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6864480" y="206064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u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8"/>
          <p:cNvSpPr txBox="1"/>
          <p:nvPr/>
        </p:nvSpPr>
        <p:spPr>
          <a:xfrm>
            <a:off x="1676520" y="68580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字词正音</a:t>
            </a:r>
            <a:endParaRPr b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84360" y="28195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晶   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508720" y="4724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威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胁  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目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Gif0405_030"/>
          <p:cNvPicPr/>
          <p:nvPr/>
        </p:nvPicPr>
        <p:blipFill>
          <a:blip r:embed="rId1"/>
          <a:stretch/>
        </p:blipFill>
        <p:spPr>
          <a:xfrm>
            <a:off x="228600" y="38088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5"/>
          <p:cNvSpPr/>
          <p:nvPr/>
        </p:nvSpPr>
        <p:spPr>
          <a:xfrm>
            <a:off x="960480" y="4724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恩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3035160" y="279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和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蔼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4200480" y="4724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滥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5484960" y="278136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资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源   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矿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2544840" y="4724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枯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6T18:02:02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