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EC0E-475D-46C8-8574-2125492A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95CE-4EEC-4D0D-9DCC-6268DEA9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17B5-6447-4228-B4BE-723AB720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CA03-A596-4571-85EF-53478E6B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D2B-8D07-461F-81A4-3D1EA7DE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00C1-F138-4E51-B282-D2CD729B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4DB2-E219-4DA5-B14B-3FA97286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5125-2F2E-439C-AB64-F5C85666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531E-8BBF-496B-BFBF-AADC36E5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E684-EBB6-483D-A380-832C3D49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D91E-7725-4FF8-9831-39C3F8C7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A412-39EF-4041-8A40-BD8A13EA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F3C0-149A-4E33-B662-DED533F79B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e9b39c1bd537454135fa4199"/>
          <p:cNvPicPr/>
          <p:nvPr/>
        </p:nvPicPr>
        <p:blipFill>
          <a:blip r:embed="rId1"/>
          <a:srcRect l="0" t="0" r="0" b="8789"/>
          <a:stretch/>
        </p:blipFill>
        <p:spPr>
          <a:xfrm>
            <a:off x="-468360" y="-243000"/>
            <a:ext cx="9752040" cy="66722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0" y="0"/>
            <a:ext cx="50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"/>
              </a:rPr>
              <a:t>月到中秋分外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79280" y="836640"/>
            <a:ext cx="331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皓月当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万里无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月朗星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-181080" y="3141720"/>
            <a:ext cx="8569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"/>
                <a:ea typeface="楷体"/>
              </a:rPr>
              <a:t>月亮的别称：玉蟾  玉兔 婵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9_S{%)D[C_`(X%K0LUQBY9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苏轼   苏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做官   品尝  欣赏  眼睁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心绪不宁   埋怨   宽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悲欢离合   阴晴圆缺  手足情深 形影不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20"/>
                            </p:stCondLst>
                            <p:childTnLst>
                              <p:par>
                                <p:cTn id="1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640"/>
                            </p:stCondLst>
                            <p:childTnLst>
                              <p:par>
                                <p:cTn id="1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60"/>
                            </p:stCondLst>
                            <p:childTnLst>
                              <p:par>
                                <p:cTn id="2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9_S{%)D[C_`(X%K0LUQBY9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苏轼   苏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做官   品尝  欣赏  眼睁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心绪不宁   埋怨   宽慰</a:t>
            </a: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悲欢离合   阴晴圆缺  手足情深 形影不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2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64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6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9_S{%)D[C_`(X%K0LUQBY9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4"/>
          <p:cNvGrpSpPr/>
          <p:nvPr/>
        </p:nvGrpSpPr>
        <p:grpSpPr>
          <a:xfrm>
            <a:off x="457200" y="1219320"/>
            <a:ext cx="3889440" cy="3975120"/>
            <a:chOff x="457200" y="1219320"/>
            <a:chExt cx="3889440" cy="3975120"/>
          </a:xfrm>
        </p:grpSpPr>
        <p:grpSp>
          <p:nvGrpSpPr>
            <p:cNvPr id="73" name="Group 5"/>
            <p:cNvGrpSpPr/>
            <p:nvPr/>
          </p:nvGrpSpPr>
          <p:grpSpPr>
            <a:xfrm>
              <a:off x="457200" y="1449360"/>
              <a:ext cx="3889440" cy="3745080"/>
              <a:chOff x="457200" y="1449360"/>
              <a:chExt cx="3889440" cy="3745080"/>
            </a:xfrm>
          </p:grpSpPr>
          <p:sp>
            <p:nvSpPr>
              <p:cNvPr id="74" name="Rectangle 6"/>
              <p:cNvSpPr/>
              <p:nvPr/>
            </p:nvSpPr>
            <p:spPr>
              <a:xfrm>
                <a:off x="457200" y="1449360"/>
                <a:ext cx="3889440" cy="3745080"/>
              </a:xfrm>
              <a:prstGeom prst="rect">
                <a:avLst/>
              </a:prstGeom>
              <a:solidFill>
                <a:srgbClr val="ffff99"/>
              </a:solidFill>
              <a:ln w="572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" name="Group 7"/>
              <p:cNvGrpSpPr/>
              <p:nvPr/>
            </p:nvGrpSpPr>
            <p:grpSpPr>
              <a:xfrm>
                <a:off x="457200" y="1449360"/>
                <a:ext cx="3887640" cy="3745080"/>
                <a:chOff x="457200" y="1449360"/>
                <a:chExt cx="3887640" cy="3745080"/>
              </a:xfrm>
            </p:grpSpPr>
            <p:sp>
              <p:nvSpPr>
                <p:cNvPr id="76" name="Line 8"/>
                <p:cNvSpPr/>
                <p:nvPr/>
              </p:nvSpPr>
              <p:spPr>
                <a:xfrm>
                  <a:off x="2400480" y="1449360"/>
                  <a:ext cx="0" cy="374508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9"/>
                <p:cNvSpPr/>
                <p:nvPr/>
              </p:nvSpPr>
              <p:spPr>
                <a:xfrm>
                  <a:off x="457200" y="3321000"/>
                  <a:ext cx="388764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" name="Text Box 10"/>
            <p:cNvSpPr/>
            <p:nvPr/>
          </p:nvSpPr>
          <p:spPr>
            <a:xfrm>
              <a:off x="744480" y="1219320"/>
              <a:ext cx="3371760" cy="39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0" spc="-1" strike="noStrike">
                  <a:solidFill>
                    <a:srgbClr val="000000"/>
                  </a:solidFill>
                  <a:latin typeface="Arial"/>
                  <a:ea typeface="楷体"/>
                </a:rPr>
                <a:t>缺</a:t>
              </a:r>
              <a:endParaRPr b="0" lang="en-US" sz="2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"/>
          <p:cNvGrpSpPr/>
          <p:nvPr/>
        </p:nvGrpSpPr>
        <p:grpSpPr>
          <a:xfrm>
            <a:off x="4716360" y="1197000"/>
            <a:ext cx="3889440" cy="3975120"/>
            <a:chOff x="4716360" y="1197000"/>
            <a:chExt cx="3889440" cy="3975120"/>
          </a:xfrm>
        </p:grpSpPr>
        <p:grpSp>
          <p:nvGrpSpPr>
            <p:cNvPr id="80" name="Group 5"/>
            <p:cNvGrpSpPr/>
            <p:nvPr/>
          </p:nvGrpSpPr>
          <p:grpSpPr>
            <a:xfrm>
              <a:off x="4716360" y="1427040"/>
              <a:ext cx="3889440" cy="3745080"/>
              <a:chOff x="4716360" y="1427040"/>
              <a:chExt cx="3889440" cy="3745080"/>
            </a:xfrm>
          </p:grpSpPr>
          <p:sp>
            <p:nvSpPr>
              <p:cNvPr id="81" name="Rectangle 6"/>
              <p:cNvSpPr/>
              <p:nvPr/>
            </p:nvSpPr>
            <p:spPr>
              <a:xfrm>
                <a:off x="4716360" y="1427040"/>
                <a:ext cx="3889440" cy="3745080"/>
              </a:xfrm>
              <a:prstGeom prst="rect">
                <a:avLst/>
              </a:prstGeom>
              <a:solidFill>
                <a:srgbClr val="ffff99"/>
              </a:solidFill>
              <a:ln w="572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7"/>
              <p:cNvGrpSpPr/>
              <p:nvPr/>
            </p:nvGrpSpPr>
            <p:grpSpPr>
              <a:xfrm>
                <a:off x="4716360" y="1427040"/>
                <a:ext cx="3887640" cy="3745080"/>
                <a:chOff x="4716360" y="1427040"/>
                <a:chExt cx="3887640" cy="3745080"/>
              </a:xfrm>
            </p:grpSpPr>
            <p:sp>
              <p:nvSpPr>
                <p:cNvPr id="83" name="Line 8"/>
                <p:cNvSpPr/>
                <p:nvPr/>
              </p:nvSpPr>
              <p:spPr>
                <a:xfrm>
                  <a:off x="6659640" y="1427040"/>
                  <a:ext cx="0" cy="374508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9"/>
                <p:cNvSpPr/>
                <p:nvPr/>
              </p:nvSpPr>
              <p:spPr>
                <a:xfrm>
                  <a:off x="4716360" y="3298680"/>
                  <a:ext cx="388764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" name="Text Box 10"/>
            <p:cNvSpPr/>
            <p:nvPr/>
          </p:nvSpPr>
          <p:spPr>
            <a:xfrm>
              <a:off x="5003640" y="1197000"/>
              <a:ext cx="3371760" cy="39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0" spc="-1" strike="noStrike">
                  <a:solidFill>
                    <a:srgbClr val="000000"/>
                  </a:solidFill>
                  <a:latin typeface="Arial"/>
                  <a:ea typeface="楷体"/>
                </a:rPr>
                <a:t>绪</a:t>
              </a:r>
              <a:endParaRPr b="0" lang="en-US" sz="2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9_S{%)D[C_`(X%K0LUQBY9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4"/>
          <p:cNvGrpSpPr/>
          <p:nvPr/>
        </p:nvGrpSpPr>
        <p:grpSpPr>
          <a:xfrm>
            <a:off x="457200" y="1219320"/>
            <a:ext cx="3889440" cy="3975120"/>
            <a:chOff x="457200" y="1219320"/>
            <a:chExt cx="3889440" cy="3975120"/>
          </a:xfrm>
        </p:grpSpPr>
        <p:grpSp>
          <p:nvGrpSpPr>
            <p:cNvPr id="88" name="Group 5"/>
            <p:cNvGrpSpPr/>
            <p:nvPr/>
          </p:nvGrpSpPr>
          <p:grpSpPr>
            <a:xfrm>
              <a:off x="457200" y="1449360"/>
              <a:ext cx="3889440" cy="3745080"/>
              <a:chOff x="457200" y="1449360"/>
              <a:chExt cx="3889440" cy="3745080"/>
            </a:xfrm>
          </p:grpSpPr>
          <p:sp>
            <p:nvSpPr>
              <p:cNvPr id="89" name="Rectangle 6"/>
              <p:cNvSpPr/>
              <p:nvPr/>
            </p:nvSpPr>
            <p:spPr>
              <a:xfrm>
                <a:off x="457200" y="1449360"/>
                <a:ext cx="3889440" cy="3745080"/>
              </a:xfrm>
              <a:prstGeom prst="rect">
                <a:avLst/>
              </a:prstGeom>
              <a:solidFill>
                <a:srgbClr val="ffff99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" name="Group 7"/>
              <p:cNvGrpSpPr/>
              <p:nvPr/>
            </p:nvGrpSpPr>
            <p:grpSpPr>
              <a:xfrm>
                <a:off x="457200" y="1449360"/>
                <a:ext cx="3887640" cy="3745080"/>
                <a:chOff x="457200" y="1449360"/>
                <a:chExt cx="3887640" cy="3745080"/>
              </a:xfrm>
            </p:grpSpPr>
            <p:sp>
              <p:nvSpPr>
                <p:cNvPr id="91" name="Line 8"/>
                <p:cNvSpPr/>
                <p:nvPr/>
              </p:nvSpPr>
              <p:spPr>
                <a:xfrm>
                  <a:off x="2400480" y="1449360"/>
                  <a:ext cx="0" cy="374508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9"/>
                <p:cNvSpPr/>
                <p:nvPr/>
              </p:nvSpPr>
              <p:spPr>
                <a:xfrm>
                  <a:off x="457200" y="3321000"/>
                  <a:ext cx="388764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" name="Text Box 10"/>
            <p:cNvSpPr/>
            <p:nvPr/>
          </p:nvSpPr>
          <p:spPr>
            <a:xfrm>
              <a:off x="744480" y="1219320"/>
              <a:ext cx="3371760" cy="39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0" spc="-1" strike="noStrike">
                  <a:solidFill>
                    <a:srgbClr val="000000"/>
                  </a:solidFill>
                  <a:latin typeface="Arial"/>
                  <a:ea typeface="楷体"/>
                </a:rPr>
                <a:t>尝</a:t>
              </a:r>
              <a:endParaRPr b="0" lang="en-US" sz="2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4"/>
          <p:cNvGrpSpPr/>
          <p:nvPr/>
        </p:nvGrpSpPr>
        <p:grpSpPr>
          <a:xfrm>
            <a:off x="4716360" y="1197000"/>
            <a:ext cx="3889440" cy="3975120"/>
            <a:chOff x="4716360" y="1197000"/>
            <a:chExt cx="3889440" cy="3975120"/>
          </a:xfrm>
        </p:grpSpPr>
        <p:grpSp>
          <p:nvGrpSpPr>
            <p:cNvPr id="95" name="Group 5"/>
            <p:cNvGrpSpPr/>
            <p:nvPr/>
          </p:nvGrpSpPr>
          <p:grpSpPr>
            <a:xfrm>
              <a:off x="4716360" y="1427040"/>
              <a:ext cx="3889440" cy="3745080"/>
              <a:chOff x="4716360" y="1427040"/>
              <a:chExt cx="3889440" cy="374508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4716360" y="1427040"/>
                <a:ext cx="3889440" cy="3745080"/>
              </a:xfrm>
              <a:prstGeom prst="rect">
                <a:avLst/>
              </a:prstGeom>
              <a:solidFill>
                <a:srgbClr val="ffff99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Group 7"/>
              <p:cNvGrpSpPr/>
              <p:nvPr/>
            </p:nvGrpSpPr>
            <p:grpSpPr>
              <a:xfrm>
                <a:off x="4716360" y="1427040"/>
                <a:ext cx="3887640" cy="3745080"/>
                <a:chOff x="4716360" y="1427040"/>
                <a:chExt cx="3887640" cy="3745080"/>
              </a:xfrm>
            </p:grpSpPr>
            <p:sp>
              <p:nvSpPr>
                <p:cNvPr id="98" name="Line 8"/>
                <p:cNvSpPr/>
                <p:nvPr/>
              </p:nvSpPr>
              <p:spPr>
                <a:xfrm>
                  <a:off x="6659640" y="1427040"/>
                  <a:ext cx="0" cy="374508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9"/>
                <p:cNvSpPr/>
                <p:nvPr/>
              </p:nvSpPr>
              <p:spPr>
                <a:xfrm>
                  <a:off x="4716360" y="3298680"/>
                  <a:ext cx="388764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" name="Text Box 10"/>
            <p:cNvSpPr/>
            <p:nvPr/>
          </p:nvSpPr>
          <p:spPr>
            <a:xfrm>
              <a:off x="5003640" y="1197000"/>
              <a:ext cx="3371760" cy="39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0" spc="-1" strike="noStrike">
                  <a:solidFill>
                    <a:srgbClr val="000000"/>
                  </a:solidFill>
                  <a:latin typeface="Arial"/>
                  <a:ea typeface="楷体"/>
                </a:rPr>
                <a:t>赏</a:t>
              </a:r>
              <a:endParaRPr b="0" lang="en-US" sz="2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9_S{%)D[C_`(X%K0LUQBY9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3"/>
          <p:cNvSpPr txBox="1"/>
          <p:nvPr/>
        </p:nvSpPr>
        <p:spPr>
          <a:xfrm>
            <a:off x="2268360" y="2994120"/>
            <a:ext cx="5256360" cy="18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</a:rPr>
              <a:t>谢谢指导！</a:t>
            </a:r>
            <a:endParaRPr b="0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e9b39c1bd537454135fa4199"/>
          <p:cNvPicPr/>
          <p:nvPr/>
        </p:nvPicPr>
        <p:blipFill>
          <a:blip r:embed="rId1"/>
          <a:srcRect l="0" t="0" r="0" b="9764"/>
          <a:stretch/>
        </p:blipFill>
        <p:spPr>
          <a:xfrm>
            <a:off x="-324000" y="-314280"/>
            <a:ext cx="9752040" cy="6600960"/>
          </a:xfrm>
          <a:prstGeom prst="rect">
            <a:avLst/>
          </a:prstGeom>
          <a:ln w="0">
            <a:noFill/>
          </a:ln>
        </p:spPr>
      </p:pic>
      <p:sp>
        <p:nvSpPr>
          <p:cNvPr id="50" name="WordArt 5"/>
          <p:cNvSpPr txBox="1"/>
          <p:nvPr/>
        </p:nvSpPr>
        <p:spPr>
          <a:xfrm>
            <a:off x="1477800" y="2906640"/>
            <a:ext cx="6336000" cy="22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</a:rPr>
              <a:t>但愿人长久</a:t>
            </a:r>
            <a:endParaRPr b="0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shusi2"/>
          <p:cNvPicPr/>
          <p:nvPr/>
        </p:nvPicPr>
        <p:blipFill>
          <a:blip r:embed="rId1"/>
          <a:stretch/>
        </p:blipFill>
        <p:spPr>
          <a:xfrm>
            <a:off x="154080" y="76320"/>
            <a:ext cx="4128840" cy="66294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52" name="Text Box 3"/>
          <p:cNvSpPr/>
          <p:nvPr/>
        </p:nvSpPr>
        <p:spPr>
          <a:xfrm>
            <a:off x="4500720" y="0"/>
            <a:ext cx="46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645080" y="30492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99"/>
                </a:solidFill>
                <a:latin typeface="楷体"/>
                <a:ea typeface="楷体"/>
              </a:rPr>
              <a:t>苏轼又叫苏东坡，是宋代著名的文学家、书画家，他和弟弟苏辙、父亲苏洵都非常有才华，被人们称为“三苏”。是“唐宋八大家”之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e9b39c1bd537454135fa4199"/>
          <p:cNvPicPr/>
          <p:nvPr/>
        </p:nvPicPr>
        <p:blipFill>
          <a:blip r:embed="rId1"/>
          <a:srcRect l="0" t="0" r="0" b="9375"/>
          <a:stretch/>
        </p:blipFill>
        <p:spPr>
          <a:xfrm>
            <a:off x="0" y="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-612720" y="909720"/>
            <a:ext cx="547200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·····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人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悲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欢离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　　　　月有阴晴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　　　　此事古难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　　　　但愿人长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　　　　千里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婵娟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9_S{%)D[C_`(X%K0LUQBY9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自读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自由读课文，读准字音，读通句子，遇到难读的地方多读几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9_S{%)D[C_`(X%K0LUQBY9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苏轼   苏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做官   品尝  欣赏  眼睁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心绪不宁   埋怨   宽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悲欢离合   阴晴圆缺  手足情深 形影不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2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64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6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9_S{%)D[C_`(X%K0LUQBY9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苏轼  苏辙（</a:t>
            </a:r>
            <a:r>
              <a:rPr b="1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zhé</a:t>
            </a:r>
            <a:r>
              <a:rPr b="1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做官 品尝  欣赏  眼睁睁（</a:t>
            </a:r>
            <a:r>
              <a:rPr b="1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zhēng</a:t>
            </a:r>
            <a:r>
              <a:rPr b="1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心绪不宁 埋（</a:t>
            </a:r>
            <a:r>
              <a:rPr b="1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mán</a:t>
            </a:r>
            <a:r>
              <a:rPr b="1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）怨  宽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悲欢离合   阴晴圆缺  手足情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形影不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8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36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4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80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8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9_S{%)D[C_`(X%K0LUQBY9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569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楷体"/>
                <a:ea typeface="楷体"/>
              </a:rPr>
              <a:t>埋怨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楷体"/>
                <a:ea typeface="楷体"/>
              </a:rPr>
              <a:t>埋伏　埋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95280" y="2421000"/>
            <a:ext cx="820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bbe0e3"/>
              </a:buClr>
              <a:buFont typeface="Web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八路军战士（      ）在山沟里，等着打败敌人，好挖出（     ）的枪支弹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bbe0e3"/>
              </a:buClr>
              <a:buFont typeface="Web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bbe0e3"/>
              </a:buClr>
              <a:buFont typeface="Web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爸爸一到家就玩电脑游戏，妈妈看见忍不住（       ）起他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2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"/>
                            </p:stCondLst>
                            <p:childTnLst>
                              <p:par>
                                <p:cTn id="1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100"/>
                            </p:stCondLst>
                            <p:childTnLst>
                              <p:par>
                                <p:cTn id="1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9_S{%)D[C_`(X%K0LUQBY9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4920" y="220500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bbe0e3"/>
              </a:buClr>
              <a:buFont typeface="Web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八路军战士（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埋伏</a:t>
            </a: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）在山沟里，等着打败敌人，好挖出（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埋藏</a:t>
            </a: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）的枪支弹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bbe0e3"/>
              </a:buClr>
              <a:buFont typeface="Web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爸爸一到家就玩电脑游戏，妈妈看见忍不住（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埋怨</a:t>
            </a: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）起他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400"/>
                            </p:stCondLst>
                            <p:childTnLst>
                              <p:par>
                                <p:cTn id="1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3-08T13:50:10Z</dcterms:created>
  <dc:creator>USER</dc:creator>
  <dc:description/>
  <cp:keywords/>
  <dc:language>en-US</dc:language>
  <cp:lastModifiedBy>dreamsummit</cp:lastModifiedBy>
  <dcterms:modified xsi:type="dcterms:W3CDTF">2015-09-10T09:20:08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