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wmf" ContentType="image/x-wmf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33D-028C-4E88-8B79-1C726F17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A8A-3591-4F83-9B88-8A9D0200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837-92D2-4022-9138-2826EF81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325-B27C-48F2-89DD-8B3BEE88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A10-DC49-4674-8E6A-11E4B7A3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C4A-4673-4DE5-AFB6-1BA7A18C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B17-5D07-4138-830C-D746F331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FCB-34F6-4982-9236-A24F7E30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2D8-D737-4D74-B7A6-C4E52833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CD4-D003-4229-8A28-1E5612C9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BBD-29CC-4400-9086-FF01CF82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EA1-D81C-46B0-A42E-8D5F8A12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48E4-FC14-4102-AE88-500456B08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940360"/>
            <a:ext cx="1908000" cy="91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47640" y="1052640"/>
            <a:ext cx="6248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3300"/>
                </a:solidFill>
                <a:latin typeface="Times New Roman"/>
                <a:ea typeface="隶书"/>
              </a:rPr>
              <a:t>草   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357336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Times New Roman"/>
              </a:rPr>
              <a:t>老舍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1640" y="162864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里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别处的更可爱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气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鲜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空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我总想高歌一曲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我满心的愉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37162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从两个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那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可以看出作者对草原有什么样的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27280" y="515772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草原的天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00360" y="4762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天涯碧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0846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在天底下</a:t>
            </a:r>
            <a:r>
              <a:rPr b="1" lang="en-US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一</a:t>
            </a:r>
            <a:r>
              <a:rPr b="1" lang="zh-CN" sz="8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碧</a:t>
            </a: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千里而并</a:t>
            </a:r>
            <a:r>
              <a:rPr b="1" lang="zh-CN" sz="54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不茫茫</a:t>
            </a: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2492280"/>
            <a:ext cx="77752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草原很辽阔但却美的并不空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91628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四面都有小丘，平地是绿的，小丘也是绿的。那些小丘的线条是那么柔美，就像只用绿色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渲染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，不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墨线勾勒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的中国画那样，到处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翠色欲流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，轻轻流入云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3932280" cy="482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319640" cy="479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28600" y="4941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墨线勾勒的中国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23960" y="4869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墨渲染的中国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551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试想想，这是一幅怎样的画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91628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四面都有小丘，平地是绿的，小丘也是绿的。那些小丘的线条是那么柔美，就像只用绿色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渲染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，不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墨线勾勒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的中国画那样，到处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翠色欲流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，轻轻流入云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16000" y="2565360"/>
            <a:ext cx="749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羊群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会儿上了小丘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会儿又下来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走到哪里都像给无边的绿毯绣上了白色的大花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155736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欣赏品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484360" y="422100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草原像绿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508464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羊群像白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33336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骏马和大牛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有时候静立不动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像回味着草原的无限乐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419640" y="29973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空气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386064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颜色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4653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线条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06064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景 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340000" y="836640"/>
            <a:ext cx="33829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27703" dir="339742" blurRad="0" rotWithShape="0">
                    <a:srgbClr val="990099">
                      <a:alpha val="50000"/>
                    </a:srgbClr>
                  </a:outerShdw>
                </a:effectLst>
                <a:latin typeface="黑体"/>
              </a:rPr>
              <a:t>草原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27703" dir="339742" blurRad="0" rotWithShape="0">
                  <a:srgbClr val="990099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854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21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08720" y="227664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ff"/>
                </a:solidFill>
                <a:latin typeface="Arial"/>
                <a:ea typeface="楷体_GB2312"/>
              </a:rPr>
              <a:t>老舍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981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走了许久，远远地望见了一条迂回的明如玻璃的带子——河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8428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忽然，像被一阵风吹来的，远处的小丘上出现了一群马，马上的男女老少穿着各色的衣裳，群马疾驰，襟飘带舞，像一条彩虹向我们飞过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4581360"/>
            <a:ext cx="655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蒙古族朋友从很远的地方前来迎接我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03280" y="1844640"/>
            <a:ext cx="9221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还可以从哪些语句中体会到主客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面时那真挚的感情。用“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　　　 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”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标出、交流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155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04640"/>
            <a:ext cx="9144000" cy="947160"/>
          </a:xfrm>
          <a:prstGeom prst="rect">
            <a:avLst/>
          </a:prstGeom>
          <a:solidFill>
            <a:srgbClr val="ff33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认真读读课文，读完后，与小组的同学一起想想，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些词语加在哪个词的前面最合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4941720"/>
            <a:ext cx="72741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迎接       相见       款待       联欢       话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500280"/>
            <a:ext cx="727416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激情       盛情       尽情       深情       热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80" y="5950080"/>
            <a:ext cx="93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热情迎接  激情相见  盛情款待  尽情联欢  深情话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149720"/>
            <a:ext cx="1224000" cy="7063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221000"/>
            <a:ext cx="1224000" cy="7066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4149720"/>
            <a:ext cx="1224000" cy="7063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149720"/>
            <a:ext cx="1224000" cy="7063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476360" y="4076640"/>
            <a:ext cx="5975280" cy="720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89000"/>
            <a:ext cx="92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要用一个词概括草原人民的特点，你想用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765000"/>
            <a:ext cx="81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草原人民的热情好客从哪些方面可以看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1268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咱们试试看，在它们前面加上一些词，是不是会让人更深切地感受到草原人民那滚烫的心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79640" y="83664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热情迎接  激情相见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435640" y="62064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盛情款待  尽情联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573360"/>
            <a:ext cx="9144000" cy="286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蒙汉情深何忍别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涯碧草话斜阳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0"/>
            <a:ext cx="500364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蒙古族和汉族人民之间的情谊很深，怎么忍心马上就分别！在夕阳里，大家站在无边无际的大草原上，相互倾诉着惜别之情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91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8172360" y="2565360"/>
            <a:ext cx="1187640" cy="2276640"/>
            <a:chOff x="8172360" y="2565360"/>
            <a:chExt cx="1187640" cy="2276640"/>
          </a:xfrm>
        </p:grpSpPr>
        <p:sp>
          <p:nvSpPr>
            <p:cNvPr id="144" name=""/>
            <p:cNvSpPr/>
            <p:nvPr/>
          </p:nvSpPr>
          <p:spPr>
            <a:xfrm>
              <a:off x="8172360" y="2565360"/>
              <a:ext cx="11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72360" y="2695320"/>
              <a:ext cx="11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ff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ffccff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72360" y="2830320"/>
              <a:ext cx="118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ff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48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72360" y="2966760"/>
              <a:ext cx="11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ff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ffccff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72360" y="3102120"/>
              <a:ext cx="1187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ff"/>
                  </a:solidFill>
                  <a:latin typeface="楷体_GB2312"/>
                  <a:ea typeface="楷体_GB2312"/>
                </a:rPr>
                <a:t> 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547640" y="112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景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4076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人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349360"/>
            <a:ext cx="6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198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欢迎远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328464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亲切相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4581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热情款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580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联欢话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1341360"/>
            <a:ext cx="338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群马疾弛 襟飘带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欢呼声 车声 马蹄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响成一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2997360"/>
            <a:ext cx="32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华文新魏"/>
                <a:ea typeface="华文新魏"/>
              </a:rPr>
              <a:t>握手再握手 笑了再笑 你说你的 我说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4292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奶茶 奶豆腐 手抓羊肉 敬酒唱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5445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华文新魏"/>
                <a:ea typeface="华文新魏"/>
              </a:rPr>
              <a:t>套马 摔交 舞蹈 客人们 舞 唱 骑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76680" y="2205000"/>
            <a:ext cx="6069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蒙  汉  情  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341360"/>
            <a:ext cx="1017360" cy="3240000"/>
          </a:xfrm>
          <a:custGeom>
            <a:avLst/>
            <a:gdLst>
              <a:gd name="textAreaLeft" fmla="*/ 650160 w 1017360"/>
              <a:gd name="textAreaRight" fmla="*/ 1017720 w 1017360"/>
              <a:gd name="textAreaTop" fmla="*/ 174600 h 3240000"/>
              <a:gd name="textAreaBottom" fmla="*/ 30654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62"/>
                  <a:pt x="10800" y="3724"/>
                </a:cubicBezTo>
                <a:lnTo>
                  <a:pt x="10800" y="6997"/>
                </a:lnTo>
                <a:cubicBezTo>
                  <a:pt x="10800" y="8859"/>
                  <a:pt x="5400" y="10721"/>
                  <a:pt x="0" y="10721"/>
                </a:cubicBezTo>
                <a:cubicBezTo>
                  <a:pt x="5400" y="10721"/>
                  <a:pt x="10800" y="12583"/>
                  <a:pt x="10800" y="14445"/>
                </a:cubicBezTo>
                <a:lnTo>
                  <a:pt x="10800" y="17876"/>
                </a:lnTo>
                <a:cubicBezTo>
                  <a:pt x="10800" y="19738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29000" y="2131920"/>
            <a:ext cx="458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1844640"/>
            <a:ext cx="1019160" cy="4545000"/>
          </a:xfrm>
          <a:custGeom>
            <a:avLst/>
            <a:gdLst>
              <a:gd name="textAreaLeft" fmla="*/ 651240 w 1019160"/>
              <a:gd name="textAreaRight" fmla="*/ 1019520 w 1019160"/>
              <a:gd name="textAreaTop" fmla="*/ 82080 h 4545000"/>
              <a:gd name="textAreaBottom" fmla="*/ 4462920 h 454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4"/>
                  <a:pt x="10800" y="1247"/>
                </a:cubicBezTo>
                <a:lnTo>
                  <a:pt x="10800" y="9365"/>
                </a:lnTo>
                <a:cubicBezTo>
                  <a:pt x="10800" y="9989"/>
                  <a:pt x="5400" y="10612"/>
                  <a:pt x="0" y="10612"/>
                </a:cubicBezTo>
                <a:cubicBezTo>
                  <a:pt x="5400" y="10612"/>
                  <a:pt x="10800" y="11236"/>
                  <a:pt x="10800" y="11859"/>
                </a:cubicBezTo>
                <a:lnTo>
                  <a:pt x="10800" y="20353"/>
                </a:lnTo>
                <a:cubicBezTo>
                  <a:pt x="10800" y="20977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80360" y="1557360"/>
            <a:ext cx="630000" cy="4994280"/>
          </a:xfrm>
          <a:custGeom>
            <a:avLst/>
            <a:gdLst>
              <a:gd name="textAreaLeft" fmla="*/ 0 w 630000"/>
              <a:gd name="textAreaRight" fmla="*/ 442080 w 630000"/>
              <a:gd name="textAreaTop" fmla="*/ 289440 h 4994280"/>
              <a:gd name="textAreaBottom" fmla="*/ 4704840 h 499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253"/>
                  <a:pt x="21600" y="2506"/>
                </a:cubicBezTo>
                <a:lnTo>
                  <a:pt x="21600" y="19094"/>
                </a:lnTo>
                <a:cubicBezTo>
                  <a:pt x="21600" y="20347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209680" y="228600"/>
            <a:ext cx="4305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27703" dir="339742" blurRad="0" rotWithShape="0">
                    <a:srgbClr val="66ff99">
                      <a:alpha val="50000"/>
                    </a:srgbClr>
                  </a:outerShdw>
                </a:effectLst>
                <a:latin typeface="黑体"/>
              </a:rPr>
              <a:t>草原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27703" dir="339742" blurRad="0" rotWithShape="0">
                  <a:srgbClr val="66ff99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22096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空气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895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天空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581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颜色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4267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线条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15573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景 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2286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迎  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2971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相  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款  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343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联  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14842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情 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49417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蒙汉情深何忍别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5661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涯碧草话斜阳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5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900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70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82560" y="2781360"/>
            <a:ext cx="756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择喜欢的内容，读出草原的美丽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出草原人民的热情，读后小组交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71640" y="1268280"/>
            <a:ext cx="244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ff33cc"/>
                  </a:solidFill>
                </a:ln>
                <a:solidFill>
                  <a:srgbClr val="ff33cc"/>
                </a:soli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再读课文</a:t>
            </a:r>
            <a:endParaRPr b="0" lang="en-US" sz="2400" spc="-1" strike="noStrike">
              <a:ln w="0">
                <a:solidFill>
                  <a:srgbClr val="ff33cc"/>
                </a:solidFill>
              </a:ln>
              <a:solidFill>
                <a:srgbClr val="ff33cc"/>
              </a:soli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81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老舍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899—1966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中国现代著名小说家、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剧家。原名舒庆春，字舍予，北京人。 他在解放前创作的《骆驼祥子》《四世同堂》等作品揭露了旧社会的黑暗，同情劳动人民的遭遇。新中国成立以后，他以极大的热情先后写了话剧《龙须沟》《茶馆》《春华秋实》，小说《无名高地有了名》等，歌颂新社会，语言生动幽默，被誉为“人民艺术家”。《草原》摘选自他写的《内蒙风光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26028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38560" y="2557440"/>
            <a:ext cx="53290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006640"/>
            <a:ext cx="13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黑体"/>
              </a:rPr>
              <a:t>　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2006640"/>
            <a:ext cx="17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黑体"/>
              </a:rPr>
              <a:t>　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2006640"/>
            <a:ext cx="17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黑体"/>
              </a:rPr>
              <a:t>　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1989000"/>
            <a:ext cx="181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黑体"/>
              </a:rPr>
              <a:t>　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72360" y="198900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黑体"/>
              </a:rPr>
              <a:t>　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58136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黑体"/>
              </a:rPr>
              <a:t>　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4581360"/>
            <a:ext cx="18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黑体"/>
              </a:rPr>
              <a:t>　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4653000"/>
            <a:ext cx="15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黑体"/>
              </a:rPr>
              <a:t>　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653000"/>
            <a:ext cx="19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黑体"/>
              </a:rPr>
              <a:t>　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062240"/>
            <a:ext cx="11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黑体"/>
              </a:rPr>
              <a:t>　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68080" y="40021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iā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71000" y="40482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ē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1800" y="404820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à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7080" y="40482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60000" y="40482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49440" y="12398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26280" y="12398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i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25440" y="123984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i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8360" y="12398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ù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1239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76360" y="3789360"/>
            <a:ext cx="67928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宋体"/>
              </a:rPr>
              <a:t>渲染     翠色欲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宋体"/>
              </a:rPr>
              <a:t>勾勒     一碧千里</a:t>
            </a:r>
            <a:r>
              <a:rPr b="1" lang="en-US" sz="3200" spc="-1" strike="noStrike">
                <a:solidFill>
                  <a:srgbClr val="ffccff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2952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11640" y="2781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　勒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</a:rPr>
              <a:t>l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  <a:ea typeface="Times New Roman"/>
              </a:rPr>
              <a:t>è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（勾勒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40360" y="1484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骏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</a:rPr>
              <a:t>jùn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（骏马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413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限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</a:rPr>
              <a:t>xiàn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（无限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2133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　鞭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</a:rPr>
              <a:t>biān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（鞭子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2133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　驰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</a:rPr>
              <a:t>chí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（奔驰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285264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蹄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</a:rPr>
              <a:t>tí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（马蹄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3573360"/>
            <a:ext cx="39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茶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</a:rPr>
              <a:t>chá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（奶茶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3500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　貌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</a:rPr>
              <a:t>mào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（礼貌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4076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杯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</a:rPr>
              <a:t>bēi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（酒杯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40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　跤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</a:rPr>
              <a:t>jiāo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（摔跤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732720" y="620640"/>
            <a:ext cx="241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草原美景　　　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↓　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欢迎远客↓　　　亲切相见↓　　　热情款待↓　　　联欢话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3696" t="7255" r="15074" b="6659"/>
          <a:stretch/>
        </p:blipFill>
        <p:spPr>
          <a:xfrm>
            <a:off x="0" y="549360"/>
            <a:ext cx="6594480" cy="507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76360" y="620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文章结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5000"/>
            <a:ext cx="55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读课文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想想文章是按什么顺序来写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16000" y="2997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选择自己喜欢的方式读课文，要求读正确，读流利，读出初入草原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9280" y="1484280"/>
            <a:ext cx="230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ff33cc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初入草原</a:t>
            </a:r>
            <a:endParaRPr b="0" lang="en-US" sz="2400" spc="1" strike="noStrike">
              <a:ln w="12600">
                <a:solidFill>
                  <a:srgbClr val="ff33cc"/>
                </a:solidFill>
                <a:miter/>
              </a:ln>
              <a:solidFill>
                <a:srgbClr val="ff33cc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2349360"/>
            <a:ext cx="75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读课文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思考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第一自然段主要抓住草原上的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哪些景物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描写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08:58:30Z</dcterms:created>
  <dc:creator>Administrator</dc:creator>
  <dc:description/>
  <dc:language>en-US</dc:language>
  <cp:lastModifiedBy/>
  <dcterms:modified xsi:type="dcterms:W3CDTF">2015-08-11T01:13:34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