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BC1-2F0A-4E8A-B15C-A37BFF71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408-036F-464A-8DFE-BA1FE01F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637-4A65-4445-B4F7-AAC7B20E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AAF-ABF6-42E2-B6CC-1E9B730E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3BA-2369-4ECC-B45F-466BB4C6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751-2D12-4402-A08C-A4CF5FAE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69C-B313-43D0-A65E-E4E5B61A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028-D541-4BA8-8CC7-2C446CA7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E4B-CBF8-4603-9A58-4B79802E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ECD1-AC27-4A88-ADF5-AFDFB1B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030-D13D-4094-9680-A1BBEE6D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417-9CAB-49ED-B762-13571D8B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C154-EDC7-433B-9C2B-3FB365D7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3342600" y="685800"/>
            <a:ext cx="2191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99"/>
                </a:solidFill>
                <a:latin typeface="Arial"/>
                <a:ea typeface="隶书"/>
              </a:rPr>
              <a:t>第二单元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428440" y="304920"/>
            <a:ext cx="91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苏教版小学四年级语文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大图162"/>
          <p:cNvPicPr/>
          <p:nvPr/>
        </p:nvPicPr>
        <p:blipFill>
          <a:blip r:embed="rId2"/>
          <a:stretch/>
        </p:blipFill>
        <p:spPr>
          <a:xfrm>
            <a:off x="4038480" y="2133720"/>
            <a:ext cx="586764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438280" y="4572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给江主席献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52280" y="1125360"/>
            <a:ext cx="8991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、关于香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香港，即香港特别行政区，简称“港”。包括香港岛、九龙和新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、我国政府正式对香港恢复行使主权的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7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日零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天安门广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文结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比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无数盆鲜花组成一个个大花坛，把广场装点得犹如五彩缤纷的大花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对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99cc00"/>
                </a:solidFill>
                <a:latin typeface="黑体"/>
                <a:ea typeface="黑体"/>
              </a:rPr>
              <a:t>鲜花与彩灯辉映，礼花伴歌声齐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象征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天安门广场是新中国的象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天安门广场的几个建筑方位示意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8800" y="533520"/>
            <a:ext cx="144792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14600" y="4191120"/>
            <a:ext cx="3886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337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天安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246960" y="4495680"/>
            <a:ext cx="91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大会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132440" y="4572000"/>
            <a:ext cx="1277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中国国家博物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98108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毛主席纪念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22096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英雄纪念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36576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29528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 rot="5400000">
            <a:off x="2512800" y="4572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 rot="5400000">
            <a:off x="2544480" y="5911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6629400" y="457200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 rot="5400000">
            <a:off x="6857280" y="479988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69343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80010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6019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286000" y="4114800"/>
            <a:ext cx="114300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2057400" y="6491160"/>
            <a:ext cx="1905120" cy="366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609480" y="4648320"/>
            <a:ext cx="459000" cy="1600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4572000" y="4572000"/>
            <a:ext cx="719280" cy="1600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2057400" y="5029200"/>
            <a:ext cx="1676520" cy="719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u=2708664619,1593948214&amp;fm=23&amp;gp=0"/>
          <p:cNvPicPr/>
          <p:nvPr/>
        </p:nvPicPr>
        <p:blipFill>
          <a:blip r:embed="rId1"/>
          <a:stretch/>
        </p:blipFill>
        <p:spPr>
          <a:xfrm>
            <a:off x="3124080" y="2438280"/>
            <a:ext cx="2895840" cy="1981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dc8c9098c1905f1254fb96db"/>
          <p:cNvPicPr/>
          <p:nvPr/>
        </p:nvPicPr>
        <p:blipFill>
          <a:blip r:embed="rId2"/>
          <a:stretch/>
        </p:blipFill>
        <p:spPr>
          <a:xfrm>
            <a:off x="3124080" y="4724280"/>
            <a:ext cx="289584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7903791_165138274000_2"/>
          <p:cNvPicPr/>
          <p:nvPr/>
        </p:nvPicPr>
        <p:blipFill>
          <a:blip r:embed="rId3"/>
          <a:srcRect l="0" t="0" r="0" b="6737"/>
          <a:stretch/>
        </p:blipFill>
        <p:spPr>
          <a:xfrm>
            <a:off x="152280" y="2438280"/>
            <a:ext cx="2818080" cy="1847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u=1422973625,1620923610&amp;fm=23&amp;gp=0"/>
          <p:cNvPicPr/>
          <p:nvPr/>
        </p:nvPicPr>
        <p:blipFill>
          <a:blip r:embed="rId4"/>
          <a:srcRect l="0" t="0" r="0" b="3130"/>
          <a:stretch/>
        </p:blipFill>
        <p:spPr>
          <a:xfrm>
            <a:off x="6248520" y="2438280"/>
            <a:ext cx="2666880" cy="1919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200512269525389484830927242207235"/>
          <p:cNvPicPr/>
          <p:nvPr/>
        </p:nvPicPr>
        <p:blipFill>
          <a:blip r:embed="rId5"/>
          <a:stretch/>
        </p:blipFill>
        <p:spPr>
          <a:xfrm>
            <a:off x="3124080" y="228600"/>
            <a:ext cx="28958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4572000" y="380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天安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0" y="2438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人民大会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248520" y="2438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中国国家博物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342900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毛主席纪念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276720" y="24382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民英雄纪念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徐悲鸿励志学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课文的主要内容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徐悲鸿励志学画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讲述了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年轻画师徐悲鸿留学法国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时，为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回击外国学生的嘲笑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励志勤奋学画，以优异的成绩为中国人争光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故事。赞扬了他</a:t>
            </a:r>
            <a:r>
              <a:rPr b="1" lang="zh-CN" sz="2800" spc="-1" strike="noStrike" u="sng">
                <a:solidFill>
                  <a:srgbClr val="ff0066"/>
                </a:solidFill>
                <a:uFillTx/>
                <a:latin typeface="Arial"/>
              </a:rPr>
              <a:t>为祖国勤学苦练的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贵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功夫不负有心人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功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指时间、精力。做事只要舍得下功夫，最终会获得成功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有眼不识泰山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的意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泰山，在山东省泰安境内，我国五岳之一。长着眼睛辨不出泰山，比喻浅陋无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3091721144207674252"/>
          <p:cNvPicPr/>
          <p:nvPr/>
        </p:nvPicPr>
        <p:blipFill>
          <a:blip r:embed="rId2"/>
          <a:stretch/>
        </p:blipFill>
        <p:spPr>
          <a:xfrm>
            <a:off x="1295280" y="304920"/>
            <a:ext cx="1238400" cy="81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6597677796586286996"/>
          <p:cNvPicPr/>
          <p:nvPr/>
        </p:nvPicPr>
        <p:blipFill>
          <a:blip r:embed="rId3"/>
          <a:stretch/>
        </p:blipFill>
        <p:spPr>
          <a:xfrm>
            <a:off x="6934320" y="457200"/>
            <a:ext cx="12380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虎门销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时间、地点、人物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时间：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1839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日。地点：虎门寨。人物：林则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销烟的经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再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然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历史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虎门销烟这一伟大壮举，沉重地打击了外国侵略者的嚣张气焰。它向全世界表明，中国人民是不可欺侮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林则徐是怎样的一个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他在鸦片战争中，爱国御侮，是一位民族英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说几个我国民族英雄的名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林则徐、文天祥、郑成功、岳飞、戚继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未命名"/>
          <p:cNvPicPr/>
          <p:nvPr/>
        </p:nvPicPr>
        <p:blipFill>
          <a:blip r:embed="rId1"/>
          <a:stretch/>
        </p:blipFill>
        <p:spPr>
          <a:xfrm>
            <a:off x="6248520" y="152280"/>
            <a:ext cx="1952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本单元中，我认识了两位杰出的爱国人物：励志学画的著名画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徐悲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为中国人争了气；虎门销烟的民族英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林则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令世人震惊。我还知道精忠报国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岳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收复台湾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郑成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非常爱国。像这样的爱国英雄还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文天祥、董存瑞、钱学森、孙中山、毛泽东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400800" y="1676520"/>
            <a:ext cx="1523880" cy="533160"/>
          </a:xfrm>
          <a:prstGeom prst="rect">
            <a:avLst/>
          </a:prstGeom>
          <a:solidFill>
            <a:srgbClr val="ff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457200" y="2743200"/>
            <a:ext cx="1523880" cy="533520"/>
          </a:xfrm>
          <a:prstGeom prst="rect">
            <a:avLst/>
          </a:prstGeom>
          <a:solidFill>
            <a:srgbClr val="ff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029200" y="3276720"/>
            <a:ext cx="1371600" cy="533160"/>
          </a:xfrm>
          <a:prstGeom prst="rect">
            <a:avLst/>
          </a:prstGeom>
          <a:solidFill>
            <a:srgbClr val="ff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228600" y="4495680"/>
            <a:ext cx="8534520" cy="1143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371600" y="3352680"/>
            <a:ext cx="914400" cy="457200"/>
          </a:xfrm>
          <a:prstGeom prst="rect">
            <a:avLst/>
          </a:prstGeom>
          <a:solidFill>
            <a:srgbClr val="ff00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380880" y="304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黑体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、南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爱国英雄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文天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在他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过零丁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诗中有这样的豪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人生自古谁无死，留取丹心照汗青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句子中的“汗青”指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句中“汗青”指的是书籍或史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、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句话的意思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自古以来人活在世上，谁能不死？留得这颗赤诚的心光照史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朝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顾宪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给我们留下了这样的名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风声雨声读书声，声声入耳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家事国事天下事，事事关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句话告诉我们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告诉我们：在读好书的同时还要关心国家大事（或者说：读书人要关心国家事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与此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相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一句俗语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两耳不闻窗外事，一心只读圣贤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按课文内容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、天安门是新中国的（象征）。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49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年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月（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）日，北京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万人在（天安门广场）举行了（开国大典）。人民领袖（毛泽东）在天安门城楼上向全世界（ 庄严 ）宣告：（中华人民共和国中央人民政府成立了）！从此，天安门广场成了（全国各族人民）无比（向往）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清晨，东方（露出了淡淡）的曙光，（天安门城楼）在晨曦中（显现出它的雄姿）。（庄严）的升旗（仪式）就在这时开始，（五星红旗）与（旭日）一同升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每当节日到来，（天安门广场）更是（花团锦簇），（姹紫嫣红）。（无数盆鲜花）组成一个个（大花坛），把广场（装点）得（犹如）（五彩缤纷）的大花园。入夜，（华灯齐放），（礼花飞舞），天安门广场（一片辉煌）。来自（祖国各地）的人们（翩翩起舞），（纵情歌唱），（鲜花与彩灯辉映），（礼花伴歌舞齐飞），天安门广场（沸腾起来了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809880" y="8380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410080" y="8380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858000" y="8380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8077320" y="8380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3429000" y="1143000"/>
            <a:ext cx="152388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6400800" y="1143000"/>
            <a:ext cx="13716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1828800" y="1447920"/>
            <a:ext cx="106668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6781680" y="1447920"/>
            <a:ext cx="685800" cy="304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914400" y="1828800"/>
            <a:ext cx="487692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600200" y="2133720"/>
            <a:ext cx="1828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572000" y="213372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2895480" y="2514600"/>
            <a:ext cx="167652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6324480" y="2514600"/>
            <a:ext cx="1447920" cy="3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47920" y="2895480"/>
            <a:ext cx="20574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4648320" y="28954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781680" y="28954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1905120" y="3200400"/>
            <a:ext cx="129528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962520" y="320040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581280" y="3581280"/>
            <a:ext cx="144792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6324480" y="3581280"/>
            <a:ext cx="121932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609480" y="3886200"/>
            <a:ext cx="1295640" cy="363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514600" y="3886200"/>
            <a:ext cx="1523880" cy="363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095880" y="3886200"/>
            <a:ext cx="1067040" cy="363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990720" y="42670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2514600" y="4267080"/>
            <a:ext cx="6858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3733920" y="4267080"/>
            <a:ext cx="129528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7620120" y="4267080"/>
            <a:ext cx="1371600" cy="304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1828800" y="4572000"/>
            <a:ext cx="1371600" cy="3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5486400" y="4572000"/>
            <a:ext cx="1295280" cy="380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8077320" y="4648320"/>
            <a:ext cx="9144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2743200" y="4876920"/>
            <a:ext cx="1371600" cy="363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4952880" y="4876920"/>
            <a:ext cx="1371600" cy="363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6"/>
          <p:cNvSpPr/>
          <p:nvPr/>
        </p:nvSpPr>
        <p:spPr>
          <a:xfrm>
            <a:off x="6781680" y="4952880"/>
            <a:ext cx="213372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7"/>
          <p:cNvSpPr/>
          <p:nvPr/>
        </p:nvSpPr>
        <p:spPr>
          <a:xfrm>
            <a:off x="1905120" y="5257800"/>
            <a:ext cx="213336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8"/>
          <p:cNvSpPr/>
          <p:nvPr/>
        </p:nvSpPr>
        <p:spPr>
          <a:xfrm>
            <a:off x="6400800" y="5257800"/>
            <a:ext cx="1600200" cy="28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5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743200" y="533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80880" y="1676520"/>
            <a:ext cx="845820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每个人都有自己的长处，自己的本领。请你选择自己最得意的一个方面写下来。题目就叫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真棒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字数不少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词    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启发  启示  地毯  秩序  队伍  频率  耻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步伐  洗刷  爱抚  砖瓦  栋梁  中央  恩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庄严  严肃  宣告  宣传  政府  仪式  描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绘画  承认  认真  疲倦  陈列  出租  茶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购买  错误  礼貌  嫉妒  激怒  励志  临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优异  震惊  销毁  销售  历史  价值  村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盐巴  销烟  响彻  彻底  侮辱  欺侮  咆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收缴  嚣张  应邀  宣告  挺拔  雄伟  装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成    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秩序井然  满面春风  兴高采烈  激动万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热泪盈眶  欣喜若狂  情不自禁  金光闪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永垂不朽  花团锦簇  姹紫嫣红  五彩缤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翩翩起舞  雕梁画栋  雄伟壮丽  格外挺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不知疲倦  勇往直前  水泄不通  震惊中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以身许国  碧血丹心  疾恶如仇  大义灭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敢怒敢言  忧国忧民  横眉冷对  浩气长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功夫不负有心人  有眼不识泰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95280" y="152388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表现爱国主义的词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以身许国  碧血丹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疾恶如仇  大义灭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敢怒敢言  忧国忧民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横眉冷对  浩气长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819520" y="2286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词语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形容人学习努力、勤奋刻苦的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夜以继日、闻鸡起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只争朝夕、废寝忘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悬梁刺股、凿壁偷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5120" y="457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词语积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描写建筑物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金碧辉煌  雄伟壮丽  雕梁画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高楼大厦  鳞次栉比 富丽堂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描写人高兴的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兴高采烈  欢呼雀跃  喜气洋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欣喜若狂  眉飞色舞  奔走相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描写花多的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花团锦簇  万紫千红  百花争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057400" y="45720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_1307758596xmtM"/>
          <p:cNvPicPr/>
          <p:nvPr/>
        </p:nvPicPr>
        <p:blipFill>
          <a:blip r:embed="rId1"/>
          <a:srcRect l="0" t="0" r="0" b="7288"/>
          <a:stretch/>
        </p:blipFill>
        <p:spPr>
          <a:xfrm>
            <a:off x="0" y="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743200" y="990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词 语 搭 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23623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频频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挥手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稳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步伐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温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胸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遥遥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相对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淡淡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曙光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热情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指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难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气味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害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鸦片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咆哮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伟大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壮举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宽阔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海滩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优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62120" y="24382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429000" y="24382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6172200" y="2362320"/>
            <a:ext cx="838080" cy="539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62120" y="31240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429000" y="31240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172200" y="31240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762120" y="3886200"/>
            <a:ext cx="838080" cy="539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429000" y="38098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6172200" y="3809880"/>
            <a:ext cx="838080" cy="540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762120" y="4572000"/>
            <a:ext cx="838080" cy="539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3429000" y="4572000"/>
            <a:ext cx="838080" cy="539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6172200" y="4572000"/>
            <a:ext cx="838080" cy="5396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近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等待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等候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耻辱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羞耻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永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永久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壮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壮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眺望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遥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庄严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庄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宣告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宣布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装点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装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纵情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尽情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看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器重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指导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指点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嫉妒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妒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争论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辩论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疲惫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疲乏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经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时常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清苦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贫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潜心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专心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纪念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怀念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壮丽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美丽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分外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格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顿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立刻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持续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连续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表明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证明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欺侮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欺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兴高采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兴致勃勃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情不自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由自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752480" y="144792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733920" y="1447920"/>
            <a:ext cx="990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715000" y="144792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96080" y="144792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752480" y="2057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733920" y="2057400"/>
            <a:ext cx="990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715000" y="2057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7696080" y="2057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752480" y="259092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733920" y="2666880"/>
            <a:ext cx="99036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5715000" y="2666880"/>
            <a:ext cx="9907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7696080" y="2666880"/>
            <a:ext cx="9907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752480" y="3200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733920" y="3200400"/>
            <a:ext cx="990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5715000" y="3200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7696080" y="3200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1752480" y="3809880"/>
            <a:ext cx="9907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733920" y="3809880"/>
            <a:ext cx="99036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5715000" y="3809880"/>
            <a:ext cx="9907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7696080" y="3809880"/>
            <a:ext cx="9907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752480" y="441972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733920" y="4419720"/>
            <a:ext cx="990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715000" y="434340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7696080" y="4419720"/>
            <a:ext cx="99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590920" y="4952880"/>
            <a:ext cx="175248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858000" y="4952880"/>
            <a:ext cx="167652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反义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降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上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失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团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高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耻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光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宽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狭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高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矮小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热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冷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真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虚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提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降低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错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激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伟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渺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泄不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通八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欣喜若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悲天跄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永垂不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遗臭万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兴高采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头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76520" y="1676520"/>
            <a:ext cx="9903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657600" y="1676520"/>
            <a:ext cx="990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638680" y="1676520"/>
            <a:ext cx="990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7620120" y="1676520"/>
            <a:ext cx="9903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676520" y="2286000"/>
            <a:ext cx="9903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657600" y="2286000"/>
            <a:ext cx="990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638680" y="2286000"/>
            <a:ext cx="990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7620120" y="2286000"/>
            <a:ext cx="9903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1676520" y="2819520"/>
            <a:ext cx="9903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657600" y="2819520"/>
            <a:ext cx="990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5638680" y="2819520"/>
            <a:ext cx="99072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620120" y="2819520"/>
            <a:ext cx="99036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819520" y="3962520"/>
            <a:ext cx="17524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6477120" y="4038480"/>
            <a:ext cx="17524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819520" y="4572000"/>
            <a:ext cx="17524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6477120" y="4648320"/>
            <a:ext cx="1752480" cy="457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03:58:39Z</dcterms:created>
  <dc:creator>huang</dc:creator>
  <dc:description/>
  <dc:language>en-US</dc:language>
  <cp:lastModifiedBy>dreamsummit</cp:lastModifiedBy>
  <dcterms:modified xsi:type="dcterms:W3CDTF">2016-02-29T06:49:48Z</dcterms:modified>
  <cp:revision>5</cp:revision>
  <dc:subject/>
  <dc:title>幻灯片 1</dc:title>
</cp:coreProperties>
</file>