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E9D-57F3-49E2-B847-8DA2597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6ED-A2E5-4DB2-99CD-95F7542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C9E-E1FC-4F26-A9CE-58F1C0E2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00B-C597-43D5-87CE-A44F648B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71D-0580-4D96-98A3-9A0F586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001-CDBF-4EC3-9E95-E338826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A23-8EFC-40AB-A43A-5A64E48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B3C-D288-4F5F-BD65-83D5D7D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F67-A2DB-4B1C-A774-EBA21A6F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267-3DEA-4F03-8213-6A1627E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91E-6DED-46AB-9BAE-0502ED8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526-8E84-4FC8-940D-8EDD0A6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D11-AC9A-458E-823A-D4F80460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190320" y="533520"/>
            <a:ext cx="2191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隶书"/>
              </a:rPr>
              <a:t>第三单元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276160" y="457200"/>
            <a:ext cx="91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苏教版小学四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桂花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桂花雨</a:t>
            </a: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文以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桂花雨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为题目，以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桂花香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为线索，写出了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童年时代的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摇花乐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表达了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对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家乡亲人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和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黑体"/>
                <a:ea typeface="黑体"/>
              </a:rPr>
              <a:t>美好生活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的眷恋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课文第四自然段写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摇桂花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后，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晒桂花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藏桂花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食桂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摇桂花给我摇来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回想当年摇桂花的情景，给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摇来了对童年的回忆；摇来了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对亲人的思念；摇来了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对故乡的怀念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母亲说的那句话的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母亲说金桂香，实际是表达对故乡的热爱与怀念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53080" y="1219320"/>
            <a:ext cx="9907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886200" y="1676520"/>
            <a:ext cx="106668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315200" y="1676520"/>
            <a:ext cx="144792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838080" y="2057400"/>
            <a:ext cx="13716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638680" y="2590920"/>
            <a:ext cx="106704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86600" y="2590920"/>
            <a:ext cx="106668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33520" y="3124080"/>
            <a:ext cx="1143000" cy="43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80880" y="4114800"/>
            <a:ext cx="8382240" cy="914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57200" y="5562720"/>
            <a:ext cx="7848720" cy="431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838080" y="1522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有关读书的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0664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关于读书，西汉文学家刘向说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书犹药也，善读之可以医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读书可以使人明理，开启智慧，从而克服愚昧无知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关于读书，苏联作家高尔基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我扑在书上，就像饥饿的人扑在面包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句话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精神食粮和物质食粮一样重要，不读书，人的精神也会“饥饿”，所以我们读书也要“如饥似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800600" y="1143000"/>
            <a:ext cx="373392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09480" y="2209680"/>
            <a:ext cx="685800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85800" y="3276720"/>
            <a:ext cx="5181480" cy="512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4343400"/>
            <a:ext cx="8763120" cy="947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bj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28600" y="304920"/>
            <a:ext cx="89154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按课文内容填空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说到济南，自然会想到济南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七十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泉。这些泉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白浪翻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好像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银花盛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有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晶莹剔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好像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珠散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有的声音洪大，听起来如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虎啸狮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有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声音低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听来如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秋雨潇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其中最著名的要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珍珠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五龙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黑虎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趵突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珍珠泉在泉城路北。泉池约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亩见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清澈见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泉水从地下 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往上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好像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串串珍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 在阳光的 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映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下， 那珠串 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忽聚忽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忽断忽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忽急忽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仿佛有一只神奇的手把它们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拎到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水面上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五龙潭在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旧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西门外，由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五处泉水汇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而成，所以人们称它“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五龙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”。在五龙潭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周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还有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月牙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悬清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古温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等，组成了五龙潭泉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800600" y="9907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3520" y="16002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76720" y="16002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019920" y="16002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09480" y="19810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19920" y="19810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23623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581280" y="23623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80880" y="2895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209680" y="2895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038480" y="2895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867280" y="2895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4648320" y="33526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858000" y="34290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676520" y="37339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114800" y="3733920"/>
            <a:ext cx="16765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7772400" y="38098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2209680" y="41148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4343400" y="41148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477120" y="41148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3429000" y="44956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2133720" y="5029200"/>
            <a:ext cx="9903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334120" y="5029200"/>
            <a:ext cx="19047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1752480" y="54100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5334120" y="5410080"/>
            <a:ext cx="9144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7315200" y="5410080"/>
            <a:ext cx="9907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380880" y="57913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2209680" y="57913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0968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按课文内容填空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1066680"/>
            <a:ext cx="8610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黑虎泉的源头在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悬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下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洞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中。泉口是用石头雕成的三个老虎头，泉水便从“老虎”的口里不断地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喷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出来。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声喧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昼夜不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趵突泉名列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七十二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之首，位于西门外的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趵突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公园内。一个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开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的方形泉池，差不多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占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大半个公园。池里的水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很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，游鱼水藻都可以看得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清清楚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。泉池正中有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比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吊桶还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的清泉，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咕嘟咕嘟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地从泉底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往上冒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，如同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堆白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济南的泉水（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天下闻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所以人们称济南为（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“泉城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76720" y="114300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05520" y="1066680"/>
            <a:ext cx="6094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086600" y="144792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9480" y="19051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743200" y="19051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590920" y="2895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238880" y="2895480"/>
            <a:ext cx="10670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09680" y="335268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172200" y="3352680"/>
            <a:ext cx="5335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981080" y="3733920"/>
            <a:ext cx="6098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095880" y="37339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600200" y="4038480"/>
            <a:ext cx="6094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3200400" y="4038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248520" y="403848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1295280" y="44197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733920" y="441972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590920" y="54864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7086600" y="54864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20120326165949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895480" y="15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按课文内容填空（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80880" y="1371600"/>
            <a:ext cx="8534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四川北部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南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松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三县交界的万山丛中，有几条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神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山沟。因为周围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散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着九个藏族村寨，所以人们称它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九寨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一座座雪峰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插入云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，峰顶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银光闪闪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。大大小小的湖泊，像颗颗宝石镶嵌在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彩带般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的沟谷中，湖水清澈见底，湖底石块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色彩斑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。从河谷至山坡，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遍布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着原始森林。每当天气晴朗时，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蓝天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、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云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雪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森林，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倒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湖水中，构成了一幅幅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彩缤纷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图画，难怪人们把这些湖泊叫做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花海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”“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彩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呢。由于河谷高低不平，湖泊与湖泊之间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恰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级级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然的台阶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。由此形成的一道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低错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瀑布，宛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练腾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银花四溅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蔚为壮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743200" y="1447920"/>
            <a:ext cx="7621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267080" y="144792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715000" y="1371600"/>
            <a:ext cx="7621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95480" y="182880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477120" y="1828800"/>
            <a:ext cx="7617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809880" y="2209680"/>
            <a:ext cx="9907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743200" y="266688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486400" y="266688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4343400" y="3048120"/>
            <a:ext cx="11430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590920" y="342900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858000" y="342900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114800" y="380988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5638680" y="380988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6934320" y="3809880"/>
            <a:ext cx="6094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1447920" y="419112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5638680" y="4191120"/>
            <a:ext cx="12193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3505320" y="4572000"/>
            <a:ext cx="9144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4876920" y="4495680"/>
            <a:ext cx="9903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276720" y="495288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5029200" y="4876920"/>
            <a:ext cx="15238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219320" y="5257800"/>
            <a:ext cx="12189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4419720" y="5257800"/>
            <a:ext cx="121896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5880" y="52578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7edd53eda966628707f0c86ff79a85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243828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按课文内容填空（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914400"/>
            <a:ext cx="883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继续向纵深行进，四处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林深叶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游人逐渐稀少。注意，这时你已经走到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珍稀动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经常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出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地区。也许，就在不远处，有一只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体态粗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金丝猴，正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攀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一棵大树上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眨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着一对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灵的小眼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向你窥视。也许，会有一群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善于奔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羚羊突然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窜出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还没等你看清它们，又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消失在前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丛林中。也许，你的运气好，会在远处密密的竹丛中，发现一只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憨态可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大熊猫，正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若无其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坐在那里咀嚼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鲜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竹叶。也许，你还会看见一只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行动敏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小熊猫，从山坡跑下谷底，对着湖面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美滋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照镜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雪峰插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古木参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湖飞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异兽珍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寨沟真是个充满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诗情画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人间仙境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038480" y="990720"/>
            <a:ext cx="1295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276720" y="137160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715000" y="1371600"/>
            <a:ext cx="7621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76720" y="175248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934320" y="175248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752480" y="2057400"/>
            <a:ext cx="6858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886200" y="2057400"/>
            <a:ext cx="1905120" cy="380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447920" y="243828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648320" y="243828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447920" y="2819520"/>
            <a:ext cx="16002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86200" y="320040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7467480" y="3200400"/>
            <a:ext cx="1295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66880" y="3581280"/>
            <a:ext cx="8384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8001000" y="3581280"/>
            <a:ext cx="7621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228600" y="3886200"/>
            <a:ext cx="121932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6629400" y="38862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990720" y="4800600"/>
            <a:ext cx="137160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3124080" y="4800600"/>
            <a:ext cx="1295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5257800" y="480060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533520" y="5334120"/>
            <a:ext cx="129528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5410080" y="5334120"/>
            <a:ext cx="1295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3733920" y="914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作 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0" y="42926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意书信的格式和语言特点，全文不少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258920" y="1773360"/>
            <a:ext cx="662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同学们，我们的学校已经不是以前的样子了，请你给你远方的亲同学们，我们的学校已经不是以前的样子了，请你给你远方的亲朋好友写一封信，选择一两个方面介绍一下自己的学校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朋好友写一同学们，我们的学校已经不是以前的样子了，请你给你远方的亲朋好友写一封信，选择一两个方面介绍一下自己的学校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信，选择一两个方面介绍一下自己的学校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476360" y="234936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547640" y="234936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一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词        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济南  著名  大约  悬崖  洞穴  喷吐  堆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占领  沟渠  市县  图画  恰似  继续  窜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敏捷  禽兽  顽皮  严肃  偶尔  汽笛  沉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牲畜  吩咐  仔细  左右  新鲜  糕点  挑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帮助  尤其  姿态  沉浸  糕饼  笨拙  谢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012010215314787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76720" y="45720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成 语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1295280"/>
            <a:ext cx="8610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白浪翻滚    晶莹剔透    明珠散落    银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虎啸狮吼    秋雨潇潇    水声喧腾    昼夜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清清楚楚    林深叶茂    诗情画意    高低错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色彩斑斓    蔚为壮观    憨态可掬    若无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兽珍禽    插入云霄    银光闪闪    清澈见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彩缤纷    林深叶茂    体态粗壮    行动敏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雪峰插云    古木参天    平湖飞瀑    诗情画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12010215314787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76720" y="45720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成 语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1295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174456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极目远眺    仪态端庄    绿意盎然    骠悍强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辽阔无垠    悠然自得    默默无言    舒缓平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成千上万    成群结队    阴云密布    笨笨拙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占一绝    湖光山色    人间天堂    明月清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桂子飘香    水光接天    相得益彰    江山如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鱼米之乡    五颜六色    随风飘扬    纷纷扬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828800" y="152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关 于 歇 后 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0880" y="990720"/>
            <a:ext cx="8534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歇后语是由两部分组成的一句话，前一部分像谜面，后一部分像谜底，中间用破折号隔开，后部分是对前部分的解释说明。破折号的作用就是解释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竹篮打水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场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十五个吊桶打水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七上八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小葱拌豆腐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青（清）二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擀面杖吹火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窍不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黄鼠狼给鸡拜年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没安好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581280" y="2666880"/>
            <a:ext cx="1219320" cy="43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43000" y="3429000"/>
            <a:ext cx="281952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62520" y="4114800"/>
            <a:ext cx="281916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62520" y="4876920"/>
            <a:ext cx="167616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066680" y="5562720"/>
            <a:ext cx="2895840" cy="43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41128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歇 后 语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1295280"/>
            <a:ext cx="85341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八仙过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各显神通        铁公鸡拜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毛不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猪八戒照镜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里外不是人     肉包子打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去无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打破沙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问到底           泥菩萨过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身难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打开天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亮话           丈二和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摸不着头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王婆卖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卖自夸        猪鼻子里插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装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个臭皮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赛过诸葛亮   小和尚念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口无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梦里吃西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想的甜         胸口挂钥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个指头捏田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稳拿    兔子尾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十六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走为上计      老虎的屁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摸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86000" y="1371600"/>
            <a:ext cx="1219320" cy="366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72200" y="1371600"/>
            <a:ext cx="1295280" cy="366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80880" y="1905120"/>
            <a:ext cx="1828800" cy="36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800600" y="1905120"/>
            <a:ext cx="1523880" cy="366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133720" y="2438280"/>
            <a:ext cx="99036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248520" y="2438280"/>
            <a:ext cx="114300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4920" y="2971800"/>
            <a:ext cx="129528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038480" y="2971800"/>
            <a:ext cx="129564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209680" y="3505320"/>
            <a:ext cx="1295640" cy="36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553080" y="3505320"/>
            <a:ext cx="609840" cy="36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362320" y="4038480"/>
            <a:ext cx="1676160" cy="36684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400800" y="4038480"/>
            <a:ext cx="1371600" cy="36684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57200" y="4648320"/>
            <a:ext cx="14479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6324480" y="4648320"/>
            <a:ext cx="685800" cy="36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80880" y="5181480"/>
            <a:ext cx="213372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5943600" y="5181480"/>
            <a:ext cx="91440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133720" y="5715000"/>
            <a:ext cx="1295280" cy="366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19920" y="5715000"/>
            <a:ext cx="990360" cy="366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、泉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课文结构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总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济南共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2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泉，本课具体介绍了其中最著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珍珠泉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、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龙潭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、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黑虎泉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和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趵突泉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各个泉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珍珠泉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神奇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、五龙潭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泉多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、黑虎泉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声喧腾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、趵突泉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、清、美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珍珠泉、五龙潭、黑虎泉、趵突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名字的由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珍珠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泉水从地下往上涌，好像一串串珍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五龙潭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五处泉水汇注而成，所以人们称它“五龙潭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黑虎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泉口是用石头雕成的三个老虎头，泉水便从“老虎”的口里不断地喷吐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趵突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泉池正中有三股比吊桶还粗的清泉，“咕嘟咕嘟”地从泉底往上冒，如同三堆白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09680" y="380880"/>
            <a:ext cx="13716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0" y="914400"/>
            <a:ext cx="30492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2120" y="1295280"/>
            <a:ext cx="83808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90920" y="1371600"/>
            <a:ext cx="91440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419720" y="1371600"/>
            <a:ext cx="91440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172200" y="1295280"/>
            <a:ext cx="990720" cy="366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2209680"/>
            <a:ext cx="609840" cy="36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657600" y="2209680"/>
            <a:ext cx="533520" cy="36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791320" y="2133720"/>
            <a:ext cx="1218960" cy="366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09480" y="2590920"/>
            <a:ext cx="1524240" cy="366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600200" y="3429000"/>
            <a:ext cx="5105520" cy="366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676520" y="3886200"/>
            <a:ext cx="6172200" cy="366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九 寨 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九寨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在四川北部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南坪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、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平武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松潘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三县交界的万山丛中，因为周围散布着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九个藏族村寨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，所以人们称它九寨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走进九寨沟就像到了一个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童话世界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，九寨沟是一个充满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诗情画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人间仙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课文如数家珍似的描写了九寨沟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奇丽原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然风光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和那里的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珍禽异兽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这篇课文中介绍到的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奇丽原始的自然风光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主要有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雪峰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、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湖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和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瀑布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等，介绍到的珍禽异兽有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体态粗壮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金丝猴，有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善于奔跑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羚羊，有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憨态可掬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大熊猫，还有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行动敏捷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的小熊猫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05520" y="914400"/>
            <a:ext cx="91440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162920" y="914400"/>
            <a:ext cx="83808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38080" y="1371600"/>
            <a:ext cx="83844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95280" y="1828800"/>
            <a:ext cx="236232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943600" y="2362320"/>
            <a:ext cx="160020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657600" y="2819520"/>
            <a:ext cx="167652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162920" y="3352680"/>
            <a:ext cx="167616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295280" y="3809880"/>
            <a:ext cx="160020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257800" y="3809880"/>
            <a:ext cx="167652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105520" y="4343400"/>
            <a:ext cx="380988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057400" y="4724280"/>
            <a:ext cx="838080" cy="457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114800" y="4724280"/>
            <a:ext cx="83808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095880" y="4800600"/>
            <a:ext cx="91440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038480" y="5181480"/>
            <a:ext cx="167652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838080" y="5638680"/>
            <a:ext cx="175284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334120" y="5638680"/>
            <a:ext cx="160020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438280" y="6095880"/>
            <a:ext cx="1676520" cy="432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3200" y="1519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田园诗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本文是一篇散文，描写了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水之国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、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花之国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、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牧场之国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的荷兰的（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田园风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，洋溢着宁静悠闲的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文章的中心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荷兰，是水之国，花之国，也是牧场之国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句话告诉我们，在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荷兰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水多、花多、牧场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荷兰的田园风光图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主要的画面（六个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①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流动的奶牛，②鲜艳的郁金香 ，③自由驰骋的骏马，④悠然自得的家畜，⑤挤牛奶时的宁静，⑥牛奶运走以后夜晚的平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800600" y="1295280"/>
            <a:ext cx="1295280" cy="432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934320" y="1295280"/>
            <a:ext cx="1143000" cy="432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1676520"/>
            <a:ext cx="1523880" cy="431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343400" y="1752480"/>
            <a:ext cx="1600200" cy="432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124080"/>
            <a:ext cx="7315200" cy="43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76720" y="3581280"/>
            <a:ext cx="2819160" cy="43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4648320"/>
            <a:ext cx="8610840" cy="151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04:00:41Z</dcterms:created>
  <dc:creator>huang</dc:creator>
  <dc:description/>
  <dc:language>en-US</dc:language>
  <cp:lastModifiedBy>dreamsummit</cp:lastModifiedBy>
  <dcterms:modified xsi:type="dcterms:W3CDTF">2016-02-29T06:50:18Z</dcterms:modified>
  <cp:revision>10</cp:revision>
  <dc:subject/>
  <dc:title>幻灯片 1</dc:title>
</cp:coreProperties>
</file>