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png" ContentType="image/png"/>
  <Override PartName="/ppt/media/image7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chimes.wav" ContentType="audio/x-wav"/>
  <Override PartName="/ppt/media/type.wav" ContentType="audio/x-wav"/>
  <Override PartName="/ppt/media/cashreg.wav" ContentType="audio/x-wav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124-F488-4A6E-A30C-7D76568E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6F3-7E3F-4E5A-94AA-ABAF188D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5AA-64D9-4059-956F-806CC677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EF4-BB13-425D-9474-3DEF9C6C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CABB-12C6-4487-841E-2D216A9F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1E01-146D-4E68-957B-CD63CBA9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FA8C-DEDF-4912-8199-44E07F58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BDD3-302A-4965-AF53-3BD9D99C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C883-3AA6-4E18-91A1-9A4416FC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9BEB-4011-425C-A413-5835B3F2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3180-3870-4AA7-896F-E089E470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434-068E-4914-BD90-E3BEF731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A009-2E4D-45B4-A077-A97D6412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3B78-E142-4A21-894C-71C678C5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F167-D7A7-4CCA-862E-4D5A469B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D060-B227-47B9-AA5A-F372D33D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1E29-594E-4015-A5E1-8EAFC397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3B0-1C83-41EC-A1D0-12FAB081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D8B-8CA2-486D-8BF9-5C094650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8F39-AB76-4212-AA13-991827B3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131-8958-471C-B8F0-4A84D2AF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589F-9EF2-4A2B-82C8-7258A1D0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BD5-D6C2-41B8-8DF4-29527EFF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F5C-A8E2-48C3-AD09-A181717F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1956-0E7C-41BC-B46A-5022A57AF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E63A-CFBD-49F9-9687-B2D16C833FB6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4195800" y="533520"/>
            <a:ext cx="11858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  <a:ea typeface="隶书"/>
              </a:rPr>
              <a:t>第一单元复习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Picture 9" descr="大图66"/>
          <p:cNvPicPr/>
          <p:nvPr/>
        </p:nvPicPr>
        <p:blipFill>
          <a:blip r:embed="rId1"/>
          <a:stretch/>
        </p:blipFill>
        <p:spPr>
          <a:xfrm>
            <a:off x="4705200" y="685800"/>
            <a:ext cx="4438800" cy="5781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5352480" y="152280"/>
            <a:ext cx="91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苏教版小学四年级语文上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5"/>
          <p:cNvSpPr txBox="1"/>
          <p:nvPr/>
        </p:nvSpPr>
        <p:spPr>
          <a:xfrm>
            <a:off x="2666880" y="838080"/>
            <a:ext cx="36576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+mn-ea"/>
              </a:rPr>
              <a:t>反义词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+mn-ea"/>
              <a:ea typeface="+mn-ea"/>
            </a:endParaRPr>
          </a:p>
        </p:txBody>
      </p:sp>
      <p:pic>
        <p:nvPicPr>
          <p:cNvPr id="166" name="Picture 6" descr="大图51"/>
          <p:cNvPicPr/>
          <p:nvPr/>
        </p:nvPicPr>
        <p:blipFill>
          <a:blip r:embed="rId1"/>
          <a:stretch/>
        </p:blipFill>
        <p:spPr>
          <a:xfrm>
            <a:off x="1676520" y="2057400"/>
            <a:ext cx="58672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8153280" cy="54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天南    地北     幸福    苦难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理想    现实     狭窄    宽阔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开放    保守     困难    简单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崇高    卑微     虚假    真实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前进    后退     现在    将来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2362320" y="2133720"/>
            <a:ext cx="7617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2286000" y="1219320"/>
            <a:ext cx="7621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2362320" y="3048120"/>
            <a:ext cx="7617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2362320" y="3886200"/>
            <a:ext cx="7617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362320" y="4800600"/>
            <a:ext cx="7617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6400800" y="4724280"/>
            <a:ext cx="7621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6324480" y="3886200"/>
            <a:ext cx="7621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6400800" y="3048120"/>
            <a:ext cx="7621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6324480" y="2209680"/>
            <a:ext cx="7621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6324480" y="1295280"/>
            <a:ext cx="7621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3048120" y="838080"/>
            <a:ext cx="12952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3048120" y="1828800"/>
            <a:ext cx="12952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7086600" y="914400"/>
            <a:ext cx="12952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7086600" y="1828800"/>
            <a:ext cx="12952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3048120" y="2666880"/>
            <a:ext cx="12952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7086600" y="2666880"/>
            <a:ext cx="12952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3048120" y="3581280"/>
            <a:ext cx="12952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7086600" y="3505320"/>
            <a:ext cx="12952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3048120" y="4419720"/>
            <a:ext cx="12952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7086600" y="4419720"/>
            <a:ext cx="12952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反 义 词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现实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理想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崇高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低贱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前进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后退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智慧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愚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美好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丑恶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幸福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痛苦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开放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谢落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开放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封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愿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咒骂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分别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团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拥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失去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微笑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哭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永远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临时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珍藏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丢弃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烦恼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开心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伟大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渺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甜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冷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热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乐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忧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远在天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近在咫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676520" y="12193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657600" y="12193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638680" y="12193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7620120" y="12193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752480" y="23623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3657600" y="23623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5638680" y="23623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7620120" y="23623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676520" y="35053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3657600" y="3581280"/>
            <a:ext cx="914400" cy="43992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5715000" y="3581280"/>
            <a:ext cx="914400" cy="43992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7620120" y="35053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1676520" y="4724280"/>
            <a:ext cx="914400" cy="43992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3733920" y="4724280"/>
            <a:ext cx="914400" cy="43992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5638680" y="4724280"/>
            <a:ext cx="914400" cy="43992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7620120" y="4724280"/>
            <a:ext cx="914400" cy="43992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1295280" y="5867280"/>
            <a:ext cx="685800" cy="43992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2666880" y="5867280"/>
            <a:ext cx="685800" cy="43992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4038480" y="5867280"/>
            <a:ext cx="685800" cy="43992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Text Box 23"/>
          <p:cNvSpPr/>
          <p:nvPr/>
        </p:nvSpPr>
        <p:spPr>
          <a:xfrm>
            <a:off x="6781680" y="5867280"/>
            <a:ext cx="1676520" cy="43992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2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5"/>
          <p:cNvSpPr txBox="1"/>
          <p:nvPr/>
        </p:nvSpPr>
        <p:spPr>
          <a:xfrm>
            <a:off x="2133720" y="457200"/>
            <a:ext cx="54100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 文 复 习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1" name="Picture 11" descr="图片1"/>
          <p:cNvPicPr/>
          <p:nvPr/>
        </p:nvPicPr>
        <p:blipFill>
          <a:blip r:embed="rId1"/>
          <a:stretch/>
        </p:blipFill>
        <p:spPr>
          <a:xfrm>
            <a:off x="3505320" y="3352680"/>
            <a:ext cx="20574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3360" y="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培养良好的学习习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⑦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培养良好的学习习惯⑦要求我们培养哪些良好的学习习惯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读书有选择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读书做记号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留心观察事物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80880" y="2819520"/>
          <a:ext cx="8305920" cy="268272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重要的地方或生字新词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在下边画 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——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关键词语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在下边加             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•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精彩的语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在下边加            ○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对某些内容有疑问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在后面加             ？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需要重读或摘抄的章节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在前面加            △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Text Box 32"/>
          <p:cNvSpPr/>
          <p:nvPr/>
        </p:nvSpPr>
        <p:spPr>
          <a:xfrm>
            <a:off x="1371600" y="1828800"/>
            <a:ext cx="2057400" cy="380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371600" y="2286000"/>
            <a:ext cx="2057400" cy="380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Text Box 34"/>
          <p:cNvSpPr/>
          <p:nvPr/>
        </p:nvSpPr>
        <p:spPr>
          <a:xfrm>
            <a:off x="1371600" y="5562720"/>
            <a:ext cx="2438280" cy="380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Text Box 46"/>
          <p:cNvSpPr/>
          <p:nvPr/>
        </p:nvSpPr>
        <p:spPr>
          <a:xfrm>
            <a:off x="6781680" y="2971800"/>
            <a:ext cx="1371600" cy="366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Text Box 47"/>
          <p:cNvSpPr/>
          <p:nvPr/>
        </p:nvSpPr>
        <p:spPr>
          <a:xfrm>
            <a:off x="6781680" y="3505320"/>
            <a:ext cx="1371600" cy="3664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Text Box 48"/>
          <p:cNvSpPr/>
          <p:nvPr/>
        </p:nvSpPr>
        <p:spPr>
          <a:xfrm>
            <a:off x="6781680" y="4038480"/>
            <a:ext cx="1371600" cy="366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Text Box 49"/>
          <p:cNvSpPr/>
          <p:nvPr/>
        </p:nvSpPr>
        <p:spPr>
          <a:xfrm>
            <a:off x="6781680" y="4495680"/>
            <a:ext cx="1371600" cy="366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Text Box 50"/>
          <p:cNvSpPr/>
          <p:nvPr/>
        </p:nvSpPr>
        <p:spPr>
          <a:xfrm>
            <a:off x="6781680" y="5029200"/>
            <a:ext cx="1371600" cy="366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6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ff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3399ff"/>
                </a:solidFill>
                <a:latin typeface="Arial"/>
              </a:rPr>
              <a:t>、老师，您好！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课文体裁：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诗歌（现代诗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课文线索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赞美教师事业的崇高美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孩子对老师的感激、祝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比喻句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3581280" y="1600200"/>
            <a:ext cx="3962520" cy="838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5800" y="3124080"/>
            <a:ext cx="586728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7" name="Picture 8" descr="未命名"/>
          <p:cNvPicPr/>
          <p:nvPr/>
        </p:nvPicPr>
        <p:blipFill>
          <a:blip r:embed="rId1"/>
          <a:stretch/>
        </p:blipFill>
        <p:spPr>
          <a:xfrm>
            <a:off x="4876920" y="4572000"/>
            <a:ext cx="3371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春晖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”：比喻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Arial"/>
                <a:ea typeface="黑体"/>
              </a:rPr>
              <a:t>教师的关心和爱护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朝霞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”：比喻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Arial"/>
                <a:ea typeface="黑体"/>
              </a:rPr>
              <a:t>教师的教学像早晨的霞光，给学生带来光明、美好的一天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春蚕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”：比喻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Arial"/>
                <a:ea typeface="黑体"/>
              </a:rPr>
              <a:t>辛勤的老师；“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理想的丝线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Arial"/>
                <a:ea typeface="黑体"/>
              </a:rPr>
              <a:t>”：比喻教师的教学成果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甘露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”：比喻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Arial"/>
                <a:ea typeface="黑体"/>
              </a:rPr>
              <a:t>教师付出的心血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茁壮的新苗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”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幸福开放的鲜花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”：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Arial"/>
                <a:ea typeface="黑体"/>
              </a:rPr>
              <a:t>比喻幸福成长的学生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3160" y="9140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赞美老师的诗句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１、春蚕到死丝方尽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蜡炬成灰泪始干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２、落红不是无情物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化作春泥更护花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３、教师是太阳底下最光辉的职业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老师是辛勤的园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0" name="Picture 5" descr="未命名"/>
          <p:cNvPicPr/>
          <p:nvPr/>
        </p:nvPicPr>
        <p:blipFill>
          <a:blip r:embed="rId1"/>
          <a:stretch/>
        </p:blipFill>
        <p:spPr>
          <a:xfrm>
            <a:off x="5562720" y="609480"/>
            <a:ext cx="30477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8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7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0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3" dur="2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914400" y="304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、但愿人长久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说说题目的意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但愿美好的感情长留人们心间，虽然远隔千里，也能共同拥有这一轮明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体会苏轼情感的变化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思念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—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埋怨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—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宽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思念家乡和亲人的诗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独在异乡为异客，每逢佳节倍思亲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②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但愿人长久，千里共婵娟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3" name="Picture 4" descr="未命名"/>
          <p:cNvPicPr/>
          <p:nvPr/>
        </p:nvPicPr>
        <p:blipFill>
          <a:blip r:embed="rId1"/>
          <a:stretch/>
        </p:blipFill>
        <p:spPr>
          <a:xfrm>
            <a:off x="5638680" y="228600"/>
            <a:ext cx="26956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望洞庭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背诵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重点词语：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相：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相互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和：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和谐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未：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没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镜：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铜镜，比喻洞庭湖水面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。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作者感情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表达了作者对洞庭湖秋夜景色的喜爱和赞美之情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990720" y="2590920"/>
            <a:ext cx="137160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76720" y="2514600"/>
            <a:ext cx="137160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5562720" y="2514600"/>
            <a:ext cx="137160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838080" y="3429000"/>
            <a:ext cx="723924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0" name="Picture 8" descr="未命名"/>
          <p:cNvPicPr/>
          <p:nvPr/>
        </p:nvPicPr>
        <p:blipFill>
          <a:blip r:embed="rId1"/>
          <a:stretch/>
        </p:blipFill>
        <p:spPr>
          <a:xfrm>
            <a:off x="5867280" y="228600"/>
            <a:ext cx="2819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5"/>
          <p:cNvSpPr txBox="1"/>
          <p:nvPr/>
        </p:nvSpPr>
        <p:spPr>
          <a:xfrm>
            <a:off x="838080" y="685800"/>
            <a:ext cx="74678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词语复习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6" name="Picture 6" descr="大图51"/>
          <p:cNvPicPr/>
          <p:nvPr/>
        </p:nvPicPr>
        <p:blipFill>
          <a:blip r:embed="rId1"/>
          <a:stretch/>
        </p:blipFill>
        <p:spPr>
          <a:xfrm>
            <a:off x="1600200" y="2209680"/>
            <a:ext cx="58672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峨眉山月歌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背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重点词语：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发：</a:t>
            </a: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出发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向：</a:t>
            </a: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驶向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思：</a:t>
            </a: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思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君：</a:t>
            </a:r>
            <a:r>
              <a:rPr b="1" lang="zh-CN" sz="3600" spc="-1" strike="noStrike" u="sng">
                <a:solidFill>
                  <a:srgbClr val="99cc00"/>
                </a:solidFill>
                <a:uFillTx/>
                <a:latin typeface="黑体"/>
                <a:ea typeface="黑体"/>
              </a:rPr>
              <a:t>朋友，友人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作者感情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表达了作者思念家乡和友人的感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762120" y="2362320"/>
            <a:ext cx="137160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2819520" y="2362320"/>
            <a:ext cx="137160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800600" y="2362320"/>
            <a:ext cx="137160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685800" y="3200400"/>
            <a:ext cx="5029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7" name="Picture 8" descr="未命名"/>
          <p:cNvPicPr/>
          <p:nvPr/>
        </p:nvPicPr>
        <p:blipFill>
          <a:blip r:embed="rId1"/>
          <a:stretch/>
        </p:blipFill>
        <p:spPr>
          <a:xfrm>
            <a:off x="6400800" y="304920"/>
            <a:ext cx="213372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、秋天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主要内容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描写秋天迷人的景色和丰收的景象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写作特色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拟人化的语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韵脚：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ao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为什么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捡一片黄叶悄悄地珍藏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黄叶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是秋天的象征，因为作者喜爱秋天的美丽景色，喜爱秋天的丰收景象，他想让这醉人的景色永留心田，永驻人间，所以要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捡一片黄叶悄悄地珍藏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971800" y="2590920"/>
            <a:ext cx="31240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133720" y="3124080"/>
            <a:ext cx="9903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2" name="Picture 11" descr="大图33"/>
          <p:cNvPicPr/>
          <p:nvPr/>
        </p:nvPicPr>
        <p:blipFill>
          <a:blip r:embed="rId1"/>
          <a:stretch/>
        </p:blipFill>
        <p:spPr>
          <a:xfrm>
            <a:off x="7238880" y="0"/>
            <a:ext cx="1371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6" dur="2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描写春天的成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春暖花开  桃红柳绿  百花盛开  莺歌燕舞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春意盎然  鸟语花香  春风化雨  满园春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春光明媚  春色满园  春回大地  百花争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描写夏天的成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067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赤日炎炎  骄阳似火  烈日当空  炎炎夏日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炎炎夏日  烈日炎炎  绿树成荫  热浪滚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满头大汗  汗流浃背  挥汗如雨  汗如雨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1440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华文楷体"/>
                <a:ea typeface="华文楷体"/>
              </a:rPr>
              <a:t>描写秋天的成语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华文楷体"/>
                <a:ea typeface="华文楷体"/>
              </a:rPr>
              <a:t>秋色宜人　天朗气清　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华文楷体"/>
                <a:ea typeface="华文楷体"/>
              </a:rPr>
              <a:t>天高云淡　大雁南飞　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华文楷体"/>
                <a:ea typeface="华文楷体"/>
              </a:rPr>
              <a:t>秋菊傲骨　丹桂飘香　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华文楷体"/>
                <a:ea typeface="华文楷体"/>
              </a:rPr>
              <a:t>金秋送爽　果实累累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5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8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11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1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描写冬天的成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白雪茫茫  千里冰封  寒气袭人  寒冬腊月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瑞雪纷飞  滴水成冰  万里雪飘  天寒地冻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寒气逼人  冰天雪地  风雪交加  鹅毛大雪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0" y="457200"/>
            <a:ext cx="8839080" cy="44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                            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按课文内容填空（一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古今中外，（   哪个人的成长不浸透着教师的心血）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地北天南，（哪一项创造不蕴含着教师的辛劳 ）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用（真理）和（智慧）把人才（塑造）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让（春晖）和（朝霞）在心灵（闪耀）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笔尖飞舞，那是（春蚕悄悄地编织理想的丝线）；笑语盈盈，那是（甘露轻轻地洒向茁壮的新苗）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他转念又想：世上本来就是（有悲也有欢）、（有离也有合）的，就像天上的月儿（有隐也有现）、（有圆也有缺）一样，哪里会（十全十美）呢！但愿（美好的感情常留人们）心间，虽然（远隔千里），也能（共同拥有这一轮明月）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514600" y="1295280"/>
            <a:ext cx="4648320" cy="432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438280" y="1828800"/>
            <a:ext cx="4496040" cy="431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3048120" y="3429000"/>
            <a:ext cx="3657600" cy="431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00400" y="5562720"/>
            <a:ext cx="2743200" cy="355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1523880" y="3886200"/>
            <a:ext cx="3810240" cy="431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4038480" y="5181480"/>
            <a:ext cx="2743200" cy="355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380880" y="5562720"/>
            <a:ext cx="1219320" cy="355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6934320" y="4419720"/>
            <a:ext cx="1600200" cy="355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4495680" y="4419720"/>
            <a:ext cx="1600200" cy="355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5562720" y="4800600"/>
            <a:ext cx="1600200" cy="355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3124080" y="4800600"/>
            <a:ext cx="1600200" cy="355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1066680" y="5181480"/>
            <a:ext cx="1219320" cy="355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1219320" y="2362320"/>
            <a:ext cx="609480" cy="355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Text Box 22"/>
          <p:cNvSpPr/>
          <p:nvPr/>
        </p:nvSpPr>
        <p:spPr>
          <a:xfrm>
            <a:off x="1219320" y="2971800"/>
            <a:ext cx="609480" cy="355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Text Box 23"/>
          <p:cNvSpPr/>
          <p:nvPr/>
        </p:nvSpPr>
        <p:spPr>
          <a:xfrm>
            <a:off x="2666880" y="2438280"/>
            <a:ext cx="609840" cy="355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Text Box 24"/>
          <p:cNvSpPr/>
          <p:nvPr/>
        </p:nvSpPr>
        <p:spPr>
          <a:xfrm>
            <a:off x="2743200" y="2971800"/>
            <a:ext cx="609480" cy="355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Text Box 25"/>
          <p:cNvSpPr/>
          <p:nvPr/>
        </p:nvSpPr>
        <p:spPr>
          <a:xfrm>
            <a:off x="4800600" y="2438280"/>
            <a:ext cx="609480" cy="355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Text Box 26"/>
          <p:cNvSpPr/>
          <p:nvPr/>
        </p:nvSpPr>
        <p:spPr>
          <a:xfrm>
            <a:off x="4876920" y="2971800"/>
            <a:ext cx="609480" cy="3556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3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5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7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3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9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1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7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3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9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5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1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7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3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336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按课文内容填空（二）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40640" cy="5029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想到这儿，他的心里似乎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宽慰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了许多，便低声吟诵起来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人有悲欢离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月有阴晴圆缺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此事古难全。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但愿人长久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千里共婵娟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风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作者是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唐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代诗人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李峤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全诗的内容是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解落三秋叶，能开二月花。过江千尺浪，入竹万竿斜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稻穗儿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熟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蝉声儿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成熟的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向日葵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在低头弯腰；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野菊花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香了田间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羊肠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小路，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牛儿羊儿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都长了肥膘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苹果嚷着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冷了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要穿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红袄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；葡萄嚷着冷了，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要披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紫袍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玉米（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举着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红缨乐了，忘掉一个夏天的（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烦恼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；高粱红着脸儿笑了，一曲（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酒歌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在心灵（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酿造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6172200" y="5334120"/>
            <a:ext cx="685800" cy="366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6934320" y="4952880"/>
            <a:ext cx="68580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4038480" y="5334120"/>
            <a:ext cx="685800" cy="366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057400" y="4952880"/>
            <a:ext cx="68580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2514600" y="4114800"/>
            <a:ext cx="68580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4267080" y="4114800"/>
            <a:ext cx="68580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7696080" y="4114800"/>
            <a:ext cx="68580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3124080" y="3733920"/>
            <a:ext cx="685800" cy="366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4800600" y="1295280"/>
            <a:ext cx="68580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4876920" y="2438280"/>
            <a:ext cx="68580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4952880" y="3733920"/>
            <a:ext cx="1219320" cy="366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5638680" y="3352680"/>
            <a:ext cx="99072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838080" y="3733920"/>
            <a:ext cx="990720" cy="366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Text Box 19"/>
          <p:cNvSpPr/>
          <p:nvPr/>
        </p:nvSpPr>
        <p:spPr>
          <a:xfrm>
            <a:off x="2514600" y="1600200"/>
            <a:ext cx="190512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Text Box 20"/>
          <p:cNvSpPr/>
          <p:nvPr/>
        </p:nvSpPr>
        <p:spPr>
          <a:xfrm>
            <a:off x="4952880" y="1676520"/>
            <a:ext cx="1752840" cy="366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Text Box 21"/>
          <p:cNvSpPr/>
          <p:nvPr/>
        </p:nvSpPr>
        <p:spPr>
          <a:xfrm>
            <a:off x="838080" y="1981080"/>
            <a:ext cx="152424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Text Box 22"/>
          <p:cNvSpPr/>
          <p:nvPr/>
        </p:nvSpPr>
        <p:spPr>
          <a:xfrm>
            <a:off x="2819520" y="2057400"/>
            <a:ext cx="160020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838080" y="2895480"/>
            <a:ext cx="701064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3352680" y="2438280"/>
            <a:ext cx="45720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2209680" y="3352680"/>
            <a:ext cx="38124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Text Box 26"/>
          <p:cNvSpPr/>
          <p:nvPr/>
        </p:nvSpPr>
        <p:spPr>
          <a:xfrm>
            <a:off x="3886200" y="3352680"/>
            <a:ext cx="38088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1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3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9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5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6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2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8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4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0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6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2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8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4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0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6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2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8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按课文填空（三）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541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望洞庭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作者是（唐）代（  刘禹锡 ）。诗的内容是：（湖光秋月两相和，潭面无风镜未磨。遥望洞庭山水色，白银盘里一青螺。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峨眉山月歌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的作者是（唐）代（李白）。诗的内容是（峨眉山月半轮秋，影入平羌江水流。夜发清溪向三峡，思君不见下渝州。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秋天的太阳（更红更娇）；（秋天的空气）更甜更好。秋风在（田野里打滚），在小路上奔跑；她（抓）一把（桂子的香气），把夏天的脚印儿（轻轻涂掉）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秋风如同（柔韧的梳子），把田野梳得（井井有条）；秋光如同（发亮的汗珠），（蓬蓬勃勃）在田野上（闪耀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走在秋天，头顶有（明丽的阳光照耀）；捡一片黄叶（悄悄地珍藏），秋天永远会向我们微笑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429000" y="30481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50532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3505320" y="3048120"/>
            <a:ext cx="144756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4876920" y="838080"/>
            <a:ext cx="457200" cy="381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2971800" y="1219320"/>
            <a:ext cx="525780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838080" y="1523880"/>
            <a:ext cx="5334120" cy="381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019920" y="2971800"/>
            <a:ext cx="182880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5638680" y="1981080"/>
            <a:ext cx="457200" cy="304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7010280" y="1981080"/>
            <a:ext cx="762120" cy="304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2895480" y="2362320"/>
            <a:ext cx="5334120" cy="304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685800" y="2666880"/>
            <a:ext cx="5791320" cy="381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3657600" y="3429000"/>
            <a:ext cx="182880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3352680" y="3733920"/>
            <a:ext cx="182880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5410080" y="4114800"/>
            <a:ext cx="1828800" cy="304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Text Box 20"/>
          <p:cNvSpPr/>
          <p:nvPr/>
        </p:nvSpPr>
        <p:spPr>
          <a:xfrm>
            <a:off x="990720" y="4114800"/>
            <a:ext cx="1828800" cy="304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Text Box 21"/>
          <p:cNvSpPr/>
          <p:nvPr/>
        </p:nvSpPr>
        <p:spPr>
          <a:xfrm>
            <a:off x="1981080" y="4419720"/>
            <a:ext cx="182880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6095880" y="4495680"/>
            <a:ext cx="1828800" cy="304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990720" y="4800600"/>
            <a:ext cx="182880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4648320" y="4800600"/>
            <a:ext cx="99036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572000" y="5181480"/>
            <a:ext cx="2514600" cy="381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86000" y="5562720"/>
            <a:ext cx="182880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6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2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8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0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2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8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0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6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2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8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4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0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6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8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4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0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作文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按照你的心愿设立一个节日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写清楚你为什么要设立这个节日以及你打算怎样度过这个节日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字数不少于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400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540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楷体_GB2312"/>
                <a:ea typeface="华文楷体"/>
              </a:rPr>
              <a:t> 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华文楷体"/>
              </a:rPr>
              <a:t>崇高  浸透  项目  劳动  涌现  塑造  朝霞  编织  茁壮  衷心  智慧  创造  辛劳  祝愿  波涛  做官  品尝  观赏  欣赏  情绪  睁眼  悲欢  圆缺  虽然  宽慰  吟诵  埋怨  青螺  眉毛  溪流 小溪  峡谷  君子  秋月  湖光  白银  桂花  肠胃  苹果  紫袍  烦恼  喝酒  柔韧  柔软  温柔  柔和  梳理  梳子  明丽  酿造  照耀  珍藏  似乎  铺设蕴含  心血  甘露  闪耀  肥膘  蓬勃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华文楷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楷体_GB2312"/>
                <a:ea typeface="华文楷体"/>
              </a:rPr>
              <a:t>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51920" y="-3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ff00"/>
                </a:solidFill>
                <a:latin typeface="Arial"/>
              </a:rPr>
              <a:t>词    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成  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245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情不自禁  皓月当空  万里无云  心绪不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手足情深  形影不离  悲欢离合  阴晴圆缺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十全十美  羊肠小路  井井有条  蓬蓬勃勃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文思敏捷  聪明过人  青出于蓝  一鸣惊人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桃李争妍  后继有人  十年树木  百年树人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2666880" y="6094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词 语 搭 配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04920" y="1828800"/>
            <a:ext cx="8534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崇高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事业     飞速地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前进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悄悄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地编织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理想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丝线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茁壮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新苗   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观赏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着明月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美好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感情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低声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吟诵   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柔韧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梳子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发亮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汗珠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衷心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祝愿     幸福的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开放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感情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波涛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明亮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月亮   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轻轻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地涂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380880" y="1905120"/>
            <a:ext cx="914400" cy="53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724280" y="1905120"/>
            <a:ext cx="914400" cy="53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248520" y="1905120"/>
            <a:ext cx="914400" cy="53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752480" y="2743200"/>
            <a:ext cx="990720" cy="53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276720" y="2743200"/>
            <a:ext cx="990360" cy="53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248520" y="2743200"/>
            <a:ext cx="914400" cy="53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380880" y="3505320"/>
            <a:ext cx="990720" cy="615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3276720" y="3505320"/>
            <a:ext cx="990360" cy="53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248520" y="3581280"/>
            <a:ext cx="914400" cy="540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380880" y="4343400"/>
            <a:ext cx="990720" cy="615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3276720" y="4343400"/>
            <a:ext cx="990360" cy="53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7620120" y="4343400"/>
            <a:ext cx="914400" cy="53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1752480" y="5181480"/>
            <a:ext cx="990720" cy="540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3352680" y="5181480"/>
            <a:ext cx="914400" cy="540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6248520" y="5181480"/>
            <a:ext cx="914400" cy="540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多音字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9829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埋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（埋怨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磨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（磨刀）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好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（好像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（埋土）   （石磨）     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爱好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朝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（唐朝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血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（血液）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禁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（不禁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（朝霞）   （流血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) 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（禁止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露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（泄露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奔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（奔跑）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似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（相似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露珠）   （投奔）    （似的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66680" y="762120"/>
            <a:ext cx="1828800" cy="160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809880" y="762120"/>
            <a:ext cx="1752840" cy="160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553080" y="685800"/>
            <a:ext cx="1752840" cy="1676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066680" y="2514600"/>
            <a:ext cx="1828800" cy="15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3809880" y="2514600"/>
            <a:ext cx="1752840" cy="15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553080" y="2438280"/>
            <a:ext cx="1752840" cy="1524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1066680" y="4191120"/>
            <a:ext cx="1828800" cy="15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3809880" y="4191120"/>
            <a:ext cx="1752840" cy="160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6553080" y="4114800"/>
            <a:ext cx="1752840" cy="160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2743200" y="1066680"/>
            <a:ext cx="3657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+mn-ea"/>
              </a:rPr>
              <a:t>近义词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+mn-ea"/>
              <a:ea typeface="+mn-ea"/>
            </a:endParaRPr>
          </a:p>
        </p:txBody>
      </p:sp>
      <p:pic>
        <p:nvPicPr>
          <p:cNvPr id="120" name="Picture 6" descr="大图56"/>
          <p:cNvPicPr/>
          <p:nvPr/>
        </p:nvPicPr>
        <p:blipFill>
          <a:blip r:embed="rId1"/>
          <a:stretch/>
        </p:blipFill>
        <p:spPr>
          <a:xfrm>
            <a:off x="1600200" y="2209680"/>
            <a:ext cx="58672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1760" y="761760"/>
            <a:ext cx="7848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悄悄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慢慢      烦恼 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忧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浸透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湿透      酿造 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酿制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创造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发明      柔韧 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坚韧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辛劳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辛苦      闪耀 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闪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蕴含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包含      珍藏 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收藏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祝愿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祝福      照耀 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照射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责备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责怪      可怜 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悲惨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温和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平和      忌妒 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嫉妒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419720" y="685800"/>
            <a:ext cx="0" cy="5410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819520" y="762120"/>
            <a:ext cx="1295280" cy="53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819520" y="1447920"/>
            <a:ext cx="1295280" cy="53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819520" y="2133720"/>
            <a:ext cx="1295280" cy="53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2819520" y="2819520"/>
            <a:ext cx="1295280" cy="53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2819520" y="3429000"/>
            <a:ext cx="129528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2819520" y="4114800"/>
            <a:ext cx="129528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2819520" y="4800600"/>
            <a:ext cx="129528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2819520" y="5486400"/>
            <a:ext cx="129528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6705720" y="762120"/>
            <a:ext cx="1295280" cy="53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6705720" y="1447920"/>
            <a:ext cx="1295280" cy="53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6705720" y="2133720"/>
            <a:ext cx="1295280" cy="53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6705720" y="2819520"/>
            <a:ext cx="1295280" cy="53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6705720" y="3429000"/>
            <a:ext cx="129528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6705720" y="4114800"/>
            <a:ext cx="129528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6705720" y="4800600"/>
            <a:ext cx="129528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6705720" y="5486400"/>
            <a:ext cx="129528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近 义 词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铺设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架设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崇高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高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蕴含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包含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辛劳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辛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飞速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飞快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闪耀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闪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茁壮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健壮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祝愿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祝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观赏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欣赏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思念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想念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心绪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心情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玩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游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别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离别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埋怨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责怪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宽慰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安慰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奔跑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快跑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涂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抹掉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烦恼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苦恼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酿造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酿制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如同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好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柔韧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柔软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闪耀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闪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明丽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明媚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尤其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特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600200" y="1295280"/>
            <a:ext cx="914400" cy="43992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581280" y="1295280"/>
            <a:ext cx="914400" cy="43992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562720" y="1295280"/>
            <a:ext cx="914400" cy="43992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543800" y="1295280"/>
            <a:ext cx="914400" cy="43992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600200" y="19051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581280" y="19051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562720" y="19051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7543800" y="19051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1600200" y="30481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3581280" y="30481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5562720" y="30481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7543800" y="30481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1600200" y="41911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3581280" y="41911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5562720" y="41911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7543800" y="419112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1600200" y="4800600"/>
            <a:ext cx="914400" cy="45720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3581280" y="480060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5562720" y="480060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7543800" y="4800600"/>
            <a:ext cx="914400" cy="43956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Text Box 24"/>
          <p:cNvSpPr/>
          <p:nvPr/>
        </p:nvSpPr>
        <p:spPr>
          <a:xfrm>
            <a:off x="1600200" y="5410080"/>
            <a:ext cx="914400" cy="43992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3581280" y="5410080"/>
            <a:ext cx="914400" cy="43992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Text Box 26"/>
          <p:cNvSpPr/>
          <p:nvPr/>
        </p:nvSpPr>
        <p:spPr>
          <a:xfrm>
            <a:off x="5562720" y="5410080"/>
            <a:ext cx="914400" cy="43992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7543800" y="5410080"/>
            <a:ext cx="914400" cy="43992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summit</cp:lastModifiedBy>
  <dcterms:modified xsi:type="dcterms:W3CDTF">2016-02-29T06:50:54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