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6.jpeg" ContentType="image/jpeg"/>
  <Override PartName="/ppt/media/image4.gif" ContentType="image/gif"/>
  <Override PartName="/ppt/media/image23.jpeg" ContentType="image/jpeg"/>
  <Override PartName="/ppt/media/image18.jpeg" ContentType="image/jpeg"/>
  <Override PartName="/ppt/media/camera.wav" ContentType="audio/x-wav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AAB-34AC-40FF-8F10-E0D99A7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6E2-2D6C-4C6D-B14A-0D67E26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3C1-4054-4AE7-BFD4-E738B802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ADB-CBB5-46CA-A97A-9E6EABFA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6D3-D01A-4881-803D-D58D1A6D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519-B91D-455B-A65B-551CBAA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43B-C819-4E73-B000-230C3C4A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241-ABFB-4287-BF8D-4C95282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4BE-7ACB-4727-96A7-8374183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9DD-A930-4FD2-9216-D8735C9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D9E-71E4-4059-9235-F7EE3C3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8DF-8C60-40D6-8F9A-A43E39CA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A0A-6927-4904-9A1B-11F70EE8C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4693680" y="2587680"/>
            <a:ext cx="6165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钓鱼的启示</a:t>
            </a:r>
            <a:endParaRPr b="0" i="1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16600" y="907920"/>
            <a:ext cx="237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钓到鱼的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492280"/>
            <a:ext cx="889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放好鱼饵     举起鱼竿     抛出钓线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溅起涟漪     鱼竿剧抖     大鱼上钩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心翼翼     熟练操纵     鱼跃不停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啪啪作响     筋疲力尽     拉鱼上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95200" y="-219240"/>
            <a:ext cx="9744120" cy="7305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2708280"/>
            <a:ext cx="792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我和父亲钓到鱼时高兴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啊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好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鱼！一条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从来没见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大鲈鱼！我和父亲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得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欣赏着这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漂亮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大鲈鱼，看着鱼鳃在银色的月光下轻轻翕动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74600" y="0"/>
            <a:ext cx="9318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98760" y="1197000"/>
            <a:ext cx="41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读课文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—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自然段（小组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37680" y="285264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找出父亲和儿子对话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5400" y="4581360"/>
            <a:ext cx="887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找出父亲与儿子心理变化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842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29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父亲和儿子对话的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鲈鱼看了好一会儿，然后把目光转向了我：“孩子，你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它放回湖里去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爸爸！为什么？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急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问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你还会钓到别的鱼的。”父亲平静地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可是不会钓到这么大的鱼了。”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声争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竟然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哭出了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249228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父亲与儿子心理变化的词语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又抬头看了一下四周，到处都是静悄悄的，皎洁的月光下看不见其他任何人的影子，我再次把乞求的目光投向了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48360" y="127080"/>
            <a:ext cx="219564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父亲那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容争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声音中，我清楚地知道，父亲的话是没有商量的余地的。我慢慢地把鱼钩从大鲈鱼的嘴唇上取下来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依依不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地把它放回到湖里去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49160" y="0"/>
            <a:ext cx="9315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1125360"/>
            <a:ext cx="31208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启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989000"/>
            <a:ext cx="633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道德只是个简单的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是与非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问题，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实践起来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却很难。把钓到的大鲈鱼放回湖中，一个人要是从小受到这样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严格的教育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话，就会获得道德实践的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勇气和力量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836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、就“钓鱼”这件事来说，什么是“是”，什么是“非”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3413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24415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3209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16000" y="836640"/>
            <a:ext cx="705636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就“钓鱼”这件事来说，什么是“是”，什么是“非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“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是”：对的，正确的，就是把（      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非”：错的，不正确的。就是把（        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13413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4415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209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836640"/>
            <a:ext cx="705636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就“钓鱼”这件事来说，什么是“是”，什么是“非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“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是”：对的，正确的，就是把钓到的大鲈鱼放回湖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非”：错的，不正确的。就是把钓到的大鲈鱼拿回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134136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24415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3209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2240" y="90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4440" y="2349360"/>
            <a:ext cx="44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想一想这篇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90840" y="378936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课文可以分成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272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“把鱼放回湖中”这是一个很简单的道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为什么”我”做起来却很困难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44152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209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1268280"/>
            <a:ext cx="88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“把鱼放回湖中”这是一个很简单的道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为什么”我”做起来却很困难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67160" y="244152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这条鱼是我好不容易钓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81000" y="320760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这条鲈鱼很大、很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4005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、当他钓到鱼的时候，周围没有人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412200"/>
            <a:ext cx="97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父亲不喜欢这条鱼吗？你是从哪儿看出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357280"/>
            <a:ext cx="7762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5751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412200"/>
            <a:ext cx="97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父亲不喜欢这条鱼吗？你是从哪儿看出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357280"/>
            <a:ext cx="7762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36910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34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得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1341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盯着看了好一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550800"/>
            <a:ext cx="979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080800"/>
            <a:ext cx="77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父亲既然那么喜欢这条鱼，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又一定要我放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96440" y="3345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144000" cy="710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550800"/>
            <a:ext cx="979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357280"/>
            <a:ext cx="7762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6920" y="1463760"/>
            <a:ext cx="55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因为距离开放捕捞鲈鱼的时间还有两个小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11640" y="692280"/>
            <a:ext cx="6476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24360" y="5475240"/>
            <a:ext cx="1382760" cy="1382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755640" y="907920"/>
            <a:ext cx="475308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”的心情变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198900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汇报交流，补充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师：在这个钓鱼、放鱼的过程中“我”的心理发生了哪些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当我钓到大鲈鱼时，我十分地（   ）；父亲要我把鱼放回湖里时，我感到十分地（    ）和（    ）；放鱼时（     ）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三十四年后，我从中得到了深刻启示，我对父亲充满了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328464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335772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211640" y="692280"/>
            <a:ext cx="6476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24360" y="5475240"/>
            <a:ext cx="1382760" cy="1382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55640" y="907920"/>
            <a:ext cx="475308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”的心情变化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198900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汇报交流，补充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师：在这个钓鱼、放鱼的过程中“我”的心理发生了哪些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当我钓到大鲈鱼时，我十分地（   ）；父亲要我把鱼放回湖里时，我感到十分地（    ）和（    ）；放鱼时（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依不舍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）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三十四年后，我从中得到了深刻启示，我对父亲充满了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328464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59640" y="335772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33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221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委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720" y="422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沮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42920" y="4869000"/>
            <a:ext cx="77724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221000"/>
            <a:ext cx="7058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1635120"/>
            <a:ext cx="1132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道德只是个简单的是与非的问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实践起来却很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85800" y="6094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在人生的旅途中，我却不止一次地遇到了与那条鲈</a:t>
            </a:r>
            <a:r>
              <a:rPr b="1" lang="zh-CN" sz="4800" spc="-1" strike="noStrike">
                <a:solidFill>
                  <a:srgbClr val="d60093"/>
                </a:solidFill>
                <a:latin typeface="隶书"/>
                <a:ea typeface="隶书"/>
              </a:rPr>
              <a:t>鱼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相似的诱惑人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d60093"/>
                </a:solidFill>
                <a:latin typeface="隶书"/>
                <a:ea typeface="隶书"/>
              </a:rPr>
              <a:t>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826400" y="6278400"/>
            <a:ext cx="79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主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486400" y="6248520"/>
            <a:ext cx="83808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228600" y="2209680"/>
            <a:ext cx="3048120" cy="3886200"/>
          </a:xfrm>
          <a:prstGeom prst="cloudCallout">
            <a:avLst>
              <a:gd name="adj1" fmla="val 42291"/>
              <a:gd name="adj2" fmla="val 61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62120" y="2712960"/>
            <a:ext cx="198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277f"/>
                </a:solidFill>
                <a:latin typeface="Arial"/>
              </a:rPr>
              <a:t>作者可能遇到什么</a:t>
            </a:r>
            <a:r>
              <a:rPr b="1" lang="en-US" sz="4400" spc="-1" strike="noStrike">
                <a:solidFill>
                  <a:srgbClr val="27277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27277f"/>
                </a:solidFill>
                <a:latin typeface="Arial"/>
              </a:rPr>
              <a:t>鱼</a:t>
            </a:r>
            <a:r>
              <a:rPr b="1" lang="en-US" sz="4400" spc="-1" strike="noStrike">
                <a:solidFill>
                  <a:srgbClr val="27277f"/>
                </a:solidFill>
                <a:latin typeface="Times New Roman"/>
              </a:rPr>
              <a:t>”</a:t>
            </a:r>
            <a:r>
              <a:rPr b="1" lang="en-US" sz="4400" spc="-1" strike="noStrike">
                <a:solidFill>
                  <a:srgbClr val="27277f"/>
                </a:solidFill>
                <a:latin typeface="Arial"/>
              </a:rPr>
              <a:t>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72200" y="2133720"/>
            <a:ext cx="2666880" cy="3809880"/>
          </a:xfrm>
          <a:prstGeom prst="wedgeEllipseCallout">
            <a:avLst>
              <a:gd name="adj1" fmla="val -52560"/>
              <a:gd name="adj2" fmla="val 62541"/>
            </a:avLst>
          </a:prstGeom>
          <a:solidFill>
            <a:srgbClr val="f9e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400800" y="3048120"/>
            <a:ext cx="243828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</a:rPr>
              <a:t>他为什么都能这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>
            <a:off x="3581280" y="2514600"/>
            <a:ext cx="2210040" cy="3200400"/>
          </a:xfrm>
          <a:prstGeom prst="wedgeRoundRectCallout">
            <a:avLst>
              <a:gd name="adj1" fmla="val -15444"/>
              <a:gd name="adj2" fmla="val 82092"/>
              <a:gd name="adj3" fmla="val 16667"/>
            </a:avLst>
          </a:prstGeom>
          <a:solidFill>
            <a:srgbClr val="e8e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733920" y="2819520"/>
            <a:ext cx="2057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e"/>
                </a:solidFill>
                <a:latin typeface="Arial"/>
              </a:rPr>
              <a:t>他每次都会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77336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课文回忆了“我”小时候（           ）的前一个晚上，和父亲去（  ）。好不容易钓到了一条（   ），父亲却要“我”把它（    ），父亲的（   ）让“我”从中获得了终生的（   ）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90972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人生的旅途中，我却不止一次地遇到了与那条鲈鱼相似的诱惑人的“鱼”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这“鱼”还是那诱惑人的鲈鱼吗？这诱惑人的“鱼”指的是什么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90972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这“鱼”还是那诱惑人的鲈鱼吗？这诱惑人的“鱼”指的是什么？</a:t>
            </a: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是指“鱼”。而是指在人生的成长过程中诱惑人的，让人心动的一些东西。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907236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想象“我”可能会遇到哪些诱惑人的“鱼”，会怎样对待这些诱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307520"/>
            <a:ext cx="806616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学校：考试，老师多给了分数，你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公共场所：买东西时，售货员多找了钱给你，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家路上 ，你拣到一件自己喜欢的玩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放学回家，游戏厅中传来你最爱玩得游戏声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4387200">
            <a:off x="7362000" y="927360"/>
            <a:ext cx="2160720" cy="18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议一议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comb dir="horz"/>
    <p:sndAc>
      <p:stSnd>
        <p:snd r:embed="rId6" name="camera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9152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</a:rPr>
              <a:t>小练笔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多年以后，作者登上了建筑设计的最高领奖台，当他拿起话筒，发表他的获奖感言时，他会说什么呢？请同学们写一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42920" y="4869000"/>
            <a:ext cx="77724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221000"/>
            <a:ext cx="7058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3213000"/>
            <a:ext cx="60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衡量真正的品德，是看他在知道没有人发觉的时候做些什么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孟德斯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1835280" y="907920"/>
            <a:ext cx="374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9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送你一句名言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888" t="0" r="0" b="7055"/>
          <a:stretch/>
        </p:blipFill>
        <p:spPr>
          <a:xfrm>
            <a:off x="252360" y="44280"/>
            <a:ext cx="88790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32000" y="1917720"/>
            <a:ext cx="3743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0920" y="1773360"/>
            <a:ext cx="56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课文回忆了“我”小时候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鲈鱼捕捞开放日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的前一个晚上，和父亲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去钓鱼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。好不容易钓到了一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大鲈鱼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，父亲却要“我”把它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放回湖里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，父亲的教育让“我”从中获得了终生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启示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楷体_GB2312"/>
              </a:rPr>
              <a:t>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240" y="-92160"/>
            <a:ext cx="9821880" cy="685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32240" y="90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66840" y="20606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课文可以分成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240" y="-92160"/>
            <a:ext cx="9821880" cy="6851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32240" y="90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34936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88880" y="2060640"/>
            <a:ext cx="28584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可以分成两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、我小时候和爸爸一起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         ）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二、爸爸的教育使我受到了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         ）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240" y="-20520"/>
            <a:ext cx="9821880" cy="6851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32240" y="90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阅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234936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35840" y="2060640"/>
            <a:ext cx="26434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可以分成两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、我小时候和爸爸一起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钓鱼的故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二、爸爸的教育使我受到了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终生的启示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0" y="5157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54600" y="981000"/>
            <a:ext cx="26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读课文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—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9080" y="2492280"/>
            <a:ext cx="24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、找出描写景色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19000" y="3789360"/>
            <a:ext cx="14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找一找作者是如何钓鱼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87520" y="5300640"/>
            <a:ext cx="10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找出我和父亲钓到鱼时高兴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8360" y="2852640"/>
            <a:ext cx="8316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描写景色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晚霞辉映的湖面上溅起了一圈圈彩色的涟漪。不一会儿，月亮升起来了，湖面变得银光闪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51:43Z</dcterms:created>
  <dc:creator>Administrator</dc:creator>
  <dc:description/>
  <dc:language>en-US</dc:language>
  <cp:lastModifiedBy/>
  <dcterms:modified xsi:type="dcterms:W3CDTF">2015-08-11T01:41:25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