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F7B-C961-422F-AAC8-683DDB81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7CD-E720-4B53-9613-EAFC658D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33A-325F-41E1-B4FB-66602616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BC3-D295-4BCD-966C-768390B7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279-0D3D-4159-8F71-F55BC1A1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FAD-9EC3-4EB3-8EBD-433526E1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C14-C1BE-499D-8AEC-3966FD1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892-BD8C-4B07-A428-DE0C8CEF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7D2-8F66-49F7-9C27-0380DE9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E16-F68D-413D-8AE9-83D54D0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F1D-46F5-4C4F-99E3-1DA1FC6D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BB7-3AD1-4EB4-A8C8-308546D7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1536-5DF2-4A36-B1D5-AEC64D2C3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image" Target="../media/image7.gif"/><Relationship Id="rId26" Type="http://schemas.openxmlformats.org/officeDocument/2006/relationships/image" Target="../media/image7.gif"/><Relationship Id="rId27" Type="http://schemas.openxmlformats.org/officeDocument/2006/relationships/image" Target="../media/image7.gif"/><Relationship Id="rId28" Type="http://schemas.openxmlformats.org/officeDocument/2006/relationships/image" Target="../media/image7.gif"/><Relationship Id="rId29" Type="http://schemas.openxmlformats.org/officeDocument/2006/relationships/image" Target="../media/image7.gi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7.gif"/><Relationship Id="rId34" Type="http://schemas.openxmlformats.org/officeDocument/2006/relationships/image" Target="../media/image7.gif"/><Relationship Id="rId35" Type="http://schemas.openxmlformats.org/officeDocument/2006/relationships/image" Target="../media/image7.gif"/><Relationship Id="rId36" Type="http://schemas.openxmlformats.org/officeDocument/2006/relationships/image" Target="../media/image7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7.gif"/><Relationship Id="rId42" Type="http://schemas.openxmlformats.org/officeDocument/2006/relationships/image" Target="../media/image7.gif"/><Relationship Id="rId43" Type="http://schemas.openxmlformats.org/officeDocument/2006/relationships/image" Target="../media/image7.gif"/><Relationship Id="rId44" Type="http://schemas.openxmlformats.org/officeDocument/2006/relationships/image" Target="../media/image7.gif"/><Relationship Id="rId45" Type="http://schemas.openxmlformats.org/officeDocument/2006/relationships/image" Target="../media/image7.gif"/><Relationship Id="rId46" Type="http://schemas.openxmlformats.org/officeDocument/2006/relationships/image" Target="../media/image7.gif"/><Relationship Id="rId47" Type="http://schemas.openxmlformats.org/officeDocument/2006/relationships/image" Target="../media/image7.gif"/><Relationship Id="rId48" Type="http://schemas.openxmlformats.org/officeDocument/2006/relationships/image" Target="../media/image7.gif"/><Relationship Id="rId49" Type="http://schemas.openxmlformats.org/officeDocument/2006/relationships/image" Target="../media/image7.gif"/><Relationship Id="rId50" Type="http://schemas.openxmlformats.org/officeDocument/2006/relationships/image" Target="../media/image7.gif"/><Relationship Id="rId51" Type="http://schemas.openxmlformats.org/officeDocument/2006/relationships/image" Target="../media/image7.gif"/><Relationship Id="rId52" Type="http://schemas.openxmlformats.org/officeDocument/2006/relationships/image" Target="../media/image7.gif"/><Relationship Id="rId53" Type="http://schemas.openxmlformats.org/officeDocument/2006/relationships/image" Target="../media/image7.gif"/><Relationship Id="rId54" Type="http://schemas.openxmlformats.org/officeDocument/2006/relationships/image" Target="../media/image7.gif"/><Relationship Id="rId55" Type="http://schemas.openxmlformats.org/officeDocument/2006/relationships/image" Target="../media/image7.gif"/><Relationship Id="rId56" Type="http://schemas.openxmlformats.org/officeDocument/2006/relationships/image" Target="../media/image7.gif"/><Relationship Id="rId5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5805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34360" y="549360"/>
            <a:ext cx="3106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3399"/>
                </a:solidFill>
                <a:latin typeface="Tahoma"/>
                <a:ea typeface="楷体_GB2312"/>
              </a:rPr>
              <a:t> </a:t>
            </a:r>
            <a:r>
              <a:rPr b="1" i="1" lang="zh-CN" sz="9600" spc="-1" strike="noStrike">
                <a:solidFill>
                  <a:srgbClr val="ff3399"/>
                </a:solidFill>
                <a:latin typeface="Tahoma"/>
                <a:ea typeface="楷体_GB2312"/>
              </a:rPr>
              <a:t>桂  花  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42196" t="0" r="0" b="0"/>
          <a:stretch/>
        </p:blipFill>
        <p:spPr>
          <a:xfrm>
            <a:off x="900000" y="404640"/>
            <a:ext cx="54738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2196" t="0" r="0" b="0"/>
          <a:stretch/>
        </p:blipFill>
        <p:spPr>
          <a:xfrm>
            <a:off x="755640" y="692280"/>
            <a:ext cx="3529080" cy="547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952880" y="1371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4572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下我可乐了，帮着在桂花树下铺竹席，帮着抱桂花树使劲地摇。桂花纷纷落下来，落得我们满头满身，我就喊：“啊！真像下雨！好香的雨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1211040" cy="3629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flipH="1">
            <a:off x="2677680" y="3657600"/>
            <a:ext cx="11638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67000" y="20574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121104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39640" y="333360"/>
            <a:ext cx="8280360" cy="621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28600" y="54864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295280" y="3429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181480" y="18288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553080" y="51814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1676520" y="4800600"/>
            <a:ext cx="121104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914400" y="426708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762120" y="4876920"/>
            <a:ext cx="121104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962520" y="11430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5867280" y="16002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105520" y="6858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5562720" y="18288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7086600" y="762120"/>
            <a:ext cx="121140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5486400" y="25909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4800600" y="12193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6172200" y="44197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1"/>
          <a:stretch/>
        </p:blipFill>
        <p:spPr>
          <a:xfrm>
            <a:off x="2514600" y="411480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2"/>
          <a:stretch/>
        </p:blipFill>
        <p:spPr>
          <a:xfrm>
            <a:off x="4648320" y="1676520"/>
            <a:ext cx="121104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3"/>
          <a:stretch/>
        </p:blipFill>
        <p:spPr>
          <a:xfrm>
            <a:off x="3200400" y="25909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4"/>
          <a:stretch/>
        </p:blipFill>
        <p:spPr>
          <a:xfrm>
            <a:off x="5334120" y="30481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5"/>
          <a:stretch/>
        </p:blipFill>
        <p:spPr>
          <a:xfrm>
            <a:off x="4057560" y="2590920"/>
            <a:ext cx="1211400" cy="1447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6"/>
          <a:stretch/>
        </p:blipFill>
        <p:spPr>
          <a:xfrm>
            <a:off x="2819520" y="52578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7"/>
          <a:stretch/>
        </p:blipFill>
        <p:spPr>
          <a:xfrm>
            <a:off x="3581280" y="3352680"/>
            <a:ext cx="1211400" cy="221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8"/>
          <a:stretch/>
        </p:blipFill>
        <p:spPr>
          <a:xfrm>
            <a:off x="3962520" y="57150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9"/>
          <a:stretch/>
        </p:blipFill>
        <p:spPr>
          <a:xfrm>
            <a:off x="7620120" y="426708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0"/>
          <a:stretch/>
        </p:blipFill>
        <p:spPr>
          <a:xfrm>
            <a:off x="4343400" y="838080"/>
            <a:ext cx="1211400" cy="121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1"/>
          <a:stretch/>
        </p:blipFill>
        <p:spPr>
          <a:xfrm>
            <a:off x="6553080" y="41148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2"/>
          <a:stretch/>
        </p:blipFill>
        <p:spPr>
          <a:xfrm>
            <a:off x="2590920" y="4343400"/>
            <a:ext cx="121104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3"/>
          <a:stretch/>
        </p:blipFill>
        <p:spPr>
          <a:xfrm>
            <a:off x="1752480" y="16765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4"/>
          <a:stretch/>
        </p:blipFill>
        <p:spPr>
          <a:xfrm>
            <a:off x="914400" y="23623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5"/>
          <a:stretch/>
        </p:blipFill>
        <p:spPr>
          <a:xfrm>
            <a:off x="0" y="37339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6"/>
          <a:stretch/>
        </p:blipFill>
        <p:spPr>
          <a:xfrm>
            <a:off x="1295280" y="5715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7"/>
          <a:stretch/>
        </p:blipFill>
        <p:spPr>
          <a:xfrm>
            <a:off x="380880" y="4572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8"/>
          <a:stretch/>
        </p:blipFill>
        <p:spPr>
          <a:xfrm>
            <a:off x="7162920" y="35053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9"/>
          <a:stretch/>
        </p:blipFill>
        <p:spPr>
          <a:xfrm>
            <a:off x="1905120" y="25909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0"/>
          <a:stretch/>
        </p:blipFill>
        <p:spPr>
          <a:xfrm>
            <a:off x="6732720" y="9810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1"/>
          <a:stretch/>
        </p:blipFill>
        <p:spPr>
          <a:xfrm>
            <a:off x="0" y="54864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2"/>
          <a:stretch/>
        </p:blipFill>
        <p:spPr>
          <a:xfrm>
            <a:off x="0" y="3429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3"/>
          <a:stretch/>
        </p:blipFill>
        <p:spPr>
          <a:xfrm>
            <a:off x="5715000" y="10666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4"/>
          <a:stretch/>
        </p:blipFill>
        <p:spPr>
          <a:xfrm>
            <a:off x="1371600" y="10666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5"/>
          <a:stretch/>
        </p:blipFill>
        <p:spPr>
          <a:xfrm>
            <a:off x="2362320" y="594360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6"/>
          <a:stretch/>
        </p:blipFill>
        <p:spPr>
          <a:xfrm>
            <a:off x="7932600" y="53341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7"/>
          <a:stretch/>
        </p:blipFill>
        <p:spPr>
          <a:xfrm>
            <a:off x="1905120" y="426708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8"/>
          <a:stretch/>
        </p:blipFill>
        <p:spPr>
          <a:xfrm>
            <a:off x="3886200" y="510552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9"/>
          <a:stretch/>
        </p:blipFill>
        <p:spPr>
          <a:xfrm>
            <a:off x="3352680" y="57150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0"/>
          <a:stretch/>
        </p:blipFill>
        <p:spPr>
          <a:xfrm>
            <a:off x="1523880" y="68580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1"/>
          <a:stretch/>
        </p:blipFill>
        <p:spPr>
          <a:xfrm>
            <a:off x="6477120" y="9907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2"/>
          <a:stretch/>
        </p:blipFill>
        <p:spPr>
          <a:xfrm>
            <a:off x="3657600" y="8380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3"/>
          <a:stretch/>
        </p:blipFill>
        <p:spPr>
          <a:xfrm>
            <a:off x="1143000" y="1523880"/>
            <a:ext cx="121140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4"/>
          <a:stretch/>
        </p:blipFill>
        <p:spPr>
          <a:xfrm>
            <a:off x="304920" y="23623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5"/>
          <a:stretch/>
        </p:blipFill>
        <p:spPr>
          <a:xfrm>
            <a:off x="324000" y="3357720"/>
            <a:ext cx="121104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6"/>
          <a:stretch/>
        </p:blipFill>
        <p:spPr>
          <a:xfrm>
            <a:off x="2590920" y="2057400"/>
            <a:ext cx="1857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42196" t="0" r="0" b="0"/>
          <a:stretch/>
        </p:blipFill>
        <p:spPr>
          <a:xfrm>
            <a:off x="468360" y="692280"/>
            <a:ext cx="3564000" cy="5530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52880" y="1371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4572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下我可乐了，帮着在桂花树下铺竹席，帮着抱桂花树使劲地摇。桂花纷纷落下来，落得我们满头满身，我就喊：“啊！真像下雨！好香的雨啊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78400" y="6858000"/>
            <a:ext cx="19652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marL="2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56880" y="981000"/>
            <a:ext cx="11552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细细秋风淡淡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1557360"/>
            <a:ext cx="1311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竞收桂子庆丰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37040" y="2637000"/>
            <a:ext cx="1701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儿童解得摇花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82680" y="3543480"/>
            <a:ext cx="17989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花雨缤纷入梦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42196" t="0" r="0" b="0"/>
          <a:stretch/>
        </p:blipFill>
        <p:spPr>
          <a:xfrm>
            <a:off x="900000" y="836640"/>
            <a:ext cx="359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桂花不与繁花斗艳，可是它的香气味儿真是迷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4952880"/>
            <a:ext cx="8762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年，整个村庄都沉浸在桂花香中。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2417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楷体_GB2312"/>
              </a:rPr>
              <a:t>桂花开得最茂盛时，不说香飘十里，至少前后左右十几家邻居，没有不浸在桂花香里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年，整个村庄都沉浸在桂花香中。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8754" t="0" r="40899" b="28237"/>
          <a:stretch/>
        </p:blipFill>
        <p:spPr>
          <a:xfrm>
            <a:off x="1619280" y="2637000"/>
            <a:ext cx="5508720" cy="3390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00800" y="647712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47712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647712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647712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-196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28240" y="2133360"/>
            <a:ext cx="8915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桂花，真叫我魂牵梦萦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——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琦君《桂花雨》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4920" y="-270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270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杭州有一处小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桂花树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开时那才是香飘十里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楷体_GB2312"/>
              </a:rPr>
              <a:t>桂花开得最茂盛时，不说香飘十里，至少前后左右十几家邻居，没有不浸在桂花香里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4134" t="0" r="0" b="8679"/>
          <a:stretch/>
        </p:blipFill>
        <p:spPr>
          <a:xfrm>
            <a:off x="1095480" y="406440"/>
            <a:ext cx="2847960" cy="1803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2720" y="1268280"/>
            <a:ext cx="66355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琦君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17-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200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现当代女作家。浙江永嘉人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4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赴台湾。出版散文集、小说集及儿童文学作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余种，如《烟愁》、《三更有梦书当枕》、《桂花雨》、《琴心》、《与我同车》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2360" y="333360"/>
            <a:ext cx="13701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作者点击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13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2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34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每到这时，我就会想起童年时代的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摇花乐</a:t>
            </a:r>
            <a:r>
              <a:rPr b="1" lang="en-US" sz="5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和那阵阵的桂花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　　　</a:t>
            </a:r>
            <a:r>
              <a:rPr b="1" lang="zh-CN" sz="3000" spc="-1" strike="noStrike">
                <a:solidFill>
                  <a:srgbClr val="800000"/>
                </a:solidFill>
                <a:latin typeface="_x000b__x000c_"/>
                <a:ea typeface="楷体_GB2312"/>
              </a:rPr>
              <a:t>每回我写到我的父母家人与师友，我都禁不住热泪盈眶，我忘不了他们对我的关爱，我也珍惜自己对他们的一份情，像花木草树似的，谁能没有根呢？我常常想，我若能忘掉亲人师友，忘掉童年，忘掉故乡，我若能不再哭，我宁愿搁下笔，此生永不再写。然而，这怎么可能呢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                                        ——</a:t>
            </a:r>
            <a:r>
              <a:rPr b="1" lang="zh-CN" sz="3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琦君《烟愁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16882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笨笨</a:t>
            </a:r>
            <a:r>
              <a:rPr b="1" lang="zh-CN" sz="1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拙拙</a:t>
            </a:r>
            <a:br>
              <a:rPr sz="10000"/>
            </a:br>
            <a:r>
              <a:rPr b="1" lang="zh-CN" sz="1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撮</a:t>
            </a: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点</a:t>
            </a:r>
            <a:br>
              <a:rPr sz="10000"/>
            </a:br>
            <a:r>
              <a:rPr b="1" lang="zh-CN" sz="1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</a:t>
            </a:r>
            <a:r>
              <a:rPr b="1" lang="zh-CN" sz="1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1800" y="10666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左右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尤</a:t>
            </a:r>
            <a:r>
              <a:rPr b="1" lang="zh-CN" sz="9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</a:t>
            </a:r>
            <a:r>
              <a:rPr b="1" lang="zh-CN" sz="9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拣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落    吩咐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助    糕饼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    桂花卤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檀香    口占一绝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“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”喜欢桂花吗？原因是什么？用自己的话简单说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141720" cy="325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3132000" y="3789360"/>
            <a:ext cx="2355840" cy="2832120"/>
            <a:chOff x="3132000" y="3789360"/>
            <a:chExt cx="2355840" cy="283212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132000" y="3789360"/>
              <a:ext cx="235584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 txBox="1"/>
            <p:nvPr/>
          </p:nvSpPr>
          <p:spPr>
            <a:xfrm>
              <a:off x="3132000" y="3789360"/>
              <a:ext cx="2355840" cy="283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rcRect l="4841" t="0" r="0" b="9014"/>
          <a:stretch/>
        </p:blipFill>
        <p:spPr>
          <a:xfrm>
            <a:off x="5796000" y="189000"/>
            <a:ext cx="3046320" cy="374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8051760" cy="2952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7621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摇桂花”对我是件大事，所以老是缠着母亲问：“妈，怎么还不摇桂花嘛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7621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摇桂花”对我是件大事，所以老是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缠着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问：“妈，怎么还不摇桂花嘛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00:48:17Z</dcterms:created>
  <dc:creator>Administrator</dc:creator>
  <dc:description/>
  <dc:language>en-US</dc:language>
  <cp:lastModifiedBy/>
  <dcterms:modified xsi:type="dcterms:W3CDTF">2015-08-20T02:12:34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