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373-41F5-4156-8431-8A13BD3A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FDD3-E293-4400-A757-8935AD40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D952-9564-4D64-A1B6-BCA67A76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7A0F-89F6-4994-8B3B-EF10ADCC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3847-D4B7-4D2C-AEAD-07C920C9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452B-DDE6-4D37-9685-89F52272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672E-18A0-460E-9B3D-484B8C24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BA53-657A-418B-AF73-48757AF7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6341-9895-4597-8354-9B4FD571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1F43-D8C9-4AAE-B716-2FB05136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8D2B-A565-4362-9070-2F3EBE55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A8F8-2FDD-4150-B8AC-877A4839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3296-90DD-4747-8E24-C3FE3C02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2F8E-95D4-46A3-BAE1-21C79780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F373-8DA4-4B0C-B757-743D641D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C241-0766-45DA-844F-9A677016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3266-ADA8-4FAB-B81D-85702F94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4908-11E1-44CA-A536-2E96FD2F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FEA9-7106-4477-962F-6276CB1F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328B-7929-4FF5-B947-10275F96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2EA7-10C1-434E-9DC7-432EDD7F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05DD-E9DD-4370-A342-9399734D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028E-05BF-4652-BC1A-56D6676A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98EC-2122-4758-8EF1-7A8EF4C6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40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84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88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84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84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84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E9F3-8129-4BB7-AA50-03CD0E2FC7A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84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84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7800" cy="6851520"/>
              <a:chOff x="552600" y="6480"/>
              <a:chExt cx="858780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8720" cy="110340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872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480" y="183384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872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880"/>
                <a:ext cx="1872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84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7117-23E4-4BD6-B9ED-959A8AB8E6A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../../jiaoshiji/Local Settings/Temp/Rar$DI00.937/&#36335;&#19978;.avi" TargetMode="External"/><Relationship Id="rId2" Type="http://schemas.openxmlformats.org/officeDocument/2006/relationships/hyperlink" Target="../../jiaoshiji/Local Settings/Temp/Rar$DI00.937/&#27934;&#21475;.avi" TargetMode="External"/><Relationship Id="rId3" Type="http://schemas.openxmlformats.org/officeDocument/2006/relationships/hyperlink" Target="../../jiaoshiji/Local Settings/Temp/Rar$DI00.937/&#22806;&#27934;.avi" TargetMode="External"/><Relationship Id="rId4" Type="http://schemas.openxmlformats.org/officeDocument/2006/relationships/hyperlink" Target="../../jiaoshiji/Local Settings/Temp/Rar$DI00.937/&#23380;&#38553;.avi" TargetMode="External"/><Relationship Id="rId5" Type="http://schemas.openxmlformats.org/officeDocument/2006/relationships/hyperlink" Target="../../jiaoshiji/Local Settings/Temp/Rar$DI00.937/&#20869;&#27934;1.avi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aike.baidu.com/view/2717.htm" TargetMode="External"/><Relationship Id="rId2" Type="http://schemas.openxmlformats.org/officeDocument/2006/relationships/hyperlink" Target="http://baike.baidu.com/view/176779.htm" TargetMode="External"/><Relationship Id="rId3" Type="http://schemas.openxmlformats.org/officeDocument/2006/relationships/hyperlink" Target="http://baike.baidu.com/view/587353.htm" TargetMode="External"/><Relationship Id="rId4" Type="http://schemas.openxmlformats.org/officeDocument/2006/relationships/hyperlink" Target="http://baike.baidu.com/view/1296405.ht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213372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ahoma"/>
              </a:rPr>
              <a:t>记金华的双龙洞</a:t>
            </a:r>
            <a:br>
              <a:rPr sz="6600"/>
            </a:b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作者 叶圣陶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315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自由读课文，说说作者游览了那几个主要景点？除此之外还写了哪些内容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试着画一画作者的游览路线图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这篇游记按游览顺序来写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路上——洞口——外洞——孔隙——内洞——出洞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另一条线索是溪流的路线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从“一路迎着溪流——那溪流就是从洞里出来的——泉水靠着洞口的右边往外流——在外洞找泉水的来路，原来从靠左边的石壁下方的孔隙流出——上源在深黑的石洞里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。”可以看出泉水流经的路线也是文章的线索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泉水从深黑的石洞——内洞——孔隙——外洞——洞口——山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9280" y="76500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　　４月１４日，我在浙江金华，游北山的双龙洞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　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思考题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叶圣陶爷爷在去双龙洞的路上看见了 什么景色？（请用：“﹏ ” 画出来）。　　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“明艳”是什么意思？为什么作者会感 到“眼前一片明艳”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 溪水为什么会变换调子？这里写溪水实际上是写什么？这溪水是从哪里流出来的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40464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　　出金华城大约五公里到罗甸，过了罗甸就渐渐入山。公路盘曲而上。山上开满了映山红，无论花朵和叶子，都比盆栽的杜鹃显得有精神。油桐也正开花，这儿一丛，那儿一簇，很不少。山上沙土呈粉红色，在别处似乎没有见过。粉红色的山，各色的映山红，再加上或浓或淡的新绿，眼前一片明艳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　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0"/>
            <a:ext cx="88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　　一路迎着溪流。随着山势，溪流时而宽，时而窄，时而缓，时而急，溪流声也时时变换调子。入山大约五公里就来到双龙洞口，那溪流就是从洞里出来的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作者是怎样描写的呢？请同学们认真阅读这段内容，看看作者在途中看到了什么？听到了什么？画出你喜欢的句子，反复读一读，体会作者当时的心情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　 </a:t>
            </a: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（</a:t>
            </a: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山上开满了映山红，无论花朵和叶子，都比盆栽的杜鹃显得精神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（</a:t>
            </a: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粉红色的山，各色的映山红，在加上或浓或淡的新绿，眼前一片明艳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（</a:t>
            </a: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随着山势，溪流时而宽，时而窄，时而缓，时而急，溪流声也时而变换调子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思考题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我们与叶圣陶爷爷游到外洞，必须干什么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 叶圣陶爷爷给我们介绍的小船是什么样的呢？叶圣陶爷爷是怎样乘船的？　　　　　　　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这小船是顺水而行，还是逆流而上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9280" y="3333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在洞口抬头望，山相当高，突兀森郁，很有气势。洞口像桥洞似的，很宽。走进去，仿佛到了个大会堂，周围是石壁，头上是高高的石顶，在那里聚集一千或是八百人开个会，一定不觉得拥挤。泉水靠着洞口的右边往外流。这是外洞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60948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　　在外洞找泉水的来路，原来从靠左边的石壁下方的孔隙流出。虽说是孔隙，可也容得下一只小船进出。怎样小的小船呢？两个人并排仰卧，刚合适，再没法容第三个人，是这样小的小船。船两头都系着绳子，管理处的工人先进内洞，在里边拉绳子，船就进去，在外洞的工人拉另一头的绳子，船就出来。我怀着好奇的心情独个儿仰卧在小船里，自以为从后脑到肩背，到臀部，到脚跟，没有一处不贴着船底了，才说一声“行了”，船就慢慢移动。眼前昏暗了，可是还能感觉左右和上方的山石似乎都在朝我挤压过来。我又感觉要是把头稍微抬起一点儿，准会撞破额角，擦伤鼻子。大约行了二三丈的水程吧，就登陆了，这就到了内洞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　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183276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双龙洞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，位于金华北山西北麓，离城约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公里，海拔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20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米。它的特点是“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洞中有洞洞中泉，欲觅泉源卧小船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”。千百年来人们誉为“水石奇观”。双龙洞由内洞和外洞组成，外洞面积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200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平方米，可容千人，洞中常年温度约在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摄氏度左右。一进洞口可见宋代书法家吴琳手书的“洞天”二字。洞口两侧上端悬有两个钟乳石“龙头”，形象逼真。外洞洞底平坦，洞内石壁上钟乳石和石笋纵横交错，有的形似珍禽异兽，其中还有一黄色钟乳石，高达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米，如飞瀑倾泻，人们称之谓“石瀑”。外洞东壁下有个小穴，内有清泉溢出，泉水清凉甘洌。从外洞进入内洞须经此小穴逆水而行，洞穴宽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米余，仅容两只小船并行进出，水面离穴顶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余厘米，欲进入内洞，必须平卧船中，仰面擦崖而过，饶有异趣，古人有“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千尺横梁压水低，轻舟仰卧入口溪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”之句。船行约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余米就进入内洞，内洞面积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000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多平方米，洞底崎岖不平，洞顶高低起伏，洞内钟乳石、石笋比比皆是，奇形怪状，灯光辉映，宛若置身于“水晶龙宫”。游完内洞，折返外洞，可以从外洞东南角一名为“龙耳”的小洞出去，再折向东北拾级而上，经赤松亭至冰壶洞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38088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虽说是孔隙，可也容得下一只小船进出。怎样小的小船呢？两个人并排仰卧，刚合适，再没法容第三个人，是这样小的小船。船两头都系着绳子，管理处的工人先进内洞，在里边拉绳子，船就进去。在外洞的工人拉另一头的绳子，船就出来。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23623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17524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并排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1752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95200" y="4419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42600" y="3733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8200" y="2362320"/>
            <a:ext cx="134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小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77480" y="17524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再没法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080" y="11430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眼前昏暗了，可是还能感觉左右和上方的山石似乎都在朝我挤压过来。我又感觉要是把头稍微抬起一点儿，准会撞破额角，擦伤鼻子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260496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挤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335268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稍微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405288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准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3049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内外洞有石屏相隔，仅通水道，长十余米，宽三米多。内外洞的相隔与相通，形成了双龙洞最鲜明的特色。古诗有云：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洞中有洞洞中泉，欲觅泉源卧小船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。”如欲观赏，惟有平卧小舟，仰面擦崖逆水而入，不得稍有抬头，有惊而无险，妙趣横生，堪称游览方式之一绝，有“水石奇观”之誉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孔隙”的特点是“窄、矮、险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。从以下几方面可以看出来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　　（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）船大小的描写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　　（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）对进洞方式的描写　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）对自己感受的描写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9718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）我怀着好奇的心情独个儿仰卧在小船里，自以为从后脑到肩背，到臀部，到脚跟，没有一处不贴着船底了，才说了一声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好了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，船就慢慢移动。</a:t>
            </a:r>
            <a:br>
              <a:rPr sz="4000"/>
            </a:br>
            <a:r>
              <a:rPr b="1" lang="zh-CN" sz="4000" spc="-1" strike="noStrike">
                <a:solidFill>
                  <a:srgbClr val="eaeaea"/>
                </a:solidFill>
                <a:latin typeface="Tahoma"/>
              </a:rPr>
              <a:t>　　</a:t>
            </a:r>
            <a:r>
              <a:rPr b="0" lang="zh-CN" sz="4000" spc="-1" strike="noStrike">
                <a:solidFill>
                  <a:srgbClr val="eaeaea"/>
                </a:solidFill>
                <a:latin typeface="Tahoma"/>
              </a:rPr>
              <a:t>（</a:t>
            </a: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eaeaea"/>
                </a:solidFill>
                <a:latin typeface="Tahoma"/>
              </a:rPr>
              <a:t>）眼前昏暗了可是还能感觉左右和上方的山石都在朝我挤压过来。我又感觉要是把头稍微抬起一点儿，准会撞破额角，擦伤鼻子。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04920" y="838080"/>
            <a:ext cx="861048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楷体_GB2312"/>
              </a:rPr>
              <a:t>孔隙一段的写作特点</a:t>
            </a:r>
            <a:r>
              <a:rPr b="1" lang="zh-CN" sz="6600" spc="-1" strike="noStrike">
                <a:solidFill>
                  <a:srgbClr val="0066ff"/>
                </a:solidFill>
                <a:latin typeface="Arial"/>
                <a:ea typeface="隶书"/>
              </a:rPr>
              <a:t>：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通过描写船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小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及作者的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感受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写出孔隙的特点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（借其他事物描写本事物）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　　内洞一团漆黑，什么都看不见。工人提着汽油灯，也只能照见小小的一块地方，余外全是昏暗，不知道有多么宽广。工人高高举起汽油灯，逐一指点洞内的景物。首先当然是蜿蜒在洞顶的双龙，一条黄龙，一条青龙。我顺着他的指点看，有点儿像。其次是些石钟乳和石笋，这是什么，那是什么，大都依据形状想象成神仙、动物以及宫室、器用，名目有四十多。这些石钟乳和石笋，形状变化多端，再加上颜色各异，即使不比作什么，也很值得观赏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　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00000" y="1773360"/>
            <a:ext cx="76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些石钟乳和石笋，形状变化多端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再加上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颜色各异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即使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不比做什么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也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很值得观赏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42920" y="4653000"/>
            <a:ext cx="734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些石钟乳和石笋，形状变化多端，颜色各异，很值得观赏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836640"/>
            <a:ext cx="419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6600"/>
                </a:solidFill>
                <a:latin typeface="Times New Roman"/>
                <a:ea typeface="黑体"/>
              </a:rPr>
              <a:t>比较感悟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722160"/>
            <a:ext cx="80010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洞内钟乳石、石笋众多，造型奇特，布局巧妙，有“黄龙吐水”、“倒挂金钟”、“彩云遮月”、“天马行空”、“海龟探海”、“龟蛇共生”、“青蛙盗仙草”、“寿星与仙桃”…… 幻化多变，使人目不暇接，宛若置身水晶龙宫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50920" y="189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　　在洞里走了一转，觉得内洞比外洞大得多，大概有十来进房子那么大。泉水靠着右边缓缓地流，声音轻轻的。上源在深黑的石洞里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8991360" cy="59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8360" y="1989000"/>
            <a:ext cx="82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　　我排队等候，又仰卧在小船里，出了洞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7720" y="914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你最想了解哪个景点？选择其一，进行小组合作学习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教师提供自学提示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这个景点有什么特点？自己是从哪些语句看出来的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作者的感受是什么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你能通过朗读来表现景物的特点和作者的感受吗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-360" y="9144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  <a:ea typeface="黑体"/>
              </a:rPr>
              <a:t>⑴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  <a:ea typeface="黑体"/>
              </a:rPr>
              <a:t>课题中的“记”是什么意思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黑体"/>
              </a:rPr>
              <a:t>“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黑体"/>
              </a:rPr>
              <a:t>记”即记录之意，记的是游览的经过情形。本文是一篇游记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0880" y="304920"/>
            <a:ext cx="82296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写好游记应做到：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按游览顺序记叙，适当运用过渡句，使文章条理清楚，结构严谨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抓住景物特点进行具体细致的描写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在对景物的描写中，表达自己的真实感受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9144000" cy="666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、文中写洞中双龙的句子有哪些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这是“双龙洞”名称的由来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作者是按怎样的顺序游览双龙洞的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游览顺序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他是按照怎样的顺序游览双龙洞的呢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理清线索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洞口→外洞→孔隙→内洞→出洞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过渡句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29600" cy="54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出金华城大约五公里到罗店，过了罗店就渐渐入山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入山大约五公里就来到双龙洞口，那溪流就是从洞里出来的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泉水靠着洞口的右边往外流。这是外洞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在外洞找泉水的来路，原来从靠左边的石壁下方的孔隙流出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大约行了二三丈的水程吧，就登陆了，这就到了内洞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体会过渡句的作用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从课文中找到这些句子，并画下来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联系上下文体会这些句子在课文中的作用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这些过渡句是靠什么线索串连在一起的。（溪水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关联词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无论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花朵和叶子，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都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比盆栽的杜鹃显得有精神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虽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说是孔隙，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可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也容得下一只小船进出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即使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不比作什么，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也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很值得观赏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286000" y="609480"/>
            <a:ext cx="4038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尝试当个小导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057400"/>
            <a:ext cx="160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cc"/>
                </a:solidFill>
                <a:uFillTx/>
                <a:latin typeface="Times New Roman"/>
                <a:ea typeface="方正舒体"/>
                <a:hlinkClick r:id="rId1"/>
              </a:rPr>
              <a:t>路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09680" y="2590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2438280"/>
            <a:ext cx="160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cc"/>
                </a:solidFill>
                <a:uFillTx/>
                <a:latin typeface="Times New Roman"/>
                <a:ea typeface="方正舒体"/>
                <a:hlinkClick r:id="rId2"/>
              </a:rPr>
              <a:t>洞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2971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43400" y="2743200"/>
            <a:ext cx="1447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cc"/>
                </a:solidFill>
                <a:uFillTx/>
                <a:latin typeface="Times New Roman"/>
                <a:ea typeface="方正舒体"/>
                <a:hlinkClick r:id="rId3"/>
              </a:rPr>
              <a:t>外洞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33526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5880" y="3124080"/>
            <a:ext cx="1295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cc"/>
                </a:solidFill>
                <a:uFillTx/>
                <a:latin typeface="Times New Roman"/>
                <a:ea typeface="方正舒体"/>
                <a:hlinkClick r:id="rId4"/>
              </a:rPr>
              <a:t>孔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8880" y="35812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0120" y="3352680"/>
            <a:ext cx="1752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cc"/>
                </a:solidFill>
                <a:uFillTx/>
                <a:latin typeface="Times New Roman"/>
                <a:ea typeface="方正舒体"/>
                <a:hlinkClick r:id="rId5"/>
              </a:rPr>
              <a:t>内洞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94920" y="1600200"/>
            <a:ext cx="723924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叶圣陶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894-1988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）原名叶绍钧，</a:t>
            </a:r>
            <a:r>
              <a:rPr b="0" lang="zh-CN" sz="4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汉族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人。字圣陶。江苏苏州市人，著名</a:t>
            </a:r>
            <a:r>
              <a:rPr b="0" lang="zh-CN" sz="4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作家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zh-CN" sz="4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教育家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、编辑家、出版家和</a:t>
            </a:r>
            <a:r>
              <a:rPr b="0" lang="zh-CN" sz="44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社会活动家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76212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ahoma"/>
                <a:ea typeface="方正楷体简体"/>
              </a:rPr>
              <a:t>甸   鹃   桐    臀   笋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22096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楷体简体"/>
                <a:ea typeface="方正楷体简体"/>
              </a:rPr>
              <a:t>缅甸   杜鹃    梧桐     臀部    竹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4191120"/>
            <a:ext cx="1143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ahoma"/>
                <a:ea typeface="方正楷体简体"/>
              </a:rPr>
              <a:t>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ahoma"/>
                <a:ea typeface="方正楷体简体"/>
              </a:rPr>
              <a:t>捐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4191120"/>
            <a:ext cx="1600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ahoma"/>
                <a:ea typeface="方正楷体简体"/>
              </a:rPr>
              <a:t>铜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ahoma"/>
                <a:ea typeface="方正楷体简体"/>
              </a:rPr>
              <a:t>筒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38680" y="419112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ahoma"/>
                <a:ea typeface="方正楷体简体"/>
              </a:rPr>
              <a:t>殿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41911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ahoma"/>
                <a:ea typeface="方正楷体简体"/>
              </a:rPr>
              <a:t>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多音字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zhuǎn(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转折</a:t>
            </a: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转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zhuàn(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一转</a:t>
            </a: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144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qū</a:t>
            </a: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（弯曲）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曲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qǔ</a:t>
            </a: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（歌曲）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diào</a:t>
            </a: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（调子）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调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tiáo </a:t>
            </a: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（调节）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106668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4724280"/>
            <a:ext cx="76320" cy="1143000"/>
          </a:xfrm>
          <a:custGeom>
            <a:avLst/>
            <a:gdLst>
              <a:gd name="textAreaLeft" fmla="*/ 48960 w 76320"/>
              <a:gd name="textAreaRight" fmla="*/ 7632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8080" y="609480"/>
            <a:ext cx="78487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方正楷体简体"/>
              </a:rPr>
              <a:t>罗甸   盘曲而上   杜鹃   油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方正楷体简体"/>
              </a:rPr>
              <a:t>一簇   或浓或淡   明艳   溪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方正楷体简体"/>
              </a:rPr>
              <a:t>时而   突兀森郁   聚集   拥挤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方正楷体简体"/>
              </a:rPr>
              <a:t>孔隙   并排仰卧   臀部   稍微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方正楷体简体"/>
              </a:rPr>
              <a:t>撞破    一团漆黑    额角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方正楷体简体"/>
              </a:rPr>
              <a:t>蜿蜒   变化多端   石笋   石钟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《记金华的双龙洞》这篇游记记叙了作者游览</a:t>
            </a:r>
            <a:br>
              <a:rPr sz="3200"/>
            </a:b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             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的经过。课文按照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             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，依次写了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 去                      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、游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                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、由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           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进入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            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、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             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的所见所闻所感以及乘船出洞的情况。写了路上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           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的景色、欢唱的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          </a:t>
            </a: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 ，外洞的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                   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，内外洞连接处孔隙的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、内洞的“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、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、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        </a:t>
            </a: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”。课文以游览的顺序和泉水流经的路线为线索，观察仔细，描写形象生动，景物特点鲜明；叙述详略得当，详写了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        </a:t>
            </a: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 、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         </a:t>
            </a:r>
            <a:r>
              <a:rPr b="1" lang="zh-CN" sz="3200" spc="-1" strike="noStrike">
                <a:solidFill>
                  <a:srgbClr val="eaeaea"/>
                </a:solidFill>
                <a:latin typeface="Tahoma"/>
              </a:rPr>
              <a:t>风貌，突出了双龙洞的特色，表达了作者对祖国秀丽山河的热爱。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金华双龙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1066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游览顺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523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金华双龙洞的路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1523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外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1523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外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内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2057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游内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514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明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溪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宽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窄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4876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孔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6708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内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9T02:10:28Z</dcterms:created>
  <dc:creator>Administrator</dc:creator>
  <dc:description/>
  <dc:language>en-US</dc:language>
  <cp:lastModifiedBy/>
  <dcterms:modified xsi:type="dcterms:W3CDTF">2015-08-20T02:16:10Z</dcterms:modified>
  <cp:revision>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