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914-02C2-4ABF-9C0B-0403C3C0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3BC2-ACA6-4DF9-803C-E2D3068C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2505-B6AD-4DB1-9234-15A331DA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30A-893D-4E1F-AAB8-B0E1BBF3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5217-433F-4660-8CE6-E405B4D1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B1B-27D1-47E8-9844-7297F63D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5CA-8379-4FE4-B31B-6872A7E0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55C0-75D9-468E-B874-4031887B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DCE-19B2-4779-8C7F-F20BAD83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FC35-E0FC-4F7D-A8CD-5AF3AFA5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1C0-A122-4091-AD02-39D4C0AE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D956-3AB0-421D-B211-64396692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0B33-7CB8-4BA0-94F7-5CDADC7FA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83320" cy="6427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81080" y="23623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新魏"/>
              </a:rPr>
              <a:t>井底之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1876" b="3206"/>
          <a:stretch/>
        </p:blipFill>
        <p:spPr>
          <a:xfrm>
            <a:off x="76320" y="152280"/>
            <a:ext cx="8972280" cy="66391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426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13263" r="8364" b="4803"/>
          <a:stretch/>
        </p:blipFill>
        <p:spPr>
          <a:xfrm>
            <a:off x="152280" y="304920"/>
            <a:ext cx="8587080" cy="58068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823160" cy="58672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0" r="-18" b="1814"/>
          <a:stretch/>
        </p:blipFill>
        <p:spPr>
          <a:xfrm>
            <a:off x="230040" y="230040"/>
            <a:ext cx="8535960" cy="62852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6683" r="4931" b="5359"/>
          <a:stretch/>
        </p:blipFill>
        <p:spPr>
          <a:xfrm>
            <a:off x="304920" y="304920"/>
            <a:ext cx="8692920" cy="62341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807" t="0" r="0" b="3199"/>
          <a:stretch/>
        </p:blipFill>
        <p:spPr>
          <a:xfrm>
            <a:off x="449280" y="380880"/>
            <a:ext cx="8315280" cy="6086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61164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83320" cy="62881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304920"/>
            <a:ext cx="82296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夸耀    攀援    环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疲倦    浸没    两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邀请    辽阔    乐趣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渺小    旱涝    窟窿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倚井栏      瞠目结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896" t="0" r="0" b="5413"/>
          <a:stretch/>
        </p:blipFill>
        <p:spPr>
          <a:xfrm>
            <a:off x="609480" y="380880"/>
            <a:ext cx="8096400" cy="60548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40880" cy="66308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88240" cy="65534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11235" r="6766" b="6024"/>
          <a:stretch/>
        </p:blipFill>
        <p:spPr>
          <a:xfrm>
            <a:off x="380880" y="304920"/>
            <a:ext cx="8526600" cy="58640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77" t="8035" r="0" b="0"/>
          <a:stretch/>
        </p:blipFill>
        <p:spPr>
          <a:xfrm>
            <a:off x="-152280" y="380880"/>
            <a:ext cx="9278640" cy="63072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965240" y="2612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572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千里之遥，不能形容海的辽阔；千仞之高，不足以形容海的深度。夏禹时代，十年九涝，海面却没因此增高；商汤时代，八年七旱，海岸也没因缺雨而降低。大海不随着时间的推移而发生变化，不因为水增多减少而或进或退，这也可以说是生活在东海的大快乐吧。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1295280"/>
            <a:ext cx="7086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浅井之蛙听了这些话，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瞠目结舌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，觉得自己非常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渺小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772400" y="548640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43000" y="152388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这个寓言故事讽刺了那些见识短浅又骄傲自大的人。人们常把这种人比作“井底之蛙”，把目光短浅的见解称为“井蛙只见” 。还有一个歇后语叫“井里的蛤蟆—不知天高地厚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876" b="7946"/>
          <a:stretch/>
        </p:blipFill>
        <p:spPr>
          <a:xfrm>
            <a:off x="0" y="228600"/>
            <a:ext cx="9064800" cy="6313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47920" y="1371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跳进井水中，井水刚刚浸没我的两腋，托住下巴；稀泥没过我的双脚，绵软舒适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3886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环顾那些虾、蟹、蝌蚪，没有谁能像我这样快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6880" y="304920"/>
            <a:ext cx="6248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住在浅井中的青蛙对来自东海的鳖（    ）说：“我在（    ）生活真快活！”鳖向青蛙介绍了（    ）的景观，青蛙听了后，觉得自己（     ）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80880" y="-304920"/>
            <a:ext cx="9829800" cy="7391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90720" y="160164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这是一只怎样的青蛙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生活在这里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活！高兴时，我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井外，攀缘栏杆，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尽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蹦跳。疲倦了，我回到井中，躲在井壁窟窿里，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安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休息。跳进井水中，井水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刚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浸没我的两腋，托住下巴；稀泥没过我的双脚，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绵软舒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环顾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些虾、蟹、蝌蚪，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没有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像我这样快活。而且，我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独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口水井，跨井栏、倚井栏的乐趣，算是到了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极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你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何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来跟我一起分享这些快乐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80880" y="-304920"/>
            <a:ext cx="9829800" cy="7391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038480" y="1143000"/>
            <a:ext cx="5105520" cy="3048120"/>
          </a:xfrm>
          <a:prstGeom prst="cloudCallout">
            <a:avLst>
              <a:gd name="adj1" fmla="val -47481"/>
              <a:gd name="adj2" fmla="val 64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井底之蛙对东海之鳖（       ）地说：“我生活在这里真快活！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890" b="4945"/>
          <a:stretch/>
        </p:blipFill>
        <p:spPr>
          <a:xfrm>
            <a:off x="76320" y="152280"/>
            <a:ext cx="9061200" cy="6519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08040" y="-604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228600"/>
            <a:ext cx="8991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用千里之遥，不能形容海的辽阔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千仞之高，不足以形容海的深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945" b="2464"/>
          <a:stretch/>
        </p:blipFill>
        <p:spPr>
          <a:xfrm>
            <a:off x="0" y="0"/>
            <a:ext cx="9058320" cy="6689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2120" y="152280"/>
            <a:ext cx="7924680" cy="35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夏禹时代，十年九涝，海面却没因此增高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商汤时代，八年七旱，海岸也没因缺雨而降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大海不随着时间的推移而发生变化，不因为水增多减少而或进或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6T03:33:58Z</dcterms:created>
  <dc:creator>Administrator</dc:creator>
  <dc:description/>
  <dc:language>en-US</dc:language>
  <cp:lastModifiedBy/>
  <dcterms:modified xsi:type="dcterms:W3CDTF">2015-08-11T02:49:00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