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B132-5ACA-42F3-BC44-B716C2836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B16E-9A7A-48E1-B91E-8093FD29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E87-C18A-4D0A-97F8-37A76731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8CF2-467D-4764-A9F5-2D8FE307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E5DEC-CCC0-4FC3-BEA5-8359E86A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694AF-64A9-49B6-94DC-905621A1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C6702-008F-4CB3-BD11-08126254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490F3-81D9-4916-BDC9-BB658319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0675E-23EE-41B7-BC9E-2688D3BE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5CEAC-A402-4CED-94CF-06D82EE7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2ED70-E4E8-4942-9F93-6D983405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15F6-4A57-4830-A30C-878134BF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483E3-C3B7-4807-9543-B717BFFF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25538-9CF1-4ED9-A2BC-AAC922DA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A5D54-5A85-42FB-9BA7-B6B1D1AB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F7069-8249-47F8-B8CD-94F36238C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F6733-BE4D-44BC-94A2-2F4D1BDE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B00F-E028-469F-B17B-955B67D4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3BF-EAC0-4D09-B835-DEA06C53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20DF-F11B-4564-9221-48521D5C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49D-70DE-4259-B320-AFFFFCDA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69DF-8FE5-4305-AD24-489C73AE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3B9-0C92-45BB-B4BA-BB4860BF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FCDD-D770-4B9F-B400-FA937982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24E7-DDE2-4E1B-BF42-1F01B153C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BD326-6177-41D5-B309-37FFFF4EEA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e3e3ff"/>
                </a:solidFill>
                <a:latin typeface="黑体"/>
                <a:ea typeface="黑体"/>
              </a:rPr>
              <a:t>夸父追日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3" name="内容占位符 3" descr="bab348091b719e2494ca6b62.jpg"/>
          <p:cNvPicPr/>
          <p:nvPr/>
        </p:nvPicPr>
        <p:blipFill>
          <a:blip r:embed="rId1"/>
          <a:stretch/>
        </p:blipFill>
        <p:spPr>
          <a:xfrm>
            <a:off x="571680" y="1357200"/>
            <a:ext cx="78580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1485720"/>
            <a:ext cx="828036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        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就这样，盘古以他的神力和身躯，开辟了天地，化生出世间万物。</a:t>
            </a:r>
            <a:r>
              <a:rPr b="0" lang="zh-CN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天和地分开后，盘古就头顶天，脚踏地，站在天地当中，随着它们的变化而变化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6616800" y="1628640"/>
            <a:ext cx="25272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540720" cy="43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轻而清的东西冉冉上升，变成了天；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重而浊的东西慢慢下沉，变成了地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0" y="1844640"/>
            <a:ext cx="93672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重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116000" y="1844640"/>
            <a:ext cx="93672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4456080" y="1844640"/>
            <a:ext cx="151308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上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下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7812000" y="1844640"/>
            <a:ext cx="93672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0" y="4076640"/>
            <a:ext cx="826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1116000" y="4221000"/>
            <a:ext cx="82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4629240" y="4076640"/>
            <a:ext cx="1152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7812000" y="4005360"/>
            <a:ext cx="827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3346560" y="1844640"/>
            <a:ext cx="151272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冉冉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慢慢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3348000" y="4005360"/>
            <a:ext cx="1152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蓝天和云朵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468360" y="3333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口中呼出的气变成了风和云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发出的声音变成了轰隆的雷霆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左眼变成了光芒万丈的太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右眼变成了皎洁明媚的月亮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隆起的肌肉变成了三山五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流淌的血液变成了奔腾的江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筋脉变成了纵横交错的大道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皮肤变成了万顷良田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就连流出的汗水也变成了滋润万物的雨露甘霖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雷电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468360" y="3333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口中呼出的气变成了风和云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发出的声音变成了轰隆的雷霆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左眼变成了光芒万丈的太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右眼变成了皎洁明媚的月亮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隆起的肌肉变成了三山五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流淌的血液变成了奔腾的江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筋脉变成了纵横交错的大道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皮肤变成了万顷良田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就连流出的汗水也变成了滋润万物的雨露甘霖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日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468360" y="3333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口中呼出的气变成了风和云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发出的声音变成了轰隆的雷霆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左眼变成了光芒万丈的太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右眼变成了皎洁明媚的月亮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隆起的肌肉变成了三山五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流淌的血液变成了奔腾的江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筋脉变成了纵横交错的大道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皮肤变成了万顷良田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就连流出的汗水也变成了滋润万物的雨露甘霖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月亮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468360" y="3333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口中呼出的气变成了风和云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发出的声音变成了轰隆的雷霆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左眼变成了光芒万丈的太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右眼变成了皎洁明媚的月亮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隆起的肌肉变成了三山五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流淌的血液变成了奔腾的江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筋脉变成了纵横交错的大道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皮肤变成了万顷良田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就连流出的汗水也变成了滋润万物的雨露甘霖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山岭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0" y="10666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68360" y="3333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口中呼出的气变成了风和云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发出的声音变成了轰隆的雷霆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左眼变成了光芒万丈的太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右眼变成了皎洁明媚的月亮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隆起的肌肉变成了三山五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流淌的血液变成了奔腾的江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筋脉变成了纵横交错的大道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皮肤变成了万顷良田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就连流出的汗水也变成了滋润万物的雨露甘霖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金沙江虎跳峡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"/>
          <p:cNvSpPr/>
          <p:nvPr/>
        </p:nvSpPr>
        <p:spPr>
          <a:xfrm>
            <a:off x="152280" y="4191120"/>
            <a:ext cx="6324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468360" y="3333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口中呼出的气变成了风和云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发出的声音变成了轰隆的雷霆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左眼变成了光芒万丈的太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右眼变成了皎洁明媚的月亮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隆起的肌肉变成了三山五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流淌的血液变成了奔腾的江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筋脉变成了纵横交错的大道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皮肤变成了万顷良田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就连流出的汗水也变成了滋润万物的雨露甘霖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阡陌纵横的道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468360" y="3333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口中呼出的气变成了风和云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发出的声音变成了轰隆的雷霆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左眼变成了光芒万丈的太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右眼变成了皎洁明媚的月亮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隆起的肌肉变成了三山五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流淌的血液变成了奔腾的江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筋脉变成了纵横交错的大道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皮肤变成了万顷良田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就连流出的汗水也变成了滋润万物的雨露甘霖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3e3ff"/>
                </a:solidFill>
                <a:latin typeface="黑体"/>
                <a:ea typeface="黑体"/>
              </a:rPr>
              <a:t>女娲补天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1000080" y="1785960"/>
            <a:ext cx="74073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平原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468360" y="3333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口中呼出的气变成了风和云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发出的声音变成了轰隆的雷霆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左眼变成了光芒万丈的太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右眼变成了皎洁明媚的月亮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隆起的肌肉变成了三山五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流淌的血液变成了奔腾的江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筋脉变成了纵横交错的大道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皮肤变成了万顷良田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就连流出的汗水也变成了滋润万物的雨露甘霖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雨露甘霖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228600" y="457200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0" y="3962520"/>
            <a:ext cx="693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68360" y="3333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口中呼出的气变成了风和云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发出的声音变成了轰隆的雷霆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左眼变成了光芒万丈的太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右眼变成了皎洁明媚的月亮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隆起的肌肉变成了三山五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流淌的血液变成了奔腾的江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筋脉变成了纵横交错的大道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皮肤变成了万顷良田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就连流出的汗水也变成了滋润万物的雨露甘霖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468360" y="3333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口中呼出的气变成了风和云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发出的声音变成了轰隆的雷霆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左眼变成了光芒万丈的太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右眼变成了皎洁明媚的月亮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隆起的肌肉变成了三山五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流淌的血液变成了奔腾的江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筋脉变成了纵横交错的大道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皮肤变成了万顷良田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就连流出的汗水也变成了滋润万物的雨露甘霖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468360" y="3333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口中呼出的气变成了风和云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发出的声音变成了轰隆的雷霆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左眼变成了光芒万丈的太阳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右眼变成了皎洁明媚的月亮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隆起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肌肉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变成了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奔腾的江河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流淌的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血液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变成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山五岳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筋脉变成了纵横交错的大道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皮肤变成了万顷良田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就连流出的汗水也变成了滋润万物的雨露甘霖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5"/>
          <p:cNvSpPr/>
          <p:nvPr/>
        </p:nvSpPr>
        <p:spPr>
          <a:xfrm>
            <a:off x="468360" y="3333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口中呼出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气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变成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和云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发出的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声音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变成了轰隆的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雷霆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左眼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变成了光芒万丈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太阳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右眼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变成了皎洁明媚的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月亮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隆起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肌肉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变成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山五岳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流淌的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血液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变成了奔腾的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江河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筋脉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变成了纵横交错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道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皮肤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变成了万顷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良田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就连流出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汗水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也变成了滋润万物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雨露甘霖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蓝天和云朵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250920" y="3789360"/>
            <a:ext cx="957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68360" y="3333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口中呼出的气变成了（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发出的声音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左眼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右眼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隆起的肌肉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流淌的血液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筋脉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皮肤变成了（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就连流出的汗水也变成了（                 ）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雷电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468360" y="3333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口中呼出的气变成了（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发出的声音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左眼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右眼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隆起的肌肉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流淌的血液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筋脉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皮肤变成了（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就连流出的汗水也变成了（                 ）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日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468360" y="33660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口中呼出的气变成了（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发出的声音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左眼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右眼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隆起的肌肉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流淌的血液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筋脉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皮肤变成了（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就连流出的汗水也变成了（                 ）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月亮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4"/>
          <p:cNvSpPr/>
          <p:nvPr/>
        </p:nvSpPr>
        <p:spPr>
          <a:xfrm>
            <a:off x="468360" y="3333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口中呼出的气变成了（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发出的声音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左眼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右眼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隆起的肌肉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流淌的血液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筋脉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皮肤变成了（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就连流出的汗水也变成了（                 ）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山岭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0" y="10666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68360" y="33660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口中呼出的气变成了（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发出的声音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左眼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右眼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隆起的肌肉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流淌的血液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筋脉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皮肤变成了（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就连流出的汗水也变成了（                 ）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神话故事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远古时候，科学不发达，一些简单的自然现象，人们还无法做出科学的解释，于是古人就用他们丰富的想象力，创造出一些具有超凡能力的“神”，与这些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神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有关的故事就成了神话故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金沙江虎跳峡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152280" y="4191120"/>
            <a:ext cx="6324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468360" y="3333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口中呼出的气变成了（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发出的声音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左眼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右眼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隆起的肌肉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流淌的血液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筋脉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皮肤变成了（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就连流出的汗水也变成了（                 ）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阡陌纵横的道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468360" y="3333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口中呼出的气变成了（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发出的声音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左眼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右眼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隆起的肌肉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流淌的血液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筋脉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皮肤变成了（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就连流出的汗水也变成了（                 ）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平原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468360" y="3333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口中呼出的气变成了（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发出的声音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左眼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右眼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隆起的肌肉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流淌的血液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筋脉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皮肤变成了（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就连流出的汗水也变成了（                 ）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雨露甘霖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"/>
          <p:cNvSpPr/>
          <p:nvPr/>
        </p:nvSpPr>
        <p:spPr>
          <a:xfrm>
            <a:off x="228600" y="457200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0" y="3962520"/>
            <a:ext cx="693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68360" y="33336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口中呼出的气变成了（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发出的声音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左眼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右眼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隆起的肌肉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流淌的血液变成了（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筋脉变成了（            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99"/>
                </a:solidFill>
                <a:latin typeface="Arial"/>
              </a:rPr>
              <a:t>皮肤变成了（          ）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就连流出的汗水也变成了（                 ）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蓝天和云朵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250920" y="3789360"/>
            <a:ext cx="957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68360" y="1341360"/>
            <a:ext cx="79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(        )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变成了（       ）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雷电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1901880" y="1336680"/>
            <a:ext cx="623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(        )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变成了（       ）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日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1973520" y="3789360"/>
            <a:ext cx="623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(        )</a:t>
            </a:r>
            <a:r>
              <a:rPr b="1" lang="zh-CN" sz="6000" spc="-1" strike="noStrike">
                <a:solidFill>
                  <a:srgbClr val="ffff66"/>
                </a:solidFill>
                <a:latin typeface="Arial"/>
              </a:rPr>
              <a:t>变成了（       ）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月亮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"/>
          <p:cNvSpPr/>
          <p:nvPr/>
        </p:nvSpPr>
        <p:spPr>
          <a:xfrm>
            <a:off x="1901880" y="1336680"/>
            <a:ext cx="623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(        )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变成了（       ）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山岭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0" y="10666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901880" y="1336680"/>
            <a:ext cx="623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(        )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变成了（       ）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金沙江虎跳峡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3"/>
          <p:cNvSpPr/>
          <p:nvPr/>
        </p:nvSpPr>
        <p:spPr>
          <a:xfrm>
            <a:off x="152280" y="4191120"/>
            <a:ext cx="6324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1757520" y="2492280"/>
            <a:ext cx="623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(        )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变成了（       ）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自读要求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2362320"/>
            <a:ext cx="9612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读准字音，把课文读通顺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想一想：这篇课文主要讲了件什么事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阡陌纵横的道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3"/>
          <p:cNvSpPr/>
          <p:nvPr/>
        </p:nvSpPr>
        <p:spPr>
          <a:xfrm>
            <a:off x="1901880" y="1336680"/>
            <a:ext cx="623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(        )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变成了（       ）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平原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901880" y="907920"/>
            <a:ext cx="623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(        )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变成了（       ）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雨露甘霖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228600" y="457200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0" y="3962520"/>
            <a:ext cx="693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073880" y="1268280"/>
            <a:ext cx="759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就连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(        )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也变成了（      ）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2276640"/>
            <a:ext cx="8675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他的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(         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变成（      ）的（       ）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琵琶语.mp3" descr=""/>
          <p:cNvPicPr/>
          <p:nvPr/>
        </p:nvPicPr>
        <p:blipFill>
          <a:blip r:embed="rId1"/>
          <a:stretch/>
        </p:blipFill>
        <p:spPr>
          <a:xfrm>
            <a:off x="9468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  <a:ea typeface="黑体"/>
              </a:rPr>
              <a:t>作业：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95280" y="2637000"/>
            <a:ext cx="84963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黑体"/>
                <a:ea typeface="黑体"/>
              </a:rPr>
              <a:t>1</a:t>
            </a:r>
            <a:r>
              <a:rPr b="0" lang="zh-CN" sz="4400" spc="-1" strike="noStrike">
                <a:solidFill>
                  <a:srgbClr val="e3e3ff"/>
                </a:solidFill>
                <a:latin typeface="黑体"/>
                <a:ea typeface="黑体"/>
              </a:rPr>
              <a:t>、用好办法背诵课文</a:t>
            </a:r>
            <a:r>
              <a:rPr b="0" lang="en-US" sz="4400" spc="-1" strike="noStrike">
                <a:solidFill>
                  <a:srgbClr val="e3e3ff"/>
                </a:solidFill>
                <a:latin typeface="黑体"/>
                <a:ea typeface="黑体"/>
              </a:rPr>
              <a:t>6-8</a:t>
            </a:r>
            <a:r>
              <a:rPr b="0" lang="zh-CN" sz="4400" spc="-1" strike="noStrike">
                <a:solidFill>
                  <a:srgbClr val="e3e3ff"/>
                </a:solidFill>
                <a:latin typeface="黑体"/>
                <a:ea typeface="黑体"/>
              </a:rPr>
              <a:t>自然段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e3e3ff"/>
                </a:solidFill>
                <a:latin typeface="黑体"/>
                <a:ea typeface="黑体"/>
              </a:rPr>
              <a:t>、准备一个神话故事，讲给同学们听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468360" y="2565360"/>
            <a:ext cx="849636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250920" y="2133720"/>
            <a:ext cx="8686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835280" y="1484280"/>
            <a:ext cx="180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ǐ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-252360" y="4724280"/>
            <a:ext cx="8610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3e3ff"/>
                </a:solidFill>
                <a:latin typeface="宋体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900000" y="620640"/>
            <a:ext cx="77756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66"/>
                </a:solidFill>
                <a:latin typeface="Arial"/>
              </a:rPr>
              <a:t>昏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睡   </a:t>
            </a:r>
            <a:r>
              <a:rPr b="1" lang="zh-CN" sz="6600" spc="-1" strike="noStrike">
                <a:solidFill>
                  <a:srgbClr val="cc0066"/>
                </a:solidFill>
                <a:latin typeface="Arial"/>
              </a:rPr>
              <a:t>凿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子   </a:t>
            </a:r>
            <a:r>
              <a:rPr b="1" lang="zh-CN" sz="6600" spc="-1" strike="noStrike">
                <a:solidFill>
                  <a:srgbClr val="cc0066"/>
                </a:solidFill>
                <a:latin typeface="Arial"/>
              </a:rPr>
              <a:t>崩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裂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万</a:t>
            </a:r>
            <a:r>
              <a:rPr b="1" lang="zh-CN" sz="6600" spc="-1" strike="noStrike">
                <a:solidFill>
                  <a:srgbClr val="cc0066"/>
                </a:solidFill>
                <a:latin typeface="Arial"/>
              </a:rPr>
              <a:t>顷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筋</a:t>
            </a:r>
            <a:r>
              <a:rPr b="1" lang="zh-CN" sz="6600" spc="-1" strike="noStrike">
                <a:solidFill>
                  <a:srgbClr val="cc0066"/>
                </a:solidFill>
                <a:latin typeface="Arial"/>
              </a:rPr>
              <a:t>脉   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身</a:t>
            </a:r>
            <a:r>
              <a:rPr b="1" lang="zh-CN" sz="6600" spc="-1" strike="noStrike">
                <a:solidFill>
                  <a:srgbClr val="cc0066"/>
                </a:solidFill>
                <a:latin typeface="Arial"/>
              </a:rPr>
              <a:t>躯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241128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3276720"/>
            <a:ext cx="86248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1240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宋体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12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228600" y="2151000"/>
            <a:ext cx="8686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9280" y="1484280"/>
            <a:ext cx="896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3e3ff"/>
                </a:solidFill>
                <a:latin typeface="宋体"/>
              </a:rPr>
              <a:t>加</a:t>
            </a:r>
            <a:r>
              <a:rPr b="1" lang="zh-CN" sz="6600" spc="-1" strike="noStrike">
                <a:solidFill>
                  <a:srgbClr val="ff0066"/>
                </a:solidFill>
                <a:latin typeface="宋体"/>
              </a:rPr>
              <a:t>厚   </a:t>
            </a:r>
            <a:r>
              <a:rPr b="1" lang="zh-CN" sz="6600" spc="-1" strike="noStrike">
                <a:solidFill>
                  <a:srgbClr val="e3e3ff"/>
                </a:solidFill>
                <a:latin typeface="宋体"/>
              </a:rPr>
              <a:t>板</a:t>
            </a:r>
            <a:r>
              <a:rPr b="1" lang="zh-CN" sz="6600" spc="-1" strike="noStrike">
                <a:solidFill>
                  <a:srgbClr val="ff0066"/>
                </a:solidFill>
                <a:latin typeface="宋体"/>
              </a:rPr>
              <a:t>斧</a:t>
            </a:r>
            <a:r>
              <a:rPr b="1" lang="zh-CN" sz="6600" spc="-1" strike="noStrike">
                <a:solidFill>
                  <a:srgbClr val="e3e3ff"/>
                </a:solidFill>
                <a:latin typeface="宋体"/>
              </a:rPr>
              <a:t>  一</a:t>
            </a:r>
            <a:r>
              <a:rPr b="1" lang="zh-CN" sz="6600" spc="-1" strike="noStrike">
                <a:solidFill>
                  <a:srgbClr val="ff0066"/>
                </a:solidFill>
                <a:latin typeface="宋体"/>
              </a:rPr>
              <a:t>丈</a:t>
            </a:r>
            <a:r>
              <a:rPr b="1" lang="zh-CN" sz="6600" spc="-1" strike="noStrike">
                <a:solidFill>
                  <a:srgbClr val="e3e3ff"/>
                </a:solidFill>
                <a:latin typeface="宋体"/>
              </a:rPr>
              <a:t>  </a:t>
            </a:r>
            <a:br>
              <a:rPr sz="6600"/>
            </a:br>
            <a:r>
              <a:rPr b="1" lang="zh-CN" sz="6600" spc="-1" strike="noStrike">
                <a:solidFill>
                  <a:srgbClr val="e3e3ff"/>
                </a:solidFill>
                <a:latin typeface="宋体"/>
              </a:rPr>
              <a:t> </a:t>
            </a:r>
            <a:br>
              <a:rPr sz="6600"/>
            </a:br>
            <a:r>
              <a:rPr b="1" lang="zh-CN" sz="6600" spc="-1" strike="noStrike">
                <a:solidFill>
                  <a:srgbClr val="e3e3ff"/>
                </a:solidFill>
                <a:latin typeface="宋体"/>
              </a:rPr>
              <a:t>合</a:t>
            </a:r>
            <a:r>
              <a:rPr b="1" lang="zh-CN" sz="6600" spc="-1" strike="noStrike">
                <a:solidFill>
                  <a:srgbClr val="ff0066"/>
                </a:solidFill>
                <a:latin typeface="宋体"/>
              </a:rPr>
              <a:t>拢   </a:t>
            </a:r>
            <a:r>
              <a:rPr b="1" lang="zh-CN" sz="6600" spc="-1" strike="noStrike">
                <a:solidFill>
                  <a:srgbClr val="e3e3ff"/>
                </a:solidFill>
                <a:latin typeface="宋体"/>
              </a:rPr>
              <a:t>血</a:t>
            </a:r>
            <a:r>
              <a:rPr b="1" lang="zh-CN" sz="6600" spc="-1" strike="noStrike">
                <a:solidFill>
                  <a:srgbClr val="ff0066"/>
                </a:solidFill>
                <a:latin typeface="宋体"/>
              </a:rPr>
              <a:t>液  </a:t>
            </a:r>
            <a:r>
              <a:rPr b="1" lang="zh-CN" sz="6600" spc="-1" strike="noStrike">
                <a:solidFill>
                  <a:srgbClr val="e3e3ff"/>
                </a:solidFill>
                <a:latin typeface="宋体"/>
              </a:rPr>
              <a:t>皮</a:t>
            </a:r>
            <a:r>
              <a:rPr b="1" lang="zh-CN" sz="6600" spc="-1" strike="noStrike">
                <a:solidFill>
                  <a:srgbClr val="ff0066"/>
                </a:solidFill>
                <a:latin typeface="宋体"/>
              </a:rPr>
              <a:t>肤</a:t>
            </a:r>
            <a:br>
              <a:rPr sz="6600"/>
            </a:br>
            <a:br>
              <a:rPr sz="6600"/>
            </a:br>
            <a:r>
              <a:rPr b="1" lang="zh-CN" sz="5400" spc="-1" strike="noStrike">
                <a:solidFill>
                  <a:srgbClr val="ff0066"/>
                </a:solidFill>
                <a:latin typeface="宋体"/>
              </a:rPr>
              <a:t>  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908000" y="4005360"/>
            <a:ext cx="93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cc0066"/>
                </a:solidFill>
                <a:latin typeface="Arial"/>
              </a:rPr>
              <a:t>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81440" y="259920"/>
            <a:ext cx="93250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混   沌     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95280" y="242100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传说很久很久以前，天和地还没有分开，整个宇宙</a:t>
            </a:r>
            <a:r>
              <a:rPr b="1" lang="zh-CN" sz="5400" spc="-1" strike="noStrike">
                <a:solidFill>
                  <a:srgbClr val="e54505"/>
                </a:solidFill>
                <a:latin typeface="Arial"/>
              </a:rPr>
              <a:t>混沌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一团，像个大鸡蛋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900000" y="189000"/>
            <a:ext cx="287280" cy="2156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2411280" y="189000"/>
            <a:ext cx="287640" cy="2156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5562720"/>
            <a:ext cx="9325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 浑然一体的状态。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形容糊里糊涂、无知无识的样子。</a:t>
            </a:r>
            <a:r>
              <a:rPr b="0" lang="zh-CN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13"/>
          <p:cNvGrpSpPr/>
          <p:nvPr/>
        </p:nvGrpSpPr>
        <p:grpSpPr>
          <a:xfrm>
            <a:off x="4716360" y="189000"/>
            <a:ext cx="4105080" cy="1944720"/>
            <a:chOff x="4716360" y="189000"/>
            <a:chExt cx="4105080" cy="1944720"/>
          </a:xfrm>
        </p:grpSpPr>
        <p:sp>
          <p:nvSpPr>
            <p:cNvPr id="149" name="AutoShape 14"/>
            <p:cNvSpPr/>
            <p:nvPr/>
          </p:nvSpPr>
          <p:spPr>
            <a:xfrm>
              <a:off x="4716360" y="189000"/>
              <a:ext cx="4105080" cy="1944720"/>
            </a:xfrm>
            <a:prstGeom prst="wedgeRectCallout">
              <a:avLst>
                <a:gd name="adj1" fmla="val -75481"/>
                <a:gd name="adj2" fmla="val -44041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5005080" y="405000"/>
              <a:ext cx="3743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463416"/>
                  </a:solidFill>
                  <a:latin typeface="Arial"/>
                </a:rPr>
                <a:t>借助字典解释，结合上下文理解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005"/>
          <p:cNvPicPr/>
          <p:nvPr/>
        </p:nvPicPr>
        <p:blipFill>
          <a:blip r:embed="rId1"/>
          <a:stretch/>
        </p:blipFill>
        <p:spPr>
          <a:xfrm>
            <a:off x="755640" y="112536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DSC_0635"/>
          <p:cNvPicPr/>
          <p:nvPr/>
        </p:nvPicPr>
        <p:blipFill>
          <a:blip r:embed="rId2"/>
          <a:stretch/>
        </p:blipFill>
        <p:spPr>
          <a:xfrm>
            <a:off x="5076720" y="1125360"/>
            <a:ext cx="335304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81440" y="476280"/>
            <a:ext cx="9325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精疲力竭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5580000" y="1844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尽  用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4"/>
          <p:cNvSpPr/>
          <p:nvPr/>
        </p:nvSpPr>
        <p:spPr>
          <a:xfrm>
            <a:off x="5580000" y="1557360"/>
            <a:ext cx="144360" cy="216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2637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几千万年过去了，天不再升高，地也不再加厚，而盘古也已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精疲力竭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13"/>
          <p:cNvGrpSpPr/>
          <p:nvPr/>
        </p:nvGrpSpPr>
        <p:grpSpPr>
          <a:xfrm>
            <a:off x="4788000" y="4653000"/>
            <a:ext cx="4105080" cy="1944720"/>
            <a:chOff x="4788000" y="4653000"/>
            <a:chExt cx="4105080" cy="1944720"/>
          </a:xfrm>
        </p:grpSpPr>
        <p:sp>
          <p:nvSpPr>
            <p:cNvPr id="158" name="AutoShape 11"/>
            <p:cNvSpPr/>
            <p:nvPr/>
          </p:nvSpPr>
          <p:spPr>
            <a:xfrm>
              <a:off x="4788000" y="4653000"/>
              <a:ext cx="4105080" cy="1944720"/>
            </a:xfrm>
            <a:prstGeom prst="wedgeRectCallout">
              <a:avLst>
                <a:gd name="adj1" fmla="val -75481"/>
                <a:gd name="adj2" fmla="val -44041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5076720" y="4869000"/>
              <a:ext cx="37432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463416"/>
                  </a:solidFill>
                  <a:latin typeface="Arial"/>
                </a:rPr>
                <a:t>借助字典解释，结合上下文理解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4:14:46Z</dcterms:created>
  <dc:creator>dell</dc:creator>
  <dc:description/>
  <dc:language>en-US</dc:language>
  <cp:lastModifiedBy>Administrator</cp:lastModifiedBy>
  <dcterms:modified xsi:type="dcterms:W3CDTF">2016-03-10T09:01:50Z</dcterms:modified>
  <cp:revision>57</cp:revision>
  <dc:subject/>
  <dc:title>13、开天辟地</dc:title>
</cp:coreProperties>
</file>