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5BA-E020-4E88-AA5A-E9AF0F6E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F9B-954D-4792-88F3-D55A016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EF2-C18B-4104-AFD3-0EACB0C0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F5F-E76B-470F-A8A2-9FD8BB50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5539-691F-43F8-9E3E-9FF435E8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B910-B1F3-43C9-94DB-3C623A8E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0939-23C3-44EE-A1B0-3F4D5D2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00D-58D1-4C16-BFB0-8080C434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6738-4449-407A-BE9B-4BC009A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FD4A-66E3-43EB-B6BA-790F287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C790-4F3F-44BA-92E9-89E2B0E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A2E-7AE9-4A85-B6FA-8D31E38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154E-3F1B-44E4-8939-6691601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7EF-3208-4AAE-BA78-1A603E7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2A5A-8FAA-4D4C-A0FE-5C534337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FA27-7F06-4821-895F-6B180944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80E8-4A31-43BA-ABA2-8C4F835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25DF-BB42-448F-A7CF-112A8C90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6393-D21D-462D-9A81-90C78246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34DD-9B53-4293-A8E4-320280A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A049-E42A-4F0E-99FC-4E2790D0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25CE-8F35-4553-8307-C8E4168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A29-6B6E-4557-9853-3F9C397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8D7D-8122-4525-823E-A7D2919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19AF-17A0-4AA4-91C6-7F6E5A0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912F-4FAB-418B-9202-EC5F4DF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F5F6-E1D9-4B8D-B483-A6894F8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25C9-A5C2-4B35-A738-F396F9A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8048-BF75-453F-9066-2785F860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61CF-4B6A-495B-8ACF-523A453D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273F-A683-494D-9ED4-5A1096E7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5928-CFBE-43F0-AD91-2E06EDE3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6BDF5-6DCE-4886-8D91-BAF498E3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A82-27A0-44F1-847C-9AFFA576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E592-CE78-4AEF-884E-246C7423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DC5B-CD1B-4B37-B12F-2B304162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28FF-0BC8-4C97-B5E9-ADF5B926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6300-FED3-4E63-9D60-EFC3B03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FDFD-1361-4F52-BECF-81A6D38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8F9A-1507-4166-85B6-CF9A94F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613A-D2A0-4C7E-9774-33E8F636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9004-F630-4E77-A99A-366853C5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F725-E0D4-424F-9670-207F3535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59E-7458-4520-A8AF-A02475C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4C4-26C9-44CC-9537-4A7100F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2D5-09E5-4BFF-AB7C-58A863D7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D0B-8D53-4B45-9D99-C980475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661-2368-4D10-8278-10921AE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C434-ABAE-4F2C-B807-33085B6863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FF06-F2D0-48FC-B3B4-076388B746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223-7148-448D-8346-FBBFE162A3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32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33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36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BCA-6899-45D3-B88C-BDBCEBEC52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057400" y="3808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Arial"/>
                <a:ea typeface="隶书"/>
              </a:rPr>
              <a:t>夕阳无限好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Arial"/>
                <a:ea typeface="隶书"/>
              </a:rPr>
              <a:t>只是近黄昏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9bdddce5844e74393457e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380880" y="762120"/>
            <a:ext cx="8763120" cy="5649480"/>
          </a:xfrm>
          <a:prstGeom prst="rect">
            <a:avLst/>
          </a:prstGeom>
          <a:solidFill>
            <a:srgbClr val="ccff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花卿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花敬定，唐代武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锦城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即锦官城，指四川成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丝管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弦乐器和管乐器，这里泛指音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纷纷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形容乐曲的轻柔悠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天上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天宫，这里指皇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入江风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飘到江上，指乐声悠扬清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入云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飞入云端，指乐声高亢嘹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9bdddce5844e74393457e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600200" y="380880"/>
            <a:ext cx="5791320" cy="6105600"/>
          </a:xfrm>
          <a:prstGeom prst="rect">
            <a:avLst/>
          </a:prstGeom>
          <a:solidFill>
            <a:srgbClr val="c0c0c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唐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·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杜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锦城丝管日纷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半入江风半入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此曲只应天上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人间能得几回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590920" y="3808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"/>
              </a:rPr>
              <a:t>赠花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924680" y="5943600"/>
            <a:ext cx="990720" cy="914400"/>
          </a:xfrm>
          <a:prstGeom prst="pie">
            <a:avLst/>
          </a:prstGeom>
          <a:solidFill>
            <a:srgbClr val="477ab1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762120" y="76320"/>
            <a:ext cx="7162560" cy="512316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乐游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李商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向晚意不适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驱车登古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夕阳无限好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只是近黄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971800" y="457200"/>
            <a:ext cx="6172200" cy="2726280"/>
          </a:xfrm>
          <a:prstGeom prst="rect">
            <a:avLst/>
          </a:prstGeom>
          <a:solidFill>
            <a:srgbClr val="ffff9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李商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81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858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)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字义山，号玉溪生，河南人。曾陷入牛李党争不能自拔，在官场之中异常失意，《乐游原》正是他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心境郁闷的真实写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其诗构思新颖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富于想象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艺术表现方面有较高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李义山诗集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01300000171148121516950401217"/>
          <p:cNvPicPr/>
          <p:nvPr/>
        </p:nvPicPr>
        <p:blipFill>
          <a:blip r:embed="rId1"/>
          <a:stretch/>
        </p:blipFill>
        <p:spPr>
          <a:xfrm>
            <a:off x="0" y="1523880"/>
            <a:ext cx="299088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85800" y="16765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乐游原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汉宣帝修建的游览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陕西长安城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向晚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傍晚。向：临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意不适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心绪不宁。意：感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不适：不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古原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指乐游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90720" y="7621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注释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62120" y="268200"/>
            <a:ext cx="71625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乐游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李商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向晚意不适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驱车登古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夕阳无限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只是近黄昏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8077320" y="6095880"/>
            <a:ext cx="914400" cy="76212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4"/>
          <p:cNvSpPr/>
          <p:nvPr/>
        </p:nvSpPr>
        <p:spPr>
          <a:xfrm>
            <a:off x="8077320" y="6095880"/>
            <a:ext cx="914400" cy="76212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2280" y="1676520"/>
            <a:ext cx="571500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触景生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无可奈何的伤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（哲理：美是真实存在的，但不是永恒的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9bdddce5844e74393457e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3352680" y="304920"/>
            <a:ext cx="5105520" cy="5848560"/>
          </a:xfrm>
          <a:prstGeom prst="rect">
            <a:avLst/>
          </a:prstGeom>
          <a:solidFill>
            <a:srgbClr val="c0c0c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990033"/>
                </a:solidFill>
                <a:latin typeface="楷体"/>
                <a:ea typeface="楷体"/>
              </a:rPr>
              <a:t>唐</a:t>
            </a:r>
            <a:r>
              <a:rPr b="1" lang="en-US" sz="4800" spc="-1" strike="noStrike">
                <a:solidFill>
                  <a:srgbClr val="990033"/>
                </a:solidFill>
                <a:latin typeface="楷体"/>
                <a:ea typeface="楷体"/>
              </a:rPr>
              <a:t>·</a:t>
            </a:r>
            <a:r>
              <a:rPr b="1" lang="zh-CN" sz="4800" spc="-1" strike="noStrike">
                <a:solidFill>
                  <a:srgbClr val="990033"/>
                </a:solidFill>
                <a:latin typeface="楷体"/>
                <a:ea typeface="楷体"/>
              </a:rPr>
              <a:t>杜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锦城丝管日纷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半入江风半入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此曲只应天上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人间能得几回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267080" y="21276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楷体"/>
              </a:rPr>
              <a:t>  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楷体"/>
              </a:rPr>
              <a:t>赠花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94f65ec6de7048a2f2e21f8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30ecd5ef5b277975acafd5d6"/>
          <p:cNvPicPr/>
          <p:nvPr/>
        </p:nvPicPr>
        <p:blipFill>
          <a:blip r:embed="rId2"/>
          <a:stretch/>
        </p:blipFill>
        <p:spPr>
          <a:xfrm>
            <a:off x="250920" y="1197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492360" y="2591280"/>
            <a:ext cx="5651640" cy="1994400"/>
          </a:xfrm>
          <a:prstGeom prst="rect">
            <a:avLst/>
          </a:prstGeom>
          <a:solidFill>
            <a:srgbClr val="c0c0c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杜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子美，自号少陵野老，汉族，巩县（今河南巩义）人。盛唐时期伟大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现实主义诗人，被尊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“诗圣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他忧国忧民，人格高尚，诗艺精湛，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首诗歌被保留了下来。其诗多伤时忧国，描绘离乱之苦，被称为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诗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。著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杜工部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9bdddce5844e74393457e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838080" y="762120"/>
            <a:ext cx="7696440" cy="58140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资料拓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花卿，花敬定，是成都尹崔光远的部将，曾因平判立过功，但他居功自傲，骄纵不法，放纵士卒明目张胆抢夺掳掠。而且还目无朝廷，目无国法，违规享用天子音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38080" y="3886200"/>
            <a:ext cx="7696440" cy="58140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资料拓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唐朝有明确的国家法令，有的音乐只允许帝王之家拥有，如果有人私自享用了，那其就是目无国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1-25T09:18:25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