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ACE-BA6E-4E45-BF35-D6D90534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A4B3-B4E3-45EC-BE7C-319ED314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C2320-C6AA-4A64-A57F-083A567A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EB11A-788C-4E64-994D-69FC4E59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65E8F-6B96-4E6F-939A-DDD3590A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26E21-4EB8-4C84-A6B1-C651BE60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2B138-14A5-44AF-A817-B63EFABC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2B572-D18F-4E67-86AD-435F94D6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8EFA2-17B9-4346-B65E-7CBD7E7A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698F9-08A9-4FC2-89EF-A462AEB9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97F0B-84DB-44F8-BC8C-745FAEB7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B864F-2F7E-4734-BE88-48589024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32DD-5B83-45EF-A0F1-B73FE9AA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33DF7-1EC3-4FAF-BFEB-6BA80099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C0AF8-C54A-4A0B-8E43-510F52F6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5D9E6-07AC-4F9A-B422-8A40FC48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FFEA3-BCED-4518-AF1A-37B8FE55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F031D-9C7D-4C17-96CB-F044F0E4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15E60-E752-4D55-9122-CF37ABE3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E9BF6-66B0-4C72-8DD0-B5EEC95C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98FD2-97F7-4CD8-A8BF-4BEFECD1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F8148-C08B-470B-BF68-40E5C809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FFF9E-8DC2-48A2-8166-0512701D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E6B-FDF2-4006-9441-550895FB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2217A-A559-46BA-9DBD-345FDBD6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B28F7-FE80-41FD-9CD3-98C36899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DC67A-F254-44B1-8BF8-C84E2B30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04AB4-2FE4-4830-AADF-000BAC1A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35E60-5BC8-4D20-8A9A-994F3DC9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D7EA7-8B8C-44DC-87EB-614DA78F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337B9-67AE-40A0-AFFC-B39DC5A9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CB571-CD2B-4095-B04A-2243125A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B1135-305B-47DD-AE5C-6C21F6EE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7561A-43CA-4069-AE13-3FB591D4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5F88-D62B-4AA6-854B-09A2D8C7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CCC54-1FD8-4F04-9BE0-49C62138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633EA-DD86-42BC-8F27-8E510928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CBF08-A620-4610-8530-4141E84A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A41E9-0854-45D7-A42C-210BCD0E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E7405-ECEA-4778-899A-E07F3B79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0032B-457B-49C2-84E4-A7E0E624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DDC75-8272-4D84-B2E6-04E43764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91EF6-E52B-4266-AF6D-D2C2C391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A8CF6-42E1-407C-9A93-E6533945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1986C-5176-4639-AD38-36014FCB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DE72-EDE7-423F-BDFB-B8E54ADD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3E969-14DD-478D-980D-B9354DB0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DDF91-386A-44A4-ABE4-C1CD40F3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EEBEF-A251-4063-8651-4E723F1B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B61A2-5D80-48A4-91C7-2C3CDB6C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CE5F0-22A4-41EE-A0FC-F782D423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FD73B-D0F8-45D8-B1A9-EB27D1FE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7D2A6-7557-460F-B2B3-9E280D61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5A1F2D-4BCB-45C7-8A4B-036907BA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A8AE9-18A4-44E1-A526-BF976EFB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BC9FB2-F55F-4CC2-B8D7-E058700E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81D8-77C9-4575-8691-B27949FB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E2CFE-8164-48F5-9BFB-60953099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BE7415-32C4-44BF-A589-CA7BDF9A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42F08-A328-4277-9866-31F44F7E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D46D33-E1E2-4942-A411-ED9F7965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3CB06-FBE7-4AB3-96AA-6A41B1C1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CE15C-5ADC-4249-9567-AD1161D6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8CEC6-A249-4657-8AE2-AFCF88E7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1618F6-25CB-4BA8-B616-83BBD29B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09D0FF-EAF7-4771-BEC6-EBC2ABB8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A7AC1E-93AF-42D8-8AF6-F62E9724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5011-5D88-4769-BB76-AD7FC9BB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2D1EF7-9338-4FC7-B7EB-05EA6C5D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A5C0F-C754-45E8-A348-37E403EB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04BC70-C42D-4CDE-B977-B4E8F33B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BF8421-E119-4BB8-88DB-E695CD84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EEE18-F031-49F6-8135-A48B0653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078FEB-99AC-461B-AC8A-E6FAB705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CDF882-F108-4BB1-8E75-1E745D88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DA84AD-0662-4BCD-8EF0-EA258BC0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5548E-7A6B-4EC8-A0C2-CC6110BC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6BEFE7-E3E8-4F4E-862C-D23679CB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F565-3BAE-4022-9FDB-4089103A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317DDA-AF2D-486E-9E31-A0ACD44D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17920C-68BF-4C8C-866A-D9A46BF7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950CC1-3B29-4DD4-8125-14186E4A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07B7F7-559A-4A2A-BDA3-33A65AF9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086517-F0C4-4F0B-97E2-C22CD4D6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89D1FE-CB6E-45DA-AB26-426C2D56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CDF4D5-C9EC-46AB-A6DD-2136E502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E3320F-97BC-4BE2-8575-8156E54F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50B588-CAE9-4820-8C57-4EB92FA2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BF6BFF-6525-4D9C-A549-18C92612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AF88-C7A5-4E9F-8204-188532F7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49D157-DA15-493B-847B-3F34E75C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72B6-6E04-4CFB-97B1-A13FE55E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36B-C8A2-4AA2-ACE6-C46D6BB0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705F-C070-4F21-8341-B91B0AA0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3A84-88B8-47F4-BDD0-1E5D8FC2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7A25-6FC2-4C36-88D8-79EB6B60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6283-BA87-4CC2-8A8A-C0FB5E86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2C2A-785B-43FD-94FA-A5596B1C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2F63D-6AB6-4DE4-8E32-AC3F949F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1BD3F-1155-4E11-841B-9EC54418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55266-6492-4507-83EB-C1AA23BB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1C8CF-A3D9-4862-85A3-0C6D8461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BAF5D-7C0B-4BF4-AEC4-B5F5A25C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83DC-6C50-4E48-A531-0B95A3B3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4A66A-D529-423F-AABC-57FCD429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B7430-82CB-4312-AF27-07167B32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39683-3773-44C6-81EE-771143B8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3F639-63CF-4D6C-8E26-7CA40D71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D7AF-C7BC-4ED3-996D-22C005ED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CF9DF-3BDB-4B2B-A00B-5E9E1686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54246-C725-4AF3-8CC3-C014C844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4EFD8-EB34-4A91-A0AB-31A0367D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5FC9B-8E57-4E09-8ABE-1658FD86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1959D-7A13-47F2-9203-FA4E5D42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FCD2-DE36-4FCA-95CE-61BA7869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B1C32-FCE3-41FC-A157-0D06C898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9ECB6-3544-493D-BFF8-BC4AEB65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765F5-77D2-4E0F-BE51-16AC277D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CA3A9-906D-4F75-B840-EDC0A33F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C84C1-84A6-41DA-A338-B7E32693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F29AF-6DD5-4980-A645-7A62E228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BDAAB-4859-4907-B8A6-22270AE3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93BEF-D1F7-4CF4-9DF6-D69F702E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D6048-342D-418B-B7DD-7EE8BA1A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BBBB3-0D03-4D9D-87B3-989509E5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30B-BC0A-4CF0-86EA-AB664FE6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2AD73-CCC7-4DC3-9099-ECE72085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0F6E9-D01D-485D-AFBF-5753B927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D4505-278B-4824-81B1-037518AE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0DC82-8856-4B9E-8C3F-54CDC494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7B8B5-8D56-40F5-9D19-95E30DCF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02F73-DA65-446B-AC3F-7848E64B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3EED6-E5D2-4CEF-896B-83B2B57B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8C2D0-5A86-4F06-9D76-CEB52AC1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796DA-E0A9-497F-AC4B-062ED014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BB839-29BE-47DA-BA2C-CEB144EA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284-B6C9-47B5-8E9E-3AB3EC5C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E1C15-EBB2-45E5-9D4E-E183E58C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B9FF8-B587-4D16-9580-63499C82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48313-5898-4414-89A7-2AE58161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E0AFE-C71E-4CBC-A7E3-6AFAAA23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60A57-833A-4C1E-96C9-56A55354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5B214-2A82-4740-8460-3E4B912B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E77DD-65EB-45A5-9AA5-B46C5BC1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C4503-334C-4652-9D8D-3B08E5A0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E2885-E651-439D-BEA3-E31F5B50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C9B4F-7FCE-43D7-9206-48625DA3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870B-EB58-48A0-BB8A-BBA8B792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65B64-5577-423A-A60E-4D6FC1A2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BE2E2-0281-4002-A3A2-E9A26F0B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74A26-AD5D-4EC7-BD84-F7B33441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72CD7-CDA6-4F61-995C-3C1350E8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8529D-D9EB-404B-B501-54C31A0D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31101-211F-4600-9A58-F4FE35C4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CF6F3-F853-425A-95FE-51A072DB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F928B-11FF-41DE-BF49-B5E2AB4F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E40B3-31C0-41C6-830B-9DC64E37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0EC6C-317D-4120-9E6A-4A69AC62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EF0-557E-488E-8B61-ECEDF3BA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EA79A-E5A0-41EF-AD59-449C96AB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9141A-F3C7-4BE4-BE55-A1C53A72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E39D2-E6A1-4620-AAD4-4E729AF0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8DCA3-7C3F-4F7C-A101-C3083639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D6C34-DA80-4870-8869-02602452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42800-B2A9-4B53-9F70-B39168FD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7E7A8-2F6F-4B87-8FC9-B82275FA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41786-7FC0-44A6-93FD-09EF23ED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4BC82-A6AF-4786-A191-AA0621C5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5DBA9-031E-4F0E-B3DE-51EBB896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07C-D418-448A-B7E2-40B9BBE1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11872-5976-4110-89CF-339676DB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7ECEB-D1ED-4EF7-B3F6-37932511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CDD30-EAA1-4B23-B91C-B447D614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AE75E-8310-4E13-A3AF-5552B664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2F8D8-B3A3-41BC-A0B1-9CFEC912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2F08D-E8CA-41D7-8770-09EE82DD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E8103-BCD3-4FC4-A8B3-A3B019CB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06720-8B01-446F-BFAC-2C69933A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B49ED-1B46-4AA6-82F0-8D2BF389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7272F-57D4-4822-888A-C658A585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DED7-B5D1-47C3-A9A2-DAD7A9AEA4F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1367-1AAC-4C63-A502-37E8142F277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05" name="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09" name="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"/>
          <p:cNvGrpSpPr/>
          <p:nvPr/>
        </p:nvGrpSpPr>
        <p:grpSpPr>
          <a:xfrm>
            <a:off x="7796160" y="4318200"/>
            <a:ext cx="980640" cy="1159920"/>
            <a:chOff x="7796160" y="4318200"/>
            <a:chExt cx="980640" cy="1159920"/>
          </a:xfrm>
        </p:grpSpPr>
        <p:sp>
          <p:nvSpPr>
            <p:cNvPr id="515" name="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7320000">
              <a:off x="776772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7320000">
              <a:off x="7934400" y="462168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7796160" y="4318200"/>
              <a:ext cx="980640" cy="1159920"/>
              <a:chOff x="7796160" y="4318200"/>
              <a:chExt cx="980640" cy="1159920"/>
            </a:xfrm>
          </p:grpSpPr>
          <p:sp>
            <p:nvSpPr>
              <p:cNvPr id="519" name="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7320000">
                <a:off x="7756920" y="4650840"/>
                <a:ext cx="1058760" cy="4946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7320000">
                <a:off x="8036280" y="47577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7320000">
                <a:off x="8514000" y="45597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7320000">
                <a:off x="8152920" y="475956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6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EBF6-6ABA-431C-9A05-4860DE7038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CEC4-2675-4F5D-BE0F-65C9276FA3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AFFF-6F98-4487-80C8-2CC4BBBDDA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FB10-F727-40C5-8D98-BDE4575278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09A2-56EC-445C-A531-430400AD9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3894-EBA7-43BD-BC51-A6FD163119F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E3FB-4A4F-4BC1-A6BC-3902BDB9AC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2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80EA-EC43-4580-B8A0-3F3C5A6B2F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165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5793-8D43-4C40-BEAF-A2B162C835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82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283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286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46CB-6650-4CF6-9296-C94D250C16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F26F-1ADA-4053-9CA8-7F2973CF5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F403-CFDD-4497-A1CF-7DF5268FE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1A7B-6478-4CDA-869C-D6F6EDAE573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2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4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451" name="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452" name="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454" name="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2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7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271,22,&#24187;&#28783;&#29255; 22" TargetMode="External"/><Relationship Id="rId2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108000" y="117360"/>
            <a:ext cx="6372000" cy="645660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7929720" y="1557360"/>
            <a:ext cx="458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 rot="5400000">
            <a:off x="5615640" y="2601000"/>
            <a:ext cx="403236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伽利略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-360" y="1267920"/>
            <a:ext cx="889308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伽利略是</a:t>
            </a:r>
            <a:r>
              <a:rPr b="0" lang="en-US" sz="4800" spc="-1" strike="noStrike">
                <a:solidFill>
                  <a:srgbClr val="007a77"/>
                </a:solidFill>
                <a:latin typeface="Arial"/>
              </a:rPr>
              <a:t>17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世纪意大利伟大的科学家。他在学校念书的时候，同学们就称他为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“辩论家”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他提出的问题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很不寻常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，常常使老师很难解答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516720" y="0"/>
            <a:ext cx="720720" cy="40464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380360" y="0"/>
            <a:ext cx="720720" cy="40464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那时候，研究科学的人都信奉亚里士多德，把这位两千多年前的希腊哲学家的话当做不容更改的真理。谁要是怀疑亚里士多德，人们就会责备他：“你是什么意思？难道要违背人类的真理吗？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08720" y="0"/>
            <a:ext cx="826920" cy="40464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那时候，研究科学的人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信奉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亚里士多德，把这位两千多年前的希腊哲学家的话当做不容更改的真理。谁要是怀疑亚里士多德，人们就会责备他：“你是什么意思？难道要违背人类的真理吗？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508720" y="0"/>
            <a:ext cx="826920" cy="40464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那时候，研究科学的人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信奉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亚里士多德，把这位两千多年前的希腊哲学家的话当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容更改的真理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。谁要是怀疑亚里士多德，人们就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责备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他：“你是什么意思？难道要违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人类的真理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吗？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布鲁诺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意大利文艺复兴时期伟大的哲学家、科学家以及思想家，是一位诚实正直的学者，他的学说及思想极大地震撼了教廷的统治地位，在八年监禁后最终被教廷处以火刑。他为了捍卫自己的学说献出了宝贵的生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16720" y="0"/>
            <a:ext cx="720720" cy="40464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亚里士多德曾经说过：“两个铁球，一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磅重，一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磅重，同时从高处落下来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磅重的一定先着地，速度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磅重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倍。”这句话使伽利略生产了疑问。他想：如果这句话是正确的，那么把这两个铁球拴在一起，落得慢的就会拖住落得快的，落下的速度应当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磅重的铁球慢；但是，如果把拴在一起的两个铁球看做一个整体，就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磅重，落下的速度应当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磅重的铁球快。这样，从一个事实中却可以得出两个相反的结论，这怎么解释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443640" y="0"/>
            <a:ext cx="720720" cy="38736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亚里士多德曾经说过：“两个铁球，一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磅重，一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磅重，同时从高处落下来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磅重的一定先着地，速度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磅重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倍。”这句话使伽利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产了疑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他想：如果这句话是正确的，那么把这两个铁球拴在一起，落得慢的就会拖住落得快的，落下的速度应当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磅重的铁球慢；但是，如果把拴在一起的两个铁球看做一个整体，就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磅重，落下的速度应当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磅重的铁球快。这样，从一个事实中却可以得出两个相反的结论，这怎么解释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443640" y="0"/>
            <a:ext cx="793800" cy="40464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想：如果这句话是正确的，那么把这两个铁球拴在一起，落得慢的就会拖住落得快的，落下的速度应当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磅重的铁球慢；但是，如果把拴在一起的两个铁球看做一个整体，就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磅重，落下的速度应当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磅重的铁球快。这样，从一个事实中却可以得出两个相反的结论，这怎么解释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403280" y="907920"/>
            <a:ext cx="1224000" cy="122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276720" y="1557360"/>
            <a:ext cx="554040" cy="5540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55640" y="2133720"/>
            <a:ext cx="576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900000" y="5805360"/>
            <a:ext cx="554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427640" y="907920"/>
            <a:ext cx="1224000" cy="122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716360" y="189000"/>
            <a:ext cx="554040" cy="5540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003640" y="765000"/>
            <a:ext cx="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03280" y="4149720"/>
            <a:ext cx="1224000" cy="122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203640" y="3789360"/>
            <a:ext cx="554040" cy="5540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500720" y="3789360"/>
            <a:ext cx="1223640" cy="1116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788000" y="3141720"/>
            <a:ext cx="554040" cy="504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076720" y="3646440"/>
            <a:ext cx="1800" cy="130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979640" y="256536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492360" y="220500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076720" y="227664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856560" y="2354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94836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622920" y="1628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如果这句话是正确的，那么把这两个铁球拴在一起，落得慢的就会拖住落得快的，落下的速度应当比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磅重的铁球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1403280" y="907920"/>
            <a:ext cx="1224000" cy="122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276720" y="1557360"/>
            <a:ext cx="554040" cy="5540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55640" y="2133720"/>
            <a:ext cx="576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900000" y="5805360"/>
            <a:ext cx="554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427640" y="907920"/>
            <a:ext cx="1224000" cy="122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788000" y="404640"/>
            <a:ext cx="554040" cy="5540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403280" y="4149720"/>
            <a:ext cx="1224000" cy="122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203640" y="3789360"/>
            <a:ext cx="554040" cy="5540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0" y="4724280"/>
            <a:ext cx="1224000" cy="1116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859280" y="4221000"/>
            <a:ext cx="554040" cy="505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979640" y="256536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492360" y="220500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148360" y="256536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856560" y="2354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94836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622920" y="1628640"/>
            <a:ext cx="252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但是，如果把拴在一起的两个铁球看做一个整体，就有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磅重，落下的速度应当比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磅重的铁球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" descr=""/>
          <p:cNvPicPr/>
          <p:nvPr/>
        </p:nvPicPr>
        <p:blipFill>
          <a:blip r:embed="rId1"/>
          <a:srcRect l="0" t="0" r="576" b="3235"/>
          <a:stretch/>
        </p:blipFill>
        <p:spPr>
          <a:xfrm>
            <a:off x="684360" y="260280"/>
            <a:ext cx="5583240" cy="572148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 txBox="1"/>
          <p:nvPr/>
        </p:nvSpPr>
        <p:spPr>
          <a:xfrm rot="5400000">
            <a:off x="5460840" y="2971800"/>
            <a:ext cx="51847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两个铁球同时着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1403280" y="907920"/>
            <a:ext cx="1224000" cy="122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76720" y="1557360"/>
            <a:ext cx="554040" cy="5540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55640" y="2133720"/>
            <a:ext cx="705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900000" y="5805360"/>
            <a:ext cx="705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427640" y="907920"/>
            <a:ext cx="1224000" cy="122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716360" y="189000"/>
            <a:ext cx="554040" cy="5540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003640" y="765000"/>
            <a:ext cx="0" cy="1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403280" y="4149720"/>
            <a:ext cx="1224000" cy="122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203640" y="3789360"/>
            <a:ext cx="554040" cy="5540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500720" y="3789360"/>
            <a:ext cx="1223640" cy="1116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788000" y="3141720"/>
            <a:ext cx="554040" cy="504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076720" y="3646440"/>
            <a:ext cx="1800" cy="130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79640" y="256536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492360" y="220500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076720" y="227664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856560" y="2354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94836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300720" y="907920"/>
            <a:ext cx="1224000" cy="122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661080" y="404640"/>
            <a:ext cx="554040" cy="5540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445080" y="4724280"/>
            <a:ext cx="1224000" cy="1116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732720" y="4221000"/>
            <a:ext cx="554040" cy="505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021440" y="256536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85928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716360" y="59500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960960" y="5910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959120" y="2354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8028000" y="213372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812000" y="1844640"/>
            <a:ext cx="13320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样，从一个事实中却可以得出两个相反的结论，这怎么解释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想：如果这句话是正确的，那么把这两个铁球拴在一起，落得慢的就会拖住落得快的，落下的速度应当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磅重的铁球慢；但是，如果把拴在一起的两个铁球看做一个整体，就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磅重，落下的速度应当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磅重的铁球快。这样，从一个事实中却可以得出两个相反的结论，这怎么解释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想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句话是正确的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那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这两个铁球拴在一起，落得慢的就会拖住落得快的，落下的速度应当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磅重的铁球慢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但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拴在一起的两个铁球看做一个整体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磅重，落下的速度应当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磅重的铁球快。这样，从一个事实中却可以得出两个相反的结论，这怎么解释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651640" y="0"/>
            <a:ext cx="720720" cy="44928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伽利略带着这个疑问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反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了许多次试验，结果都证明亚里士多德的这句话的确说错了。两个不同重量的铁球同时从高处落下来，总是同时着地，铁球往下落的速度和铁球的轻重没有关系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580000" y="0"/>
            <a:ext cx="720720" cy="47628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3146040" y="1200240"/>
            <a:ext cx="452448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e4005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他向学生们宣布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试验的结果，同时宣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要在比萨城的斜塔上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次</a:t>
            </a:r>
            <a:r>
              <a:rPr b="0" lang="zh-CN" sz="4800" spc="-1" strike="noStrike" u="sng">
                <a:solidFill>
                  <a:srgbClr val="e4005c"/>
                </a:solidFill>
                <a:uFillTx/>
                <a:latin typeface="Arial"/>
                <a:hlinkClick r:id="rId1"/>
              </a:rPr>
              <a:t>公开试验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有的说：“这个青年真是胆大妄为，竟想找亚里士多德的错处！”有的说：“等会儿他就固执不了啦，事实是无情的，会让他丢尽了脸。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这个青年真是胆大妄为，竟想找亚里士多德的错处！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等会儿他就固执不了啦，事实是无情的，会让他丢尽了脸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个青年真是胆大妄为，竟想找亚里士多德的错处！”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伽利略在斜塔上出现了，他右手拿着一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磅重的铁球，左手拿着一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磅重的铁球。两个铁球同时脱手，从空中落下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会儿他就固执不了啦，事实是无情的，会让他丢尽了脸。”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伽利略在斜塔上出现了，他右手拿着一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磅重的铁球，左手拿着一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磅重的铁球。两个铁球同时脱手，从空中落下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755640" y="1125360"/>
            <a:ext cx="7921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伽利略     辩论   怀疑   信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比萨城     违背   一磅   当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哲学家     宣布   固执   的确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胆大妄为            不容更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107000" y="189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我会认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68360" y="981000"/>
            <a:ext cx="813600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是什么意思？难道要违背人类的真理吗？”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伽利略在斜塔上出现了，他右手拿着一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磅重的铁球，左手拿着一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磅重的铁球。两个铁球同时脱手，从空中落下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1403280" y="907920"/>
            <a:ext cx="1224000" cy="122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1557360"/>
            <a:ext cx="554040" cy="5540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55640" y="2133720"/>
            <a:ext cx="576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900000" y="5805360"/>
            <a:ext cx="554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856560" y="2354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94836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497720" y="1052640"/>
            <a:ext cx="459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 rot="5400000">
            <a:off x="4741560" y="2827440"/>
            <a:ext cx="51847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两个铁球同时着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895 L -0.00382 0.54047 E">
                                      <p:cBhvr>
                                        <p:cTn id="64" dur="1000" fill="hold"/>
                                        <p:tgtEl>
                                          <p:spTgt spid="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0.05412 L 0.00121 0.53654 E">
                                      <p:cBhvr>
                                        <p:cTn id="66" dur="1000" fill="hold"/>
                                        <p:tgtEl>
                                          <p:spTgt spid="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5329080" cy="560880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 txBox="1"/>
          <p:nvPr/>
        </p:nvSpPr>
        <p:spPr>
          <a:xfrm rot="5400000">
            <a:off x="5460840" y="2971800"/>
            <a:ext cx="51847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两个铁球同时着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原来，像亚里士多德这样的大哲学家，说的话也不是全都对的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原来，亚里士多德这位大哲学家，说的话也不是全都对的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 txBox="1"/>
          <p:nvPr/>
        </p:nvSpPr>
        <p:spPr>
          <a:xfrm>
            <a:off x="357480" y="664920"/>
            <a:ext cx="84290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阅读吧！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阅读《中外科学家的故事》这本书，去走近和结识更多的科学家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539280" y="3860280"/>
            <a:ext cx="85410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胆大妄为：形容一个人胆量大，胡作非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308720" y="0"/>
            <a:ext cx="827280" cy="40464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4360" y="765000"/>
            <a:ext cx="854064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固执：坚持自己的意见不肯改变。无论自己的观点是对或是错，含贬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执著：坚持自己的信念永不放弃。含褒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0" name=""/>
          <p:cNvGraphicFramePr/>
          <p:nvPr/>
        </p:nvGraphicFramePr>
        <p:xfrm>
          <a:off x="2050920" y="2349360"/>
          <a:ext cx="4465800" cy="4040280"/>
        </p:xfrm>
        <a:graphic>
          <a:graphicData uri="http://schemas.openxmlformats.org/drawingml/2006/table">
            <a:tbl>
              <a:tblPr/>
              <a:tblGrid>
                <a:gridCol w="2233440"/>
                <a:gridCol w="2232360"/>
              </a:tblGrid>
              <a:tr h="20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78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987640" y="44280"/>
            <a:ext cx="2305080" cy="215928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3197160" y="1844640"/>
            <a:ext cx="23144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0" spc="-1" strike="noStrike">
                <a:solidFill>
                  <a:srgbClr val="ff0000"/>
                </a:solidFill>
                <a:latin typeface="Tahoma"/>
                <a:ea typeface="楷体_GB2312"/>
              </a:rPr>
              <a:t>妄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Tahoma"/>
              </a:rPr>
              <a:t>交流：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11280" y="2361960"/>
            <a:ext cx="8532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课文写了一件什么事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课文先写了                              ，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然后                                        ，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最后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"/>
          <p:cNvSpPr/>
          <p:nvPr/>
        </p:nvSpPr>
        <p:spPr>
          <a:xfrm>
            <a:off x="3635280" y="3860640"/>
            <a:ext cx="475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979640" y="4653000"/>
            <a:ext cx="648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979640" y="5373720"/>
            <a:ext cx="655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8496360" y="479736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伽利略是一个                   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的科学家。从文中划出相关词句读一读，并写出感受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"/>
          <p:cNvSpPr/>
          <p:nvPr/>
        </p:nvSpPr>
        <p:spPr>
          <a:xfrm>
            <a:off x="4788000" y="2205000"/>
            <a:ext cx="38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汇报交流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找到的语句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从中我感受到伽利略是个                                                     的科学家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564000" y="2565360"/>
            <a:ext cx="4895640" cy="0"/>
          </a:xfrm>
          <a:prstGeom prst="line">
            <a:avLst/>
          </a:prstGeom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042920" y="0"/>
            <a:ext cx="647640" cy="40464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79280" y="0"/>
            <a:ext cx="720720" cy="40464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979640" y="0"/>
            <a:ext cx="720720" cy="43164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708360" y="0"/>
            <a:ext cx="827280" cy="40464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307280" y="7315920"/>
            <a:ext cx="720720" cy="40500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372360" y="3933720"/>
            <a:ext cx="2087280" cy="0"/>
          </a:xfrm>
          <a:prstGeom prst="line">
            <a:avLst/>
          </a:prstGeom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771640" y="0"/>
            <a:ext cx="827280" cy="40464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572000" y="0"/>
            <a:ext cx="826920" cy="40464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508720" y="0"/>
            <a:ext cx="826920" cy="40464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8317080" y="0"/>
            <a:ext cx="826920" cy="40464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380360" y="0"/>
            <a:ext cx="826920" cy="40464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89308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伽利略是</a:t>
            </a:r>
            <a:r>
              <a:rPr b="0" lang="en-US" sz="4800" spc="-1" strike="noStrike">
                <a:solidFill>
                  <a:srgbClr val="007a77"/>
                </a:solidFill>
                <a:latin typeface="Arial"/>
              </a:rPr>
              <a:t>17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世纪意大利伟大的科学家。他在学校念书的时候，同学们就称他为“辩论家”。他提出的问题很不寻常，常常使老师很难解答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516720" y="0"/>
            <a:ext cx="720720" cy="40464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89308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伽利略是</a:t>
            </a:r>
            <a:r>
              <a:rPr b="0" lang="en-US" sz="4800" spc="-1" strike="noStrike">
                <a:solidFill>
                  <a:srgbClr val="007a77"/>
                </a:solidFill>
                <a:latin typeface="Arial"/>
              </a:rPr>
              <a:t>17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世纪意大利伟大的科学家。他在学校念书的时候，同学们就称他为“辩论家”。他提出的问题</a:t>
            </a:r>
            <a:r>
              <a:rPr b="0" lang="zh-CN" sz="4800" spc="-1" strike="noStrike" u="sng">
                <a:solidFill>
                  <a:srgbClr val="ff0000"/>
                </a:solidFill>
                <a:uFillTx/>
                <a:latin typeface="Arial"/>
              </a:rPr>
              <a:t>很不寻常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，常常使老师很难解答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516720" y="0"/>
            <a:ext cx="720720" cy="40464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380360" y="0"/>
            <a:ext cx="720720" cy="404640"/>
          </a:xfrm>
          <a:prstGeom prst="triangle">
            <a:avLst>
              <a:gd name="adj" fmla="val 5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03:27:45Z</dcterms:created>
  <dc:creator>Administrator</dc:creator>
  <dc:description/>
  <dc:language>en-US</dc:language>
  <cp:lastModifiedBy/>
  <dcterms:modified xsi:type="dcterms:W3CDTF">2015-08-19T03:26:03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