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B03-0B4C-4345-8272-5E7E6D7D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607-FE6C-4CAB-97BE-202955D2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D37-8D05-43F9-8F7A-C72532A8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5BE-F638-4A52-9478-41A58A0B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603-CE0F-4D3E-8F4D-44043A2E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E57-78A6-4933-87E6-F451BC12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E81-BE2F-47D3-8EF9-3C160267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57C-9ADA-4AA7-99C4-B9F5A1C7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FB6-F49D-4331-8C95-E3024224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68E-FAFE-4738-B2EA-45FD811F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A0B8-7E24-42A1-864D-63D21C22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47F-2A0A-44F5-8A62-945E1FED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E0B6-F2BA-45CE-BD2D-CAEED7493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27640" y="2997360"/>
            <a:ext cx="1295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268280"/>
            <a:ext cx="56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1341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1700280"/>
            <a:ext cx="6134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隶书"/>
                <a:ea typeface="隶书"/>
              </a:rPr>
              <a:t>  </a:t>
            </a:r>
            <a:r>
              <a:rPr b="1" lang="zh-CN" sz="7200" spc="-1" strike="noStrike">
                <a:solidFill>
                  <a:srgbClr val="333399"/>
                </a:solidFill>
                <a:latin typeface="隶书"/>
                <a:ea typeface="隶书"/>
              </a:rPr>
              <a:t>林中乐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92360" y="1125360"/>
            <a:ext cx="691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ff33cc"/>
                </a:solidFill>
                <a:latin typeface="黑体"/>
                <a:ea typeface="黑体"/>
              </a:rPr>
              <a:t>què    yīng     zh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燕雀     莺      蚱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ff33cc"/>
                </a:solidFill>
                <a:latin typeface="黑体"/>
                <a:ea typeface="黑体"/>
              </a:rPr>
              <a:t>zhuó       d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啄木鸟   白眉鸫</a:t>
            </a:r>
            <a:r>
              <a:rPr b="1" lang="en-US" sz="40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ff33cc"/>
                </a:solidFill>
                <a:latin typeface="黑体"/>
                <a:ea typeface="黑体"/>
              </a:rPr>
              <a:t>chún    yīng   zh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白山鹑   猫头鹰  沙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227640" y="2997360"/>
            <a:ext cx="1295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1268280"/>
            <a:ext cx="56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5832360" cy="4535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96000" y="2997360"/>
            <a:ext cx="107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燕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08000" y="1197000"/>
            <a:ext cx="4318200" cy="4076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72360" y="3860640"/>
            <a:ext cx="93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35280" y="1052640"/>
            <a:ext cx="5832360" cy="4465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227640" y="2924280"/>
            <a:ext cx="128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蚱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835280" y="1052640"/>
            <a:ext cx="5832360" cy="4464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12000" y="1341360"/>
            <a:ext cx="2233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27640" y="2205000"/>
            <a:ext cx="1079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啄木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rcRect l="2350" t="0" r="0" b="9514"/>
          <a:stretch/>
        </p:blipFill>
        <p:spPr>
          <a:xfrm>
            <a:off x="1979640" y="1125360"/>
            <a:ext cx="5626080" cy="404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227640" y="2133720"/>
            <a:ext cx="147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白眉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908000" y="1197000"/>
            <a:ext cx="5688360" cy="424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43640" y="2060640"/>
            <a:ext cx="936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白山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835280" y="1052640"/>
            <a:ext cx="5832360" cy="4370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471720" y="2852640"/>
            <a:ext cx="68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rcRect l="7559" t="0" r="0" b="38788"/>
          <a:stretch/>
        </p:blipFill>
        <p:spPr>
          <a:xfrm>
            <a:off x="2268360" y="2276640"/>
            <a:ext cx="5397840" cy="268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227640" y="299736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天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227640" y="1989000"/>
            <a:ext cx="1081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猫头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30956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会写生字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3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奏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ò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奏乐）（伴奏）奏：演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奏效）奏：发生；取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辨字：奉（奉献）秦（秦朝）凑（紧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脆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ì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清脆）（干脆）脆：声音清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干脆）脆：说话做事痛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辨字：跪（下跪）诡（诡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ā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猫头鹰）：一种食肉哺乳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辨字：描（描绘）瞄（瞄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5905440" cy="4535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80000" y="2205000"/>
            <a:ext cx="1274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丸花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92360" y="1125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3141720"/>
            <a:ext cx="2663640" cy="24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huàn  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啭   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2630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227640" y="2997360"/>
            <a:ext cx="1295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1268280"/>
            <a:ext cx="561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三月，莺唱起歌来，白天黑夜，老是尖声叫着，啭啼着。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孩子们都觉奇怪，它什么时候睡觉呢？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原来春天鸟是没工夫睡大觉的，它每次只能睡短短的一小觉：它唱一阵，打个盹，醒来再唱第二阵；半夜里睡一会儿，中午睡一会儿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第一段写了阳春三月鸟儿们的习性——总是不停的叫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227640" y="2997360"/>
            <a:ext cx="1295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1268280"/>
            <a:ext cx="56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8000" y="1341360"/>
            <a:ext cx="5832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在清晨和黄昏，不光是鸟，森林里所有的动物都在唱歌奏乐：各唱各的曲子，各用各的乐器；各有各的唱法，各有各的奏法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【句导读：“所有的”强调了范围之广。这是本课的中心句，用统一的句式“各……各…… ”突出了“唱的曲子”“用的乐器”“唱法”的丰富多彩。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83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在森林里可以听到清脆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独唱、拉提琴、打鼓、吹笛；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以听到嗥声、咳嗽声、呻吟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也可以听到吱吱声、嗡嗡声、呱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声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【句导读：用分号对各种声音进行了分类，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类是从乐器角度，第二类是从声音的名称角度，第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类从拟声的角度。这样，可以感觉到森林中音乐声此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彼伏，形形色色。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83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燕雀、莺和歌声婉转的鸫鸟，用清脆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纯净的声音唱着。甲虫吱吱嘎嘎地拉着提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啄木鸟打着鼓。黄鸟尖声尖气地吹着笛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母鹿咳嗽着。狼嗥叫着。猫头鹰哼哼着。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蜂嗡嗡地响着。青蛙咕噜咕噜地吵一阵，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呱呱地叫一阵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句导读：详细地列举了各种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同种类的动物们花样各异的表演方式、方法。动词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形容词、拟声词合理使用，烘托森林中的热闹非凡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段详细介绍了林中各种乐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抓住各种动物声音进行细腻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，突出了中心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618920" y="1125000"/>
            <a:ext cx="5977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好嗓子的动物，也不觉得难为情。它们会按照自己的爱好来选择乐器：啄木鸟寻找能发出响亮声音的枯树枝，这就是它们的鼓。它们那结实的嘴，就是顶好的鼓槌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句导读：恰当的使用了比喻，把“枯树枝”比作“鼓”，“嘴”比作“鼓槌”，生动形象，使人读后能想象出啄木鸟发出的声音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天牛的脖子嘎吱嘎吱地响—这不是活像在拉一把小提琴吗？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【句导读：不仅使用了拟声词“嘎吱嘎吱”，还使用了比喻、反问的修辞手法，逼真的写出了天牛所发出的声音和发音的方式。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476360" y="98100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蚱蜢用小爪子抓翅膀：它们的小爪子上有小钩子，翅膀上有锯齿。一种火红色的水鸟把嘴伸到水里，使劲一吹，把水吹的扑噜扑噜直响，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整个湖里轰传起一阵喧嚣，好像牛叫似得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沙雉更是异想天开，它竟用尾巴唱起歌来：它一个腾身冲入云霄，然后张开尾巴，头朝下直冲下来。它的尾巴兜着风，发出一种“咩咩”的声音—不折不扣，活像羊羔在森林的上空叫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66"/>
                </a:solidFill>
                <a:latin typeface="Arial"/>
              </a:rPr>
              <a:t>喧嚣：声音杂乱；不清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66"/>
                </a:solidFill>
                <a:latin typeface="Arial"/>
              </a:rPr>
              <a:t>雉：形状像鸡，尾巴很美丽，擅走不能久飞。俗称野鸡、山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66"/>
                </a:solidFill>
                <a:latin typeface="Arial"/>
              </a:rPr>
              <a:t>异想天开：形容想法离奇，不切实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66"/>
                </a:solidFill>
                <a:latin typeface="Arial"/>
              </a:rPr>
              <a:t>咩咩：拟声词，指羊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66"/>
                </a:solidFill>
                <a:latin typeface="Arial"/>
              </a:rPr>
              <a:t>不折不扣：不打折，不降低标准。这里指声音逼真。不、、、、、、不、、、、、、：不慌不忙、不屈不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66"/>
                </a:solidFill>
                <a:latin typeface="Arial"/>
              </a:rPr>
              <a:t>不偏不倚   不伦不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1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森林里的乐队就是这样组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乐队：演奏不同乐器的许多人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成的集体。运用比喻说法妥帖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趣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你听过蒲公英梳头的声音吗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蒲公英有一蓬金黄色的头发，当起风的时候，头发互相轻触着，像磨砂纸那样沙沙地一阵细响，转眼间，她的头发，全被风儿梳掉了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听过雪花飘落的声音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个宁静的冬夜，一朵小小的雪花，从天上轻轻地、轻轻地飘下，飘啊飘，飘落在路边一盏孤灯的面颊上，微微地一阵暖意，小雪花满足而温柔地融化了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你善于用你的耳朵吗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你听见了世界的声音吗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你用心听了吗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?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08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异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ì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异想天开）异：奇异；特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异口同声）异：不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离异）异：分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辨字：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弃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放弃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导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开导）（辅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竟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ìng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（竟然）竟：表示出乎意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竟日）竟：从头到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辨字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章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（文章）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竞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（竞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扣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kòu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（不折不扣）扣：从原来数额中减去一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（扣留）扣：扣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辨字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（和平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扫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（打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83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ké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咳（咳嗽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òu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嗽（咳嗽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wēng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嗡（嗡嗡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ǎn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婉（婉转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hēng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哼（哼小曲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ū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枯（枯枝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dōu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兜（提兜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近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63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奇怪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奇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清脆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清越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纯净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洁净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顶好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很好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喧嚣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喧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异想天开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想入非非（胡思乱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折不扣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货真价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反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奇怪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平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清脆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沙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纯净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浑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喧嚣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安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异想天开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脚踏实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折不扣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七折八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1125360"/>
            <a:ext cx="67672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吠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è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i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声   嗥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á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o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吱吱声        嗡嗡声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咕噜咕噜    扑噜扑噜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吱吱嘎嘎    嘎吱嘎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2360" y="1125360"/>
            <a:ext cx="691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dǔn shēn ɡū  dū  wǎn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盹     呻   咕   嘟   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ɡā  hēnɡ  lū  ɡōu xuā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嘎   哼    噜   钩    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xiāo dōu  miē  kò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嚣     兜    咩    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92360" y="1125360"/>
            <a:ext cx="691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盹     呻   咕   嘟   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嘎   哼    噜   钩    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嚣     兜    咩    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8:10:12Z</dcterms:created>
  <dc:creator>Administrator</dc:creator>
  <dc:description/>
  <dc:language>en-US</dc:language>
  <cp:lastModifiedBy/>
  <dcterms:modified xsi:type="dcterms:W3CDTF">2015-08-11T02:10:29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