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27C-2545-4C90-9A3F-AEC61649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301-AF60-4AF0-8D00-665E9CFC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54F-75A2-444C-8CBC-64E383E8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50F-91B3-4CC2-A129-D4EBE1CD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D6C-E3A9-40FB-971C-6FE5E8BA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73C-4A83-4ACA-9720-520ECCC4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32E4-B179-4500-84D6-06D09A97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C70-9CD8-4B29-8509-476217AA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498-0AA3-4252-8D94-4D03DB47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BB3-78D0-49F1-951E-B9FC3419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11A-320D-4121-8D6E-5D3F52B5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63E-7C1C-4F10-9F61-4865BA2A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4662-E81D-4D72-B94B-3354043DF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404640"/>
            <a:ext cx="237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方寸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3009960"/>
            <a:ext cx="4616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罗斯福集邮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0"/>
            <a:ext cx="2916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北师大版小学语文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四年级上册第六单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交流：大家读得很用心，让我们一起来分享一下你的收获吧。谁来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[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喜爱集邮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]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你从是哪里读出罗斯福对集邮的喜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从中体会到什么？能不能结合句子和词语来谈一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比较读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]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重点体会“可是他一直坚持每晚临睡前用半小时来集邮”，比较“可是他坚持每晚临睡前用半小时来集邮”这两句话有什么区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第一句话加了“一直”）。那么，这个“一直”坚持了多长时间？联系前后句来找一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每天半小时，一年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365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天，当了总统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3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年的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[0.5X365X1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“一直”这个词中你能看出罗斯福是一个怎样的人？（体会罗斯福对集邮那种坚持不懈的精神和毅力）。加了“一直”这个词使我们对罗斯福那种坚持不懈的精神有了更深的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能通过你你朗读表达出罗斯福这种坚持不懈的精神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还用了哪些关联词语写出了罗斯福坚持不懈的精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虽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…也…）用上这些关联词，对文章表达有什么好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根据你的体会，能通过朗读表达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罗斯福为了集邮，付出了自己宝贵的时间和精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付出时间、精力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]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结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罗斯福做为一个国家的总统，每天工作压力很大，非常劳累，这半个小时休息时间，对他来说是多么珍贵。他却能做到一直，每晚都坚持集邮，甚至连去国外开会都随身携带，可见，集邮对于他来说是多么重要，他对集邮是多么的喜爱。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227664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罗斯福在谈到他集邮的体会时说：“集邮者得到的益处是这样的多，以至于很难讲清楚这种业余爱好的最大益处是什么．但不论怎么样，集邮所提供的欢乐，证明我们的爱好是可取的，我们得到的足以抵偿我们付出的代价．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27280" y="6922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情感升华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1341360"/>
            <a:ext cx="86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老舍先生说过：“集邮长知识，嗜爱颇高尚．切莫去居奇，赚钱代欣赏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94680" y="3715200"/>
            <a:ext cx="51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说说你的看法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00000" y="333360"/>
            <a:ext cx="367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回顾内容，思考问题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集邮增长知识”是说集邮可以积累知识，增长才干，“嗜爱颇高尚”是说集邮是一项高雅的爱好，可以开拓视野，陶冶情操；“切莫去居奇，赚钱代欣赏”是说千万不要把邮票当成一种奇货，以赚钱来代替欣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老舍先生认为集邮的带给我们的好处是积累知识，增长才干、拓展视野、陶冶情操，我们不能以赚钱为出发点来集邮。你能结合老舍的观点，评论一下罗斯福集邮的目的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罗斯福集邮的目的只是为了欣赏，尽管他花费了一定的金钱，但他认为值得，他在乎的不是邮票值不值钱，而是在欣赏邮票的过程中体会到的快乐。罗斯福从集邮的过程中体验到了无穷的乐趣，你能感受到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为我们朗读一下这段话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716280"/>
            <a:ext cx="84596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罗斯福的眼里，集邮的价值在于开拓视野、陶冶性情、积累知识、增长才干。因此，即便是花点时间和金钱去集邮也是值得的，表现了他坦诚的性格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学目标 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综合运用多种方法独立识字，认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，正确、规范、整洁地书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。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多种渠道查阅罗斯福先生的资料，激发探究课文内容的兴趣。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概括课文的方法，理解课文是从哪些方面介绍罗斯福集邮的。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畅言收获，拓展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了这篇课文，你都有哪些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收集罗斯福其它资料，互相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836640"/>
            <a:ext cx="856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课后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必做题：认认真真地抄写生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 选做题：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（我选择我喜欢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讲一个自己或别人集邮的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给“神舟七号”设计一张精美的纪念邮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3960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们看这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96000" y="3068640"/>
            <a:ext cx="2320920" cy="3097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2205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对邮票有哪些了解？我们来欣赏几张美丽的邮票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2330280" cy="309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132000" y="3068640"/>
            <a:ext cx="2318040" cy="3097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28083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到同学们发出的感叹声，看来大家也被这些美丽的邮票所吸引。许多人非常喜欢邮票便把邮票收集起来，这种爱好就是集邮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美国历史上有位总统非常喜欢集邮，他就是罗斯福，今天我们就来学习《罗斯福集邮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于罗斯福，除了他的爱好，你还了解些什么呢？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谁查到了有关资料，给大家介绍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4140360" cy="330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033800" y="1773360"/>
            <a:ext cx="2193840" cy="338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232680" y="1773360"/>
            <a:ext cx="29476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27600" cy="4941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51280" y="2782800"/>
            <a:ext cx="4896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富兰克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·D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罗斯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882.1.30—1945.4.1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世纪美国最受民众期望和受爱戴的总统，也是美国历史上惟一连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届总统的人，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起，直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去世时为止，任职长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。他是身残志坚的代表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也受到世界人民的尊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013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罗斯福出生于纽约。父亲詹姆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罗斯福是一个百万富翁。母亲萨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德拉诺比父亲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岁。罗斯福曾就读于哈佛大学和哥伦比亚大学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任纽约州参议员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任海军部副部长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因患脊髓灰质炎（俗称：小儿麻痹）致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任纽约州长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竞选总统获胜。执政后，以“新政”对付经济危机，颇有成效，故获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大选连任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岁时由于脑溢血去世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427640" y="20520"/>
            <a:ext cx="42861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罗斯福为什么会对集邮产生这样大的兴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谈谈自己的想法。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就让我们一起来看课文。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读体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请同学们快速浏览课文，考虑课文是从哪几方面介绍罗斯福集邮的？划出有关的语句（指导：概括总起句）从第二自然段开始，每一段开头都有一个总起句，从总起句中，我们能找出关键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[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喜爱集邮、学到知识、收集邮票、普及邮票、关心印制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请你细细品读自己最感兴趣的一方面，看看能读出点什么，有了收获，可以在旁边写下自己的感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2:49:40Z</dcterms:created>
  <dc:creator>Administrator</dc:creator>
  <dc:description/>
  <dc:language>en-US</dc:language>
  <cp:lastModifiedBy/>
  <dcterms:modified xsi:type="dcterms:W3CDTF">2015-08-11T01:31:31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