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C06-EA18-420C-A49E-0B2A17BE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83E-2BFC-449D-A6D3-C67D4C1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F17-76F1-4F0E-BE5A-D9AAA5AE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1B1-ED8C-4714-8232-D69880A6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7313-FED9-4CAF-A86B-9754EFE8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8A26-C3F0-42B2-BA3F-D55B682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10A4-AE4B-4DE5-A3A7-E70E7290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7999-5C7F-475B-95CD-9B0B49B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F26F-FA74-4A98-BD1D-8DC1F95E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8C11-931B-4DDC-B7E8-998FE66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7EE-2B02-4D3F-B55F-BFFCAE1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9A8-7C85-4BB6-8BD0-2A0B2EBD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624-DC62-4204-B1B1-5EE3C0D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C327-C7DF-4B78-A2B0-3E08934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28AE-7D8C-4EBE-B644-F74F2E83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215C-658A-4771-9C14-78D7D5FD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8E75-20F7-490C-918F-14E4472E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F88-A4CC-4EBF-82F7-A59F8CEC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2EE-58EA-4FB5-9857-052E12F5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66D-AD4A-4A46-A4E0-BEC93E1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7DA-E286-4773-A69F-970900F8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3F9D-31D1-48DC-BBE0-887A6E06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F62-D343-4E6E-BCFB-BC97254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E37-152C-4600-B6F0-82F7840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0045-471D-4D3E-B0C0-6F99A7A39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EE77-B113-4BE5-970D-6BE8499EBFD9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3" descr=""/>
          <p:cNvPicPr/>
          <p:nvPr/>
        </p:nvPicPr>
        <p:blipFill>
          <a:blip r:embed="rId1"/>
          <a:stretch/>
        </p:blipFill>
        <p:spPr>
          <a:xfrm>
            <a:off x="1292400" y="1066680"/>
            <a:ext cx="72118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085760" y="500040"/>
            <a:ext cx="33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整体感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43040" y="1447920"/>
            <a:ext cx="7829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课文题目是“绿叶的梦”，可是全文好像跟“梦”并没有关系，把题目改成“我爱绿叶”是不是更好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857160" y="64296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971640" y="266688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                  ），像（                                                    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971640" y="160020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秋天，树叶在风中飘落，像一群群蝴蝶飞向我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569240" y="1466640"/>
            <a:ext cx="6373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教学目标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认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个生字，会写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个生字，能正确地把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求会写的生字写下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抓住课文的重点部分，读懂课文内容，体会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者的思想感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有感情地朗读课文，背诵课文第五自然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857160" y="906480"/>
            <a:ext cx="31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    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857160" y="1676520"/>
            <a:ext cx="77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粱   瓢   搜   汇   岗   旷   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痰   忆   戒   枣   刺   陈   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14240" y="13716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d99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200240" y="3200400"/>
            <a:ext cx="79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d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87240" y="988920"/>
            <a:ext cx="50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读课文，整体感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800280" y="2057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读了课文，你最大的感受是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857160" y="281952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绿叶给作者的童年带来了很多欢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14400" y="3581280"/>
            <a:ext cx="69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选择自己最喜欢的段落读给大家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43040" y="6094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读第一自然段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914400" y="142884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你知道了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14240" y="220968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然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最使我着迷的还是树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           ），最使我着迷的还是树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628560" y="1143000"/>
            <a:ext cx="79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作者为什么对绿叶那么着迷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1" descr="C:\Users\Administrator\Desktop\u=78781132,1737513231&amp;fm=21&amp;gp=0.jpg"/>
          <p:cNvPicPr/>
          <p:nvPr/>
        </p:nvPicPr>
        <p:blipFill>
          <a:blip r:embed="rId1"/>
          <a:stretch/>
        </p:blipFill>
        <p:spPr>
          <a:xfrm>
            <a:off x="628560" y="2362320"/>
            <a:ext cx="76010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228600" y="838080"/>
            <a:ext cx="8715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星期天，我们跑遍密密的树林、杂草丛生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河边、广阔的田野和一道道土岗。爬大树，钻丛林，嬉笑，打闹，欢乐的笑声惊飞了觅食的小鸟。篮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里装满了各种绿叶。我们用元宝树叶串成项链，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金黄色的菟）丝子草做成戒指和手镯豆角花挂在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朵上，野菊花插满了小辫儿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旷野的课堂里，绿叶和野花谱写成我们生活的乐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285840" y="609480"/>
            <a:ext cx="914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秋天，树叶在风中飘落，像一群群蝴蝶飞向我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们背着筐，扛着筢，奔跑着，欢呼着，搂树叶，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成垛，躺在上面打滚，翻跟头，坐下来挑选出那些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亮的叶子。鲜红的，金黄的，串成长长的彩色叶链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教室里，满屋洋溢着丰收的欢乐。那许许多多留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标本的叶子，成了我们的珍宝：圆形的、条状的、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形的、针状的、蛋形的、元宝状的、叶面带茸毛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一陈列开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57200" y="1219320"/>
            <a:ext cx="8115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羽状的山扁豆叶子可当茶，祛痰止渴；细长的垂柳叶子可解酒毒，治皮癣；桑叶清热明目，治手脚麻木；薄荷叶医感冒头疼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57200" y="34290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叶子不仅可以观赏，还能带来这么大的益处，你还知道那些有趣的生活知识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15T20:45:57Z</dcterms:modified>
  <cp:revision>1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