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B72-839E-4715-B2F7-D3B3D1EE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8BE-4748-4C6B-B582-20BABD64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5AF-F1DF-4539-AA71-9A29552F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924-5D78-414C-BE46-72105F59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F19-9424-41DA-9976-F9F874DE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F6F-3031-459D-84AE-81E8A1C5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698-45C3-4071-8A6A-ADD3EE5A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7F4-4EBB-4C80-AB17-3A427BBE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803-F234-4515-B92E-D857A59B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B3E-885A-4B4E-A0C2-7991B28D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878-E298-4082-93A5-D9190F66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0AB-325E-4314-AEFB-9C64640F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DB20-3D57-4643-B678-45F40AEE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762120" y="914400"/>
            <a:ext cx="792468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8800" spc="-1" strike="noStrike">
                <a:solidFill>
                  <a:srgbClr val="996633"/>
                </a:solidFill>
                <a:latin typeface="Arial"/>
              </a:rPr>
              <a:t>麻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01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380880" y="685800"/>
            <a:ext cx="79250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Arial"/>
              </a:rPr>
              <a:t>想一想</a:t>
            </a:r>
            <a:r>
              <a:rPr b="0" lang="zh-CN" sz="4800" spc="-1" strike="noStrike">
                <a:solidFill>
                  <a:srgbClr val="00206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一种强大的力量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指的是什么力量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124080" y="44956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母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05920" y="5638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467840" cy="5600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32640" cy="6324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302680" cy="6011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c9a3c7472ceb495-d3ae481fb214052f-7f31f676e86243cb91a54749abbd9e41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6705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Arial"/>
              </a:rPr>
              <a:t>作业</a:t>
            </a:r>
            <a:r>
              <a:rPr b="1" lang="en-US" sz="6000" spc="-1" strike="noStrike">
                <a:solidFill>
                  <a:srgbClr val="cc00cc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676520" y="3352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62120" y="198108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学了这篇课文，你感受最深的是什么？写下来，然后大声说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用实际行动回报父母的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9246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3429000" y="1828800"/>
            <a:ext cx="170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52480" y="1600200"/>
            <a:ext cx="56390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指导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46e186edx6fd7cb15846c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6248520" y="2819520"/>
            <a:ext cx="228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Arial"/>
              </a:rPr>
              <a:t>麻雀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0100114103102382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2590920"/>
            <a:ext cx="876312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亲眼目睹了一件怎样的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0070923154904376"/>
          <p:cNvPicPr/>
          <p:nvPr/>
        </p:nvPicPr>
        <p:blipFill>
          <a:blip r:embed="rId1"/>
          <a:srcRect l="0" t="0" r="304" b="3624"/>
          <a:stretch/>
        </p:blipFill>
        <p:spPr>
          <a:xfrm>
            <a:off x="1440" y="0"/>
            <a:ext cx="9115560" cy="6608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描写小麻雀的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顺着林阴路望去，看见一只小麻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站在地上，                  拍打着小翅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嘴角嫩黄，头上长着绒毛，分明是刚出生不久，从巢里掉下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63640" y="238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呆呆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4106880" y="2362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可奈何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380988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它看来，猎狗是个多么庞大的怪物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371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描写猎狗的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猎狗慢慢地走近小麻雀，嗅了嗅，张开大嘴，露出锋利的牙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019920" y="15238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715000" y="16765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143000" y="1630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4300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锋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377000" y="4297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664080" cy="6330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304920" y="4572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一比哪个句子好，好在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80880" y="1905120"/>
            <a:ext cx="746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04920" y="1447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突然，一只老麻雀从一棵树上飞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31240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一只老麻雀从一棵树上飞下来，                            在猎狗面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398760" y="3657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一块石头似的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12408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51680" y="3124080"/>
            <a:ext cx="9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突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739040" y="2577600"/>
            <a:ext cx="137880" cy="231156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066680" y="3352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像一块石头似的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257800" y="457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勇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10552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救儿心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181480" y="2286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爱子之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503348495077"/>
          <p:cNvPicPr/>
          <p:nvPr/>
        </p:nvPicPr>
        <p:blipFill>
          <a:blip r:embed="rId1"/>
          <a:stretch/>
        </p:blipFill>
        <p:spPr>
          <a:xfrm>
            <a:off x="5486400" y="457200"/>
            <a:ext cx="3352680" cy="6156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914400" y="10666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04920" y="457200"/>
            <a:ext cx="51051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突然，一只老麻雀从一棵树上飞下来，像一块石头似的落在猎狗面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扎煞起全身的羽毛，绝望地尖叫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2819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老麻雀用自己的身躯掩护着小麻雀，想拯救自己的幼儿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是因为紧张，它浑身发抖了，发出嘶哑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28600" y="5334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呆立着不动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准备着一场搏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扎煞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身的羽毛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绝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尖叫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373392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扎煞起全身的羽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是飞禽类与“敌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争斗时或因为遇到危险时紧张、害怕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望地尖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发出尖叫时带着毫无希望的神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32:13Z</dcterms:created>
  <dc:creator>Administrator</dc:creator>
  <dc:description/>
  <dc:language>en-US</dc:language>
  <cp:lastModifiedBy/>
  <dcterms:modified xsi:type="dcterms:W3CDTF">2016-04-25T08:32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