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AE4-D12D-4935-AAA4-A4E4CB2E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473-2021-4A6D-904E-41BCE67C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B05-9137-41FD-B2AC-7A0595BF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F46-2C3D-4055-9683-37862CA3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07F-7D41-4D6D-96A6-F450A33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CC3-5984-4894-9AAD-8425D1B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5B5-55B2-4742-A279-541FB17A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426-345B-4AE0-BCF8-EEDD6AB7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4F1-F24D-476C-8A4C-C03A1B4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9D4-9A73-4269-A64D-BE3E111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2F6-A8C6-4DAE-9E8B-5DBA496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380-42F4-4283-8AE8-A3DE62C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699-BF34-46EB-BCB1-2C4589BF6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233" r="4811" b="3806"/>
          <a:stretch/>
        </p:blipFill>
        <p:spPr>
          <a:xfrm>
            <a:off x="324000" y="117360"/>
            <a:ext cx="8783640" cy="668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61080" y="1486080"/>
            <a:ext cx="331128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梅花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508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0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480" y="47520"/>
            <a:ext cx="9075600" cy="6762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1557360"/>
            <a:ext cx="7704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千年来，我们中华民族出了许多有气节的人物，他们不管历经多少磨难，不管受到怎样的欺凌，从来都是顶天立地，不肯低头折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就像这梅花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62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花的精神就是（                  ），中华民族的精神就是（                       ），作为中国人（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00" y="333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花的精神就是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愈是寒冷，愈是风欺雪压，花开得愈精神，愈秀气。她是最有品格、最有灵魂、最有骨气的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中华民族的精神就是（                   ），作为中国人（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8000" y="333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花的精神就是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愈是寒冷，愈是风欺雪压，花开得愈精神，愈秀气。她是最有品格、最有灵魂、最有骨气的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中华民族的精神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他们不管历经多少磨难，不管受到怎样的欺凌，从来都是顶天立地，不肯低头折节，他们就像这梅花一样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作为中国人（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8000" y="3333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花的精神就是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愈是寒冷，愈是风欺雪压，花开得愈精神，愈秀气。她是最有品格、最有灵魂、最有骨气的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中华民族的精神就是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们不管历经多少磨难，不管受到怎样的欺凌，从来都是顶天立地，不肯低头折节，他们就像这梅花一样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作为中国人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在怎样的境遇里，总要有梅花的秉性才好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067600" cy="344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8000" y="443700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阅读自读课本第六单元，仔细体会人物的情感。举办一次“月是故乡明”读书朗诵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30440" y="2205000"/>
            <a:ext cx="4657680" cy="1950120"/>
            <a:chOff x="2530440" y="2205000"/>
            <a:chExt cx="4657680" cy="1950120"/>
          </a:xfrm>
        </p:grpSpPr>
        <p:sp>
          <p:nvSpPr>
            <p:cNvPr id="79" name=""/>
            <p:cNvSpPr/>
            <p:nvPr/>
          </p:nvSpPr>
          <p:spPr>
            <a:xfrm>
              <a:off x="2549520" y="2278080"/>
              <a:ext cx="4638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700" spc="-1" strike="noStrike">
                  <a:solidFill>
                    <a:srgbClr val="ffff00"/>
                  </a:solidFill>
                  <a:latin typeface="Arial"/>
                  <a:ea typeface="方正行楷简体"/>
                </a:rPr>
                <a:t>欢迎指导！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30440" y="2205000"/>
              <a:ext cx="4638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700" spc="-1" strike="noStrike">
                  <a:solidFill>
                    <a:srgbClr val="ff0000"/>
                  </a:solidFill>
                  <a:latin typeface="Arial"/>
                  <a:ea typeface="方正行楷简体"/>
                </a:rPr>
                <a:t>欢迎指导！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55736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少年过去了，我每次看到外祖父珍藏的这幅梅花图和给我的手绢，就想到，这不只是花，而且是身在异国的华侨老人一颗眷恋祖国的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2360" y="406440"/>
            <a:ext cx="8713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五岁那年，有一回到书房玩耍，不小心在上面留了个脏手印，外祖父顿时拉下脸来。有生以来，我第一次听到他训斥我妈：“孩子要管教好，这清白的梅花，是玷污得的吗？”训罢，便用保险刀片轻轻刮去污迹，又用细绸子慢慢抹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97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比较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这清白的梅花，是玷污得的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这清白的梅花，是不能玷污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83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外祖父家中有不少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古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我偶尔摆弄，老人也不甚在意。唯独书房里那一幅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墨梅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他分外爱惜，家人碰也碰不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620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梅花，是我们中国最有名的花。旁的花，大抵是春暖才开花，她却不一样，愈是寒冷，愈是风欺雪压，花开得愈精神，愈秀气。她是最有品格、最有灵魂、最有骨气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209" t="0" r="0" b="8412"/>
          <a:stretch/>
        </p:blipFill>
        <p:spPr>
          <a:xfrm>
            <a:off x="252360" y="260280"/>
            <a:ext cx="8712360" cy="619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47520"/>
            <a:ext cx="9074160" cy="6838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6732" t="0" r="0" b="10287"/>
          <a:stretch/>
        </p:blipFill>
        <p:spPr>
          <a:xfrm>
            <a:off x="395280" y="260280"/>
            <a:ext cx="8561520" cy="410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00" y="46544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梅花，是我们中国最有名的花。旁的花，大抵是春暖才开花，她却不一样，愈是寒冷，愈是风欺雪压，花开得愈精神，愈秀气。她是最有品格、最有灵魂、最有骨气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21:58:07Z</dcterms:created>
  <dc:creator>Administrator</dc:creator>
  <dc:description/>
  <dc:language>en-US</dc:language>
  <cp:lastModifiedBy/>
  <dcterms:modified xsi:type="dcterms:W3CDTF">2015-08-19T02:53:57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