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0C3-FCA9-4D13-8280-D7FF0B0C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FC84-74A6-44FA-A243-22104ABB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B34-2A0E-448C-A1FB-0556CBFD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D54-8995-4516-A6DE-9BBC6D9E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928-240B-4B3D-B307-7C29E6D7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880-4517-4CB5-99C0-2A37A6FC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D0D-90B4-4DCD-9CBA-024BB45F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FFCE-BC18-4C3B-9F93-0CBEAAE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9CB9-718B-424A-A4BC-51F4D3E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CEC-9AA4-4276-91D6-0E68A474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F5B-76D3-4803-8B52-74FE65A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572-FCC6-488E-898E-BAB433C9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16E0-428F-48C7-B755-1A340B05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2268360" y="2060640"/>
            <a:ext cx="5328000" cy="4626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24000" y="836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  <a:ea typeface="楷体_GB2312"/>
              </a:rPr>
              <a:t>普 罗 米 修 斯 盗 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没有火烧烤食物，只好吃生的东西，没有火来照明，就只好在那无边的黑暗中，度过一个又一个漫长的夜晚</a:t>
            </a:r>
            <a:r>
              <a:rPr b="1" lang="en-US" sz="4400" spc="-1" strike="noStrike">
                <a:solidFill>
                  <a:srgbClr val="fb130d"/>
                </a:solidFill>
                <a:latin typeface="Arial"/>
                <a:ea typeface="楷体_GB2312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从此，人类就用火来烧熟食物，驱寒取暖，用火来打造工具，还用火来驱赶凶猛的野兽。人类文明向前迈进了一大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00240" y="762120"/>
            <a:ext cx="7619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火烧烤食物，只好吃生的东西，没有火来照明，就只好在那无边的黑暗中，度过一个又一个漫长的夜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此，人类就用火来烧熟食物，驱寒取暖，用火来打造工具，还用火来驱赶凶猛的野兽。人类文明向前迈进了一大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5238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宙斯派天神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沉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的铁链把普罗米修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在高加索山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悬崖绝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上，让他经受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烈日暴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折磨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。就是这样，宙斯还觉得不解恨，又派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凶恶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的鹫鹰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每天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去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啄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普罗米修斯的肝脏。可是，每当鹫鹰啄食以后，普罗米修斯的肝脏又会奇迹般地复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124000" y="981000"/>
            <a:ext cx="626436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3640" y="184464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罗米修斯忍受着巨大的痛苦，但他不后悔，也不屈服，情愿为人类而受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10000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95280" y="5950080"/>
            <a:ext cx="8128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42920" y="765000"/>
            <a:ext cx="7812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执行刑罚的火神敬佩普罗米修斯，可又不敢违抗宙斯的命令，进退两难，所以只好劝普罗米修斯归还火种，然后认错，普罗米修斯摇摇头，坚定地回 答：“</a:t>
            </a:r>
            <a:r>
              <a:rPr b="1" lang="zh-CN" sz="3200" spc="-1" strike="noStrike">
                <a:solidFill>
                  <a:srgbClr val="fb130d"/>
                </a:solidFill>
                <a:latin typeface="黑体"/>
                <a:ea typeface="黑体"/>
              </a:rPr>
              <a:t>为人类造福有什么错！我愿意忍受各种痛苦，但决不会承认错误，更不会归还火种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改编自《被缚的普罗米修斯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63640" y="184464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罗米修斯忍受着巨大的痛苦，但他不后悔，也不屈服，情愿为人类而受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100008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95280" y="5950080"/>
            <a:ext cx="8128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7640" y="115920"/>
            <a:ext cx="6432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罗米修斯赞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让漫漫黑夜跳跃希望的火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让蛮荒时代沐浴文明的曙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甘愿触犯天条也要救人类于水火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谁？深受酷刑却无怨无悔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！巨人，是你给人类带来火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来光和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来人类新的纪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管上天和你蓄意为敌―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山险峻，铁链加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烈日如火，暴雨如注―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沉重的铁链只能锁住你的身躯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却怎能锁住那颗坦荡无私的心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难道仅仅是物质的火种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你给（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ǐ)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予我们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生生不息的精神火种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勇敢　坚强　博爱　无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你――普罗米修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1365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63640" y="17760960"/>
            <a:ext cx="691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476280"/>
            <a:ext cx="610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0"/>
            <a:ext cx="693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捏 泥 造 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苍天与大地被造设而出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狂暴的大海巨浪滔滔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撞击着两岸。鱼儿在海水中自在畅游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其乐无穷。鸟儿在天空翱翔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尽情鸣唱。大地上动物成群结队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但尚无一种寄居着灵魂的生物来做世界的主宰。这时普罗米修斯先知先觉降临到大地之上。他是神灵的后裔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(yī)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。普罗米修斯聪慧异常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他深知天神的种子就蕴藏在泥土中。他抓起一团泥土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掺入河水调制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运用各种各样的手法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将这团泥土拿捏得和主宰世界的天神一模一样。为了赋予这泥人以鲜活的生命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他从林林总总的动物灵魂中提取善与恶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将它们封闭在泥人的心胸内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泥人便有了一半的生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普罗米修斯在天神中与智慧女神雅典娜相交甚好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雅典娜向拥有一半生命的泥人吹送来神灵的气息</a:t>
            </a: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泥人便有了灵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15573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普罗米修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9080" y="1557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宙  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太阳神阿波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71320" y="3500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赫剌克勒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3364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7280" y="19368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11206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世界上最早的人类就这样被创造出来了。他们繁衍生息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很快就遍布了大地的山山水水。普罗米修斯又来全力协助人类。他教会人类观察日月星辰的升落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教会人类用数字计算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用文字符号来交流沟通。他指导人类驯服和驾驭牲畜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让它们做人类劳作时的好帮手。他教人类给马匹套上缰绳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当做坐骑和用来拉车。他发明了船和风帆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使人类可以在海上自由航行。他对人类生活的方方面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都给予无微不至的关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在普罗米修斯的指导下，人类在地球上幸福地生活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665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普罗米修斯忍受着巨大的痛苦，但他不后悔，也不屈服，情愿为人类而受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19280" y="1125360"/>
            <a:ext cx="7083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宙斯派天神用沉重的铁链把普罗米修斯锁在高加索山的悬崖绝壁上，让他经受烈日暴雨的折磨。就是这样，宙斯还觉得不解恨，又派了一只凶恶的鹫鹰，每天去啄食普罗米修斯的肝脏。可是，每当鹫鹰啄食以后，普罗米修斯的肝脏又会奇迹般地复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3320" y="15573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宙斯派天神用沉重的铁链把普罗米修斯锁在高加索山的悬崖绝壁上，让他经受烈日暴雨的折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155736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宙斯派天神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沉重的铁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把普罗米修斯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在高加索山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悬崖绝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上，让他经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烈日暴雨的折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是这样，宙斯还觉得不解恨，又派了一只凶恶的鹫鹰，每天去啄食普罗米修斯的肝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700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是这样，宙斯还觉得不解恨，又派了一只凶恶的鹫鹰，每天去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啄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普罗米修斯的肝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68360" y="981000"/>
            <a:ext cx="60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宙斯派天神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沉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的铁链把普罗米修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高加索山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悬崖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绝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上，让他经受烈日暴雨的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折磨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。就是这样，宙斯还觉得不解恨，又派了一只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凶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的鹫鹰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每天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啄食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普罗米修斯的肝脏。可是，每当鹫鹰啄食以后，普罗米修斯的肝脏又会奇迹般地复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102708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981000"/>
            <a:ext cx="57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988920"/>
            <a:ext cx="61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锁            悬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绝壁                      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凶恶        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天  啄食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1000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33:02Z</dcterms:created>
  <dc:creator>Administrator</dc:creator>
  <dc:description/>
  <dc:language>en-US</dc:language>
  <cp:lastModifiedBy/>
  <dcterms:modified xsi:type="dcterms:W3CDTF">2016-04-25T08:33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