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5FF0-5CC1-4CC9-A638-61CB5E922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AEB1-E387-4590-BE47-9DA38FEE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58A7-123B-4B8C-9D08-741CA6934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CC5E-C513-4D5B-9BB3-28E7D582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D195-3D79-4F01-9701-F92644BA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7211-342E-4315-A522-6E80FC57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148-BBEE-4A8B-A778-12307FF7C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90A5-04E0-48D7-8405-41822ED2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A4AD-759B-48B5-ADF9-DB488142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4D14-5EAF-496A-A8FE-4002D0790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7F1E-9F4B-46E4-800E-525818FB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ED5F-8C20-45A3-9BD8-174E9223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5B853-F7F4-4A84-903A-80E90C1D91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1125360"/>
            <a:ext cx="8136000" cy="33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0" t="3315" r="431" b="-1312"/>
          <a:stretch/>
        </p:blipFill>
        <p:spPr>
          <a:xfrm>
            <a:off x="396720" y="404640"/>
            <a:ext cx="8425080" cy="6258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50920" y="1557360"/>
            <a:ext cx="8569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 Black"/>
                <a:ea typeface="楷体_GB2312"/>
              </a:rPr>
              <a:t>19  </a:t>
            </a:r>
            <a:r>
              <a:rPr b="0" lang="zh-CN" sz="6600" spc="-1" strike="noStrike">
                <a:solidFill>
                  <a:srgbClr val="ff0000"/>
                </a:solidFill>
                <a:latin typeface="Arial Black"/>
                <a:ea typeface="黑体"/>
              </a:rPr>
              <a:t>奇妙的国际互联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675640" y="6389640"/>
            <a:ext cx="46836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822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人们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可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网上读新闻、听音乐、看电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可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天南地北的朋友聊天、游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可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家里听老师上课，或者在网上查阅资料，并向国内外专家请教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还可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家里上班、开会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甚至可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足不出户逛“网上商城”，用“电子钱包”付款，让商店把东西送到家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79280" y="980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人们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甚至可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足不出户逛“网上商城”，用“电子钱包”付款，让商店把东西送到家中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可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网上读新闻、听音乐、看电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可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天南地北的朋友聊天、游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可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家里听老师上课，或者在网上查阅资料，并向国内外专家请教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还可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家里上班、开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人们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可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网上读新闻、听音乐、看电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可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和天南地北的朋友聊天、游戏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可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家里听老师上课，或者在网上查阅资料，并向国内外专家请教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还可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家里上班、开会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甚至可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足不出户逛“网上商城”，用“电子钱包”付款，让商店把东西送到家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60020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国际互联网上的内容非常丰富，各种知识、各类信息无所不有。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rcRect l="2305" t="12756" r="0" b="0"/>
          <a:stretch/>
        </p:blipFill>
        <p:spPr>
          <a:xfrm>
            <a:off x="7020000" y="3933720"/>
            <a:ext cx="1944720" cy="2791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79280" y="836640"/>
            <a:ext cx="1871640" cy="3363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476360" y="0"/>
            <a:ext cx="6191280" cy="6858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43280" y="765000"/>
            <a:ext cx="3456000" cy="5688360"/>
          </a:xfrm>
          <a:prstGeom prst="wedgeRectCallout">
            <a:avLst>
              <a:gd name="adj1" fmla="val 94050"/>
              <a:gd name="adj2" fmla="val -99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师傅，我原以为自己是斗战胜佛，神通广大，一个筋斗十万八千里，会七十二变。可是，国际互联网太奇妙了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6868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讨论、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16000" y="765000"/>
            <a:ext cx="7775640" cy="4176720"/>
          </a:xfrm>
          <a:prstGeom prst="cloudCallout">
            <a:avLst>
              <a:gd name="adj1" fmla="val 9046"/>
              <a:gd name="adj2" fmla="val 9047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互联网这么神奇，和我们的生活息息相关，但互联网真的这么好吗</a:t>
            </a:r>
            <a:r>
              <a:rPr b="0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81080" y="981000"/>
            <a:ext cx="3419280" cy="5051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038560" y="1125360"/>
            <a:ext cx="3854520" cy="4319640"/>
          </a:xfrm>
          <a:prstGeom prst="wedgeRoundRectCallout">
            <a:avLst>
              <a:gd name="adj1" fmla="val -110791"/>
              <a:gd name="adj2" fmla="val 29458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嗨，大家好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!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是齐天大圣孙悟空，我的本领可大了，一个跟头能翻十万八千里，听说国际互联网比我还快，我想领教领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532720" y="6165720"/>
            <a:ext cx="449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6458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9640" y="280872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这些“线”上飞速流动着文字、图像、声音，它们能够在几秒钟内跨过万水千山，传到世界各地的电脑上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235152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这些“线”上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飞速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流动着文字、图像、声音，它们能够在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几秒钟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内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跨过万水千山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，传到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世界各地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的电脑上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79280" y="1700280"/>
            <a:ext cx="878544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虽然对方远在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天涯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却让人感觉近在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咫尺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58560" y="404280"/>
            <a:ext cx="878508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虽然对方远在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天涯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却让人感觉近在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咫尺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4292640"/>
            <a:ext cx="846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zh-CN" sz="4800" spc="-1" strike="noStrike">
                <a:solidFill>
                  <a:srgbClr val="00cc66"/>
                </a:solidFill>
                <a:latin typeface="Arial"/>
              </a:rPr>
              <a:t>海内存知己，天涯若比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cc66"/>
                </a:solidFill>
                <a:latin typeface="Arial"/>
                <a:ea typeface="楷体_GB2312"/>
              </a:rPr>
              <a:t>                                          ——  </a:t>
            </a:r>
            <a:r>
              <a:rPr b="1" i="1" lang="zh-CN" sz="3200" spc="-1" strike="noStrike">
                <a:solidFill>
                  <a:srgbClr val="00cc66"/>
                </a:solidFill>
                <a:latin typeface="Arial"/>
                <a:ea typeface="楷体_GB2312"/>
              </a:rPr>
              <a:t>王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280872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这些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“线”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上飞速流动着文字、图像、声音，它们能够在几秒内跨过万水千山，传到世界各地的电脑上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280" y="2133360"/>
            <a:ext cx="7991640" cy="194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那该是怎样的情景啊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229440" y="1701720"/>
            <a:ext cx="2415960" cy="407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50920" y="260280"/>
            <a:ext cx="4105080" cy="5616720"/>
          </a:xfrm>
          <a:prstGeom prst="cloudCallout">
            <a:avLst>
              <a:gd name="adj1" fmla="val 95435"/>
              <a:gd name="adj2" fmla="val 18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算国际互联网比我快，但我可以根据需要进行七十二变，你互联网能为大家做些什么事情呢</a:t>
            </a: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8694720" y="6237360"/>
            <a:ext cx="449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9597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25T08:33:27Z</dcterms:created>
  <dc:creator>Administrator</dc:creator>
  <dc:description/>
  <dc:language>en-US</dc:language>
  <cp:lastModifiedBy/>
  <dcterms:modified xsi:type="dcterms:W3CDTF">2016-04-25T08:33:4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