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32B-DA6A-4EF0-B701-0EDFB269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1A1-1ED2-4137-9681-0ABC832B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4DD-58A8-412E-8883-FE1B12B2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FC2-4FC6-475A-AD20-198D72AA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D93-CA27-4E96-9B86-9B7FBEF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FD1-3C24-4033-955B-8CBD14B3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661-71FF-4FCE-AF57-2A183EFF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2E7-EC55-42B7-B2C4-4A1B87E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357-3F2E-4AFC-97EF-C206EEC3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0F2-C0F6-4D19-BC8E-D9ABEE8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AB5-9601-4716-9AD3-BC75BF5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460-5DE8-4C5B-9BCC-E535B3E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939-B153-46BF-9379-F5C7E6A96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6&#31179;&#30340;&#21407;&#37326;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8720" y="404640"/>
            <a:ext cx="7704000" cy="560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40000" y="206064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6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秋的原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7667640" cy="335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349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半空中飞过一队“人”字形的大雁。孩子们举起手来，向它们挥舞。大雁们咿咿呀呀，好像在说：“明年见，孩子们！”飞呀，飞呀，大雁们继续向暮色苍茫的天边飞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437000"/>
            <a:ext cx="25196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56720" y="5950080"/>
            <a:ext cx="79200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44720" y="189000"/>
            <a:ext cx="4894200" cy="3298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85760"/>
            <a:ext cx="27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村外的那个小塘，也睁着绿莹莹的眼睛，凝望这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429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好的天色。那开满白花的芦苇丛里，忽然钻出一对白鹅，悠闲的游着，在水面上荡起一圈圈波纹；它俩显得天真烂漫，或许是嫌这儿稍微有点寂寞吧，于是伸长脖子有节奏地哦哦地叫着，为宁静的大自然平添了不少生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421000"/>
            <a:ext cx="360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573360"/>
            <a:ext cx="107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360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4653000"/>
            <a:ext cx="107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5157720"/>
            <a:ext cx="1440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734080"/>
            <a:ext cx="900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6167520"/>
            <a:ext cx="79236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36360" y="189000"/>
            <a:ext cx="9056880" cy="5976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22200" y="620640"/>
            <a:ext cx="94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村前村后，等待收割的稻田，好似一片金色的大海。一阵微风吹过，泛起一排排金色的波浪。稻禾深处，不时传来村民的阵阵笑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708280"/>
            <a:ext cx="611856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060640"/>
            <a:ext cx="431784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341360"/>
            <a:ext cx="7192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3500280"/>
            <a:ext cx="611820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56720" y="5950080"/>
            <a:ext cx="79200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879" t="14011" r="0" b="0"/>
          <a:stretch/>
        </p:blipFill>
        <p:spPr>
          <a:xfrm>
            <a:off x="0" y="117360"/>
            <a:ext cx="9110520" cy="604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920" y="117360"/>
            <a:ext cx="92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当天边出现美丽的晚霞时，村里各家屋顶上也升起了缕缕炊烟。骑在牛背上回家的牧童，吹起了短笛，悠扬的笛声在晚风里飘得很远，很远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01080" y="6094440"/>
            <a:ext cx="79200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351640" cy="626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971640" y="2205000"/>
            <a:ext cx="568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配乐朗读课文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0247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03280" y="1797120"/>
            <a:ext cx="7272360" cy="21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、用画笔描绘秋天的美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、观察家乡的秋景，写一篇日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35280" y="404640"/>
            <a:ext cx="35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练一练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62240" y="2421000"/>
            <a:ext cx="54054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谢谢指导！</a:t>
            </a:r>
            <a:endParaRPr b="1" lang="en-US" sz="7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78 -0.49248 C -0.51285 -0.48878 -0.50399 -0.48208 -0.49358 -0.47769 C -0.46684 -0.45387 -0.41927 -0.46844 -0.39687 -0.46728 C -0.38698 -0.4541 -0.39184 -0.45965 -0.38246 -0.45017 C -0.37986 -0.43653 -0.37673 -0.4393 -0.36979 -0.43121 C -0.35746 -0.41688 -0.34739 -0.40139 -0.33177 -0.39329 C -0.25868 -0.29595 -0.10069 -0.33549 -0.02691 -0.3341 C -0.00347 -0.31214 -0.02621 -0.35537 0.00156 -0.26636 C -0.00052 -0.25503 -0.00139 -0.24323 -0.00469 -0.2326 C -0.00573 -0.22959 -0.00903 -0.23006 -0.01111 -0.22821 C -0.03125 -0.21063 -0.0375 -0.21526 -0.0651 -0.21341 C -0.07413 -0.21202 -0.08333 -0.21133 -0.09201 -0.20925 C -0.09531 -0.20855 -0.09844 -0.20647 -0.10156 -0.20508 C -0.10451 -0.2037 -0.10694 -0.20162 -0.10955 -0.20092 C -0.11528 -0.19954 -0.12118 -0.1993 -0.12691 -0.19861 C -0.14114 -0.19399 -0.15347 -0.18682 -0.16823 -0.18381 C -0.17743 -0.17433 -0.18559 -0.16786 -0.19687 -0.16485 C -0.2118 -0.15491 -0.21632 -0.13341 -0.22535 -0.1163 C -0.23819 -0.09179 -0.22951 -0.11399 -0.23646 -0.09503 C -0.23941 -0.07537 -0.2408 -0.07006 -0.23646 -0.04231 C -0.23594 -0.03884 -0.23246 -0.03769 -0.23021 -0.03584 C -0.22413 -0.03029 -0.21701 -0.02705 -0.21111 -0.02104 C -0.19757 -0.00717 -0.20851 -0.01295 -0.19844 -0.00855 C -0.19253 -0.00046 -0.18594 0.00023 -0.17778 0.00208 C -0.11858 0.00139 -0.0592 -6.35838E-007 8.33333E-007 -6.35838E-007 E">
                                      <p:cBhvr>
                                        <p:cTn id="203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828720" y="260280"/>
            <a:ext cx="7738920" cy="6073920"/>
            <a:chOff x="828720" y="260280"/>
            <a:chExt cx="7738920" cy="60739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828720" y="260280"/>
              <a:ext cx="7738920" cy="60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828720" y="260280"/>
              <a:ext cx="7738920" cy="607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1125360"/>
            <a:ext cx="79218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、想一想，课文描写了哪里的景色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、课文写了哪些景物？在文中找出这些景物，并用横线画出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8000" y="333360"/>
            <a:ext cx="5181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我会学习 我会思考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4720" y="549360"/>
            <a:ext cx="7232400" cy="567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48428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课文写的是秋天郊外原野的景色，描写了天空、小塘、芦苇、白鹅、枫叶、稻田、晚霞、炊烟、大雁等景物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8000" y="476280"/>
            <a:ext cx="5181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我会学习 我会思考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020000" cy="550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08000" y="476280"/>
            <a:ext cx="5181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我会学习 我会思考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-250920" y="162864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课文写了郊外原野的许多景物，在这些景物中你觉得哪些景物写得好，用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~~~~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出来，再读一读，并说说你读懂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780000" y="2852640"/>
            <a:ext cx="1457280" cy="26640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2"/>
          </p:cNvPr>
          <p:cNvSpPr/>
          <p:nvPr/>
        </p:nvSpPr>
        <p:spPr>
          <a:xfrm rot="1529400">
            <a:off x="684360" y="620640"/>
            <a:ext cx="2708280" cy="1965240"/>
          </a:xfrm>
          <a:prstGeom prst="cloudCallout">
            <a:avLst>
              <a:gd name="adj1" fmla="val 101032"/>
              <a:gd name="adj2" fmla="val 6153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  <a:ea typeface="隶书"/>
              </a:rPr>
              <a:t>天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278400">
            <a:off x="4066920" y="691920"/>
            <a:ext cx="2717640" cy="1612800"/>
          </a:xfrm>
          <a:prstGeom prst="cloudCallout">
            <a:avLst>
              <a:gd name="adj1" fmla="val -32685"/>
              <a:gd name="adj2" fmla="val 9776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  <a:ea typeface="隶书"/>
              </a:rPr>
              <a:t>稻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1278400">
            <a:off x="6426000" y="1988640"/>
            <a:ext cx="2717640" cy="1613160"/>
          </a:xfrm>
          <a:prstGeom prst="cloudCallout">
            <a:avLst>
              <a:gd name="adj1" fmla="val -97759"/>
              <a:gd name="adj2" fmla="val 32754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  <a:ea typeface="隶书"/>
              </a:rPr>
              <a:t>大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3747200">
            <a:off x="5784480" y="4231800"/>
            <a:ext cx="2708280" cy="1965240"/>
          </a:xfrm>
          <a:prstGeom prst="cloudCallout">
            <a:avLst>
              <a:gd name="adj1" fmla="val 48787"/>
              <a:gd name="adj2" fmla="val -53282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78400">
            <a:off x="198000" y="3068280"/>
            <a:ext cx="2718000" cy="1612800"/>
          </a:xfrm>
          <a:prstGeom prst="cloudCallout">
            <a:avLst>
              <a:gd name="adj1" fmla="val 151675"/>
              <a:gd name="adj2" fmla="val -1465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  <a:ea typeface="隶书"/>
              </a:rPr>
              <a:t>枫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78400">
            <a:off x="1115640" y="5244840"/>
            <a:ext cx="2717640" cy="1612800"/>
          </a:xfrm>
          <a:prstGeom prst="cloudCallout">
            <a:avLst>
              <a:gd name="adj1" fmla="val 101490"/>
              <a:gd name="adj2" fmla="val -125236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  <a:ea typeface="隶书"/>
              </a:rPr>
              <a:t>炊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465300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白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0" y="6283440"/>
            <a:ext cx="79200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860436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117360"/>
            <a:ext cx="9109080" cy="653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0360" y="4782960"/>
            <a:ext cx="199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81080" y="765000"/>
            <a:ext cx="94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天空被秋风擦拭得干净而明亮，像一块蓝宝石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32960" y="1484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43880" y="1484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565360"/>
            <a:ext cx="3959280" cy="0"/>
          </a:xfrm>
          <a:prstGeom prst="line">
            <a:avLst/>
          </a:prstGeom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9574200" cy="687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90360" y="4782960"/>
            <a:ext cx="199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6360" y="765000"/>
            <a:ext cx="94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天空被秋风擦拭得干净而明亮，像一块蓝宝石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32960" y="1484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43880" y="1484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2565360"/>
            <a:ext cx="3959280" cy="0"/>
          </a:xfrm>
          <a:prstGeom prst="line">
            <a:avLst/>
          </a:prstGeom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16000" y="2565360"/>
            <a:ext cx="9360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这句话是一个（　　）句，把（　 ）比作（  　   ），写出了（　        　        ）特点，也写出了作者（    　      　）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0200" y="26668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3357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天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3429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蓝宝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149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天空纯净、明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86900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秋天的喜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5950080"/>
            <a:ext cx="79200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5123960" y="4049640"/>
            <a:ext cx="647856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2765240" y="2325600"/>
            <a:ext cx="647856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177336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山谷里枫树的叶子，不知道是喝了过量的酒，还是为了向秋天表示它们无限的热情，红得像一团火焰似的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101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5123960" y="4049640"/>
            <a:ext cx="647856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2765240" y="2325600"/>
            <a:ext cx="647856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064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山谷里枫树的叶子，不知道是喝了过量的酒，还是为了向秋天表示它们无限的热情，红得像一团火焰似的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357720"/>
            <a:ext cx="251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08280"/>
            <a:ext cx="503856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989000"/>
            <a:ext cx="323820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2708280"/>
            <a:ext cx="107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0920" y="3500280"/>
            <a:ext cx="86029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这句话作者运用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        )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和（　　）的写法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写出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（   　　        ）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4149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3500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拟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5373720"/>
            <a:ext cx="36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枫叶非常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5950080"/>
            <a:ext cx="792000" cy="5745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33:51Z</dcterms:created>
  <dc:creator>Administrator</dc:creator>
  <dc:description/>
  <dc:language>en-US</dc:language>
  <cp:lastModifiedBy/>
  <dcterms:modified xsi:type="dcterms:W3CDTF">2016-04-25T08:34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