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jpeg" ContentType="image/jpeg"/>
  <Override PartName="/ppt/media/image9.jpeg" ContentType="image/jpeg"/>
  <Override PartName="/ppt/media/image10.gif" ContentType="image/gif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30B-FA43-40D1-9555-AE43A4F4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EF1-2653-4CFB-BF1E-11C4E07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4E9-0D20-4882-B4BE-17A13298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247-12AE-4717-BB34-E38A6803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6BD-17DE-4566-A996-3958182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832-D13E-4F19-ABBC-2232EC81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D5D-FDD7-47D0-BE09-5F28E7D5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8B0-DF4A-4A4C-9E6F-BA6A358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BB2-E386-4075-80F4-7849FB58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FC4-1CE9-4044-81EA-F5E358D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FDC-7AA5-4864-8AD3-46CCEB4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66C-314E-4FC4-8496-47EEA4C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E99-EF44-41DA-9042-C179A7B27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787800">
            <a:off x="-180360" y="167760"/>
            <a:ext cx="310644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cc"/>
                </a:solidFill>
                <a:latin typeface="Arial"/>
              </a:rPr>
              <a:t>去年的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34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小鸟（        ）地问树根：“立在这儿的那棵树，到什么地方去了呀 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小鸟（       ）地问门：“门先生，我的好朋友树在哪儿，您知道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鸟（      ）地问：“小姑娘，请告诉我，你知道火柴在哪儿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54800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5734080"/>
            <a:ext cx="1368360" cy="1066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" y="762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立在这儿的那棵树，到什么地方去了呀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971800"/>
            <a:ext cx="8001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伐木人用斧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他砍倒，拉到山谷里去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3960" y="128412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鸟儿（      ）问树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50080" y="12952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担心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焦急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91040" y="302580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树根（      ）回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05640" y="302256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伤感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伤心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19112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“树么，在厂子里给切成细条条儿，做成火柴，运到那边的村子里卖掉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85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门先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的好朋友树在哪儿，您知道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880" y="192888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鸟儿（                   ）问大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8240" y="1882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更加焦急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16160" y="3808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心急火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急不可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53080" y="418140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门（          ）回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1400" y="36147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木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司空见惯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581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火柴已经用光了。可是，火柴点燃的火，还在这盏灯里亮着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268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姑娘，请告诉我，你知道火柴在哪儿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5040" y="1266840"/>
            <a:ext cx="33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鸟儿（            ）问女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26000" y="27000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心急如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急如风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越来越着急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6840" y="369720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女孩（                    ）回答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44480" y="2928960"/>
            <a:ext cx="2279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稚声稚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指着灯火地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284720" y="1413000"/>
            <a:ext cx="410364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、细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分别有一个“看”字，分别写出鸟儿什么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91440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鸟儿睁大眼睛，盯着灯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一会儿。接着，她唱起了去年唱过的歌给灯火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唱完了歌，鸟儿又盯着灯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一会儿，就飞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4360" y="912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56076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7760" y="304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（仔细辨认、心情急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1800" y="4114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（深情注视、难舍难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5105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64440" y="2286000"/>
            <a:ext cx="64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1dd"/>
                </a:solidFill>
                <a:latin typeface="Times New Roman"/>
              </a:rPr>
              <a:t>鸟儿睁大眼睛看，仿佛在说</a:t>
            </a:r>
            <a:r>
              <a:rPr b="1" lang="en-US" sz="3200" spc="-1" strike="noStrike">
                <a:solidFill>
                  <a:srgbClr val="3d31dd"/>
                </a:solidFill>
                <a:latin typeface="Times New Roman"/>
              </a:rPr>
              <a:t>______________</a:t>
            </a:r>
            <a:r>
              <a:rPr b="1" lang="zh-CN" sz="3200" spc="-1" strike="noStrike">
                <a:solidFill>
                  <a:srgbClr val="3d31d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4440" y="5029200"/>
            <a:ext cx="64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1dd"/>
                </a:solidFill>
                <a:latin typeface="Times New Roman"/>
              </a:rPr>
              <a:t>鸟儿盯着灯火看，仿佛在说</a:t>
            </a:r>
            <a:r>
              <a:rPr b="1" lang="en-US" sz="3200" spc="-1" strike="noStrike">
                <a:solidFill>
                  <a:srgbClr val="3d31dd"/>
                </a:solidFill>
                <a:latin typeface="Times New Roman"/>
              </a:rPr>
              <a:t>______________</a:t>
            </a:r>
            <a:r>
              <a:rPr b="1" lang="zh-CN" sz="3200" spc="-1" strike="noStrike">
                <a:solidFill>
                  <a:srgbClr val="3d31d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2565000"/>
            <a:ext cx="83516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这对朝夕相处的伙伴分别时是那样难分难舍，因为它们是（  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小鸟历尽艰辛，百折不挠地寻找大 树，因为它们是（   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如今，面对已化为灯火的大树，它还是遵守诺言深情地唱起去年的歌，因为它们是——（             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85264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好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4221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好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5877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好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04640"/>
            <a:ext cx="66247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189000"/>
            <a:ext cx="73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、拓展延伸，多向表达。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了童话故事，你懂得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91880" y="213372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信守诺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珍惜友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-3175" r="3316" b="3439"/>
          <a:stretch/>
        </p:blipFill>
        <p:spPr>
          <a:xfrm>
            <a:off x="1403280" y="5029200"/>
            <a:ext cx="2228760" cy="1768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2570" r="10743" b="4346"/>
          <a:stretch/>
        </p:blipFill>
        <p:spPr>
          <a:xfrm>
            <a:off x="7270920" y="46080"/>
            <a:ext cx="16729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想一想，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伐木人来砍大树的时候，我想对伐木人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66760" y="1033560"/>
            <a:ext cx="75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对小鸟说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82600" y="2286000"/>
            <a:ext cx="75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对大树说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10000"/>
          </a:blip>
          <a:srcRect l="4579" t="22901" r="13460" b="7921"/>
          <a:stretch/>
        </p:blipFill>
        <p:spPr>
          <a:xfrm>
            <a:off x="324000" y="189000"/>
            <a:ext cx="8343720" cy="581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24280" y="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05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722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63988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495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23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4419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56160" y="5073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2468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476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844640"/>
            <a:ext cx="759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83664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89000"/>
            <a:ext cx="85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初读课文，整体感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阅读全文，然后标出生字并解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个故事的主人公是谁？你能说出这篇课文的主要内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419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 rot="19877400">
            <a:off x="324000" y="1341000"/>
            <a:ext cx="1873080" cy="1446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199280" y="836640"/>
            <a:ext cx="1944720" cy="208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700360" y="342900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如果你就是那棵树，面对如此信守诺言，珍惜友情的好朋友鸟儿，你又想对鸟儿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89000"/>
            <a:ext cx="22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268280"/>
            <a:ext cx="64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4560" y="181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1268280"/>
            <a:ext cx="540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小鸟看着自己的好朋友大树已化为灯火，它心里会想说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rcRect l="-1399" t="0" r="0" b="10137"/>
          <a:stretch/>
        </p:blipFill>
        <p:spPr>
          <a:xfrm>
            <a:off x="1044720" y="3573360"/>
            <a:ext cx="16063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765000"/>
            <a:ext cx="7920000" cy="5472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b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22680" y="836640"/>
            <a:ext cx="23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友    情   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51240" y="4941720"/>
            <a:ext cx="25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你的朋友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01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07120" y="501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84160" y="4437000"/>
            <a:ext cx="35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愿我们的友谊地久天长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1584360" cy="841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08360" y="527688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356000" y="5272200"/>
            <a:ext cx="503280" cy="45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8360" y="0"/>
            <a:ext cx="755640" cy="576360"/>
          </a:xfrm>
          <a:custGeom>
            <a:avLst/>
            <a:gdLst>
              <a:gd name="textAreaLeft" fmla="*/ 36000 w 755640"/>
              <a:gd name="textAreaRight" fmla="*/ 719640 w 75564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8315" h="21600">
                <a:moveTo>
                  <a:pt x="0" y="0"/>
                </a:moveTo>
                <a:lnTo>
                  <a:pt x="28315" y="0"/>
                </a:lnTo>
                <a:lnTo>
                  <a:pt x="28315" y="21600"/>
                </a:lnTo>
                <a:lnTo>
                  <a:pt x="0" y="21600"/>
                </a:lnTo>
                <a:close/>
              </a:path>
              <a:path fill="lightenLess" w="28315" h="21600">
                <a:moveTo>
                  <a:pt x="0" y="0"/>
                </a:moveTo>
                <a:lnTo>
                  <a:pt x="28315" y="0"/>
                </a:lnTo>
                <a:lnTo>
                  <a:pt x="26965" y="1350"/>
                </a:lnTo>
                <a:lnTo>
                  <a:pt x="1350" y="1350"/>
                </a:lnTo>
                <a:close/>
              </a:path>
              <a:path fill="darken" w="28315" h="21600">
                <a:moveTo>
                  <a:pt x="28315" y="0"/>
                </a:moveTo>
                <a:lnTo>
                  <a:pt x="28315" y="21600"/>
                </a:lnTo>
                <a:lnTo>
                  <a:pt x="26965" y="20250"/>
                </a:lnTo>
                <a:lnTo>
                  <a:pt x="26965" y="1350"/>
                </a:lnTo>
                <a:close/>
              </a:path>
              <a:path fill="darkenLess" w="28315" h="21600">
                <a:moveTo>
                  <a:pt x="283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965" y="20250"/>
                </a:lnTo>
                <a:close/>
              </a:path>
              <a:path fill="lighten" w="283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315" h="21600">
                <a:moveTo>
                  <a:pt x="7114" y="3756"/>
                </a:moveTo>
                <a:lnTo>
                  <a:pt x="21201" y="10800"/>
                </a:lnTo>
                <a:lnTo>
                  <a:pt x="711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55640" cy="70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16000" y="198900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可爱的小鸟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你好吗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‥‥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台湾作家林清玄写给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告诉孩子，更重要的是“天长地久”。这个世界虽然总在变动，一棵大树可能马上变成火柴，但是有许多东西却不会因为形体的变化而改变，因为形体的失去而消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位母亲写给儿子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在想，也许我们母子就是新美南吉故事里的那只小鸟和那棵树，也许你是那只小鸟，我是那棵将生命放在最后一根火柴里的树，即使只有最后的一点火光，也会等到你飞来的歌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89000"/>
            <a:ext cx="88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真正的好朋友就是在一起的珍惜，离别后的牵挂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承诺一定做到！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6680" y="3141720"/>
            <a:ext cx="1643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ff"/>
                </a:solidFill>
                <a:latin typeface="Arial"/>
              </a:rPr>
              <a:t>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34290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ff"/>
                </a:solidFill>
                <a:latin typeface="Arial"/>
              </a:rPr>
              <a:t>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7760" y="3141720"/>
            <a:ext cx="16434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ff"/>
                </a:solidFill>
                <a:latin typeface="Arial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11940" t="4028" r="726" b="7427"/>
          <a:stretch/>
        </p:blipFill>
        <p:spPr>
          <a:xfrm>
            <a:off x="3625920" y="565200"/>
            <a:ext cx="4654440" cy="5079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990360" y="692280"/>
            <a:ext cx="310644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ff"/>
                </a:solidFill>
                <a:latin typeface="Arial"/>
              </a:rPr>
              <a:t>拜拜咯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360" y="836640"/>
            <a:ext cx="286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ff"/>
                </a:solidFill>
                <a:latin typeface="Arial"/>
              </a:rPr>
              <a:t>好朋友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644480"/>
            <a:ext cx="8604000" cy="4776840"/>
          </a:xfrm>
          <a:prstGeom prst="rect">
            <a:avLst/>
          </a:prstGeom>
          <a:solidFill>
            <a:srgbClr val="cc99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鸟儿和树是好朋友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她天天唱歌给树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要飞回南方时，鸟儿答应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可是，第二年春天，鸟儿回来却发现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它到处寻访，问了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最后在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找到了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是，鸟儿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76280"/>
            <a:ext cx="70678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童话主要写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24280" y="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905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722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63988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495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23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4419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56160" y="5073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476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844640"/>
            <a:ext cx="759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83664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60280"/>
            <a:ext cx="8964720" cy="40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独自阅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开动脑筋，试着给课文分段，看看本课能分成几个部分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419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24280" y="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05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722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63988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495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3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419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56160" y="5073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9280" y="476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844640"/>
            <a:ext cx="759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83664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464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~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作者先总说树和鸟儿是好朋友，然后详细地叙述它们分别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~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这一部分，作者先说鸟儿从南方飞回来找树，然后分别叙述了鸟儿寻找树的经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~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鸟儿实现了诺言，带着对树的深情和留念飞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3419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724280" y="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905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722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63988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495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23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419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56160" y="5073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76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844640"/>
            <a:ext cx="759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83664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49360"/>
            <a:ext cx="828036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找出课文中出现几次“好朋友”这个词？在第几段？分别用红笔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一自然段中，那个词语最能体现鸟儿和树的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用什么词语形容他们之间的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724280" y="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905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722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63988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495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23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19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56160" y="5073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476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759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3664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8036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、小组合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找出课文中鸟儿寻找树的三次对话，分角色朗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3419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981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197000"/>
            <a:ext cx="8244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伐木人用斧子把他砍倒，拉到山谷里去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门先生，我的好朋友树在哪儿，您知道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树么，在厂子里给切成细条条儿，做成火柴，运到那边的村子里卖掉了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小姑娘，请告诉我，你知道火柴在哪儿吗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60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立在这儿的那棵树，到什么地方去了呀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826920" cy="79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06864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0" y="4365720"/>
            <a:ext cx="826920" cy="71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4920" y="5302080"/>
            <a:ext cx="936720" cy="136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42920" y="5300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火柴已经用光了。可是，火柴点燃的火，还在这盏灯里亮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284720" y="1413000"/>
            <a:ext cx="410364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、细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次鸟儿的心情是一样的吗？分别是什么心情呢？你能读出这种心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08:56:27Z</dcterms:created>
  <dc:creator>Administrator</dc:creator>
  <dc:description/>
  <dc:language>en-US</dc:language>
  <cp:lastModifiedBy/>
  <dcterms:modified xsi:type="dcterms:W3CDTF">2015-08-19T02:31:36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