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BDA-33DC-4681-8430-E870C548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735-7C50-424E-9619-6006AD4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B3B-519D-483E-A0C8-D1259EC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120-BA73-49C7-B988-F48CF401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07F-4100-416A-8538-CA5C1011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B579-DA67-4889-A341-A3B45D6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0795-CBE6-4E00-B759-CF22D9E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B9C-6822-4820-953A-B798D85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70A-51B5-49BE-9597-0F59E16E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BB39-C617-4CEF-8302-BFFD4AC2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5C21-40A9-4F49-808A-27ED0EB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A87-4513-49E5-BEF9-5C6060F0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85CF-749C-4B16-A6FE-2317780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A4B5-4005-4B78-ABB0-460A03A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3752-0CFC-48A9-9AC1-36A345D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C614-F40C-4DCC-9494-641A3F18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9F0-61D1-4093-83FF-3838FCDE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970-A718-4FDF-9F43-96E3E6F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C73-A6B3-45DB-A6E5-92D5379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A0C-7FC1-4922-8A48-2ED54CA8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E57-265F-448E-B760-841BA494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C22-8A20-4AF8-89CC-20361AE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0F7-86A6-42B6-AD88-303D6F08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8BF-EEE4-4003-AB92-5D080EB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72C-512E-4BEA-A016-9FD3FFA6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572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52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F17-5661-483A-A4D6-E6C9E9E5E6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755640" y="6453360"/>
            <a:ext cx="8077320" cy="0"/>
          </a:xfrm>
          <a:prstGeom prst="line">
            <a:avLst/>
          </a:prstGeom>
          <a:ln w="442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 flipV="1">
            <a:off x="5580000" y="228240"/>
            <a:ext cx="0" cy="662940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867280" y="228600"/>
            <a:ext cx="0" cy="662940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6324480"/>
            <a:ext cx="7315200" cy="0"/>
          </a:xfrm>
          <a:prstGeom prst="line">
            <a:avLst/>
          </a:prstGeom>
          <a:ln w="316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13600" y="549360"/>
            <a:ext cx="2374920" cy="56386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 BT"/>
                <a:ea typeface="楷体"/>
              </a:rPr>
              <a:t>《</a:t>
            </a:r>
            <a:r>
              <a:rPr b="1" lang="zh-CN" sz="7200" spc="-1" strike="noStrike">
                <a:solidFill>
                  <a:srgbClr val="ff0000"/>
                </a:solidFill>
                <a:latin typeface="Broadway BT"/>
                <a:ea typeface="楷体"/>
              </a:rPr>
              <a:t>全神贯注</a:t>
            </a:r>
            <a:r>
              <a:rPr b="1" lang="en-US" sz="7200" spc="-1" strike="noStrike">
                <a:solidFill>
                  <a:srgbClr val="ff0000"/>
                </a:solidFill>
                <a:latin typeface="Broadway BT"/>
                <a:ea typeface="楷体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W020070718273777590456"/>
          <p:cNvPicPr/>
          <p:nvPr/>
        </p:nvPicPr>
        <p:blipFill>
          <a:blip r:embed="rId1"/>
          <a:stretch/>
        </p:blipFill>
        <p:spPr>
          <a:xfrm>
            <a:off x="1187280" y="1125360"/>
            <a:ext cx="4176720" cy="4945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3071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加莱义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7210" t="0" r="0" b="8115"/>
          <a:stretch/>
        </p:blipFill>
        <p:spPr>
          <a:xfrm>
            <a:off x="3956040" y="692280"/>
            <a:ext cx="50418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2491920"/>
            <a:ext cx="3336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巴尔扎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8102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781000"/>
            <a:ext cx="36986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上帝之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上帝之手"/>
          <p:cNvPicPr/>
          <p:nvPr/>
        </p:nvPicPr>
        <p:blipFill>
          <a:blip r:embed="rId2"/>
          <a:stretch/>
        </p:blipFill>
        <p:spPr>
          <a:xfrm>
            <a:off x="3581280" y="762120"/>
            <a:ext cx="5029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2781000"/>
            <a:ext cx="36986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魔鬼的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14760" y="765000"/>
            <a:ext cx="3915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450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伸出坟墓的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46162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3141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罗丹自己端详一阵，却皱着眉头，说：“啊！不，还有毛病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左肩偏了点儿，脸上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对不起，请等一等。”他立刻拿起抹刀，修改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079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茨威格不禁拍手叫好，他向罗丹祝贺又一件杰作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00000" y="177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你认为哪些语句能表现他“全神贯注”，请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见罗丹一会儿上前，一会儿后退，嘴里叽哩咕噜的，好像跟谁在说悄悄话；忽然眼睛闪着异样的光，似乎在跟谁激烈地争吵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63700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叽哩咕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3577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好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411804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似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只见罗丹一会儿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低着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悄悄对自己说：“         ”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会儿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捋（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luō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）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胡子悄悄对女像说：“          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会儿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皱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眉头跟自己争论着说：“       ”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会儿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盯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女像争论说：“        ”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184464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284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4360" y="5589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4797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6308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508464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见罗丹一会儿上前，一会儿后退，嘴里叽哩咕噜的，好像跟谁在说悄悄话；忽然眼睛闪着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异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光，似乎在跟谁激烈地争吵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21528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75520"/>
            <a:ext cx="922032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196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岁上学，开始成绩中上，后来成绩越来越差，经常受到老师的批评和同学们的讥笑，有时还被罚站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岁被迫转学，他没有考上大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358920" cy="936360"/>
          </a:xfrm>
          <a:custGeom>
            <a:avLst/>
            <a:gdLst>
              <a:gd name="textAreaLeft" fmla="*/ 147960 w 358920"/>
              <a:gd name="textAreaRight" fmla="*/ 210960 w 35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罗丹自己端详一阵，却皱着眉头，说：“啊！不，还有毛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肩偏了点儿，脸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不起，请等一等。”他立刻拿起抹刀，修改起来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19162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端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0320 w 792000"/>
              <a:gd name="textAreaRight" fmla="*/ 751680 w 79200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62" y="1350"/>
                </a:lnTo>
                <a:lnTo>
                  <a:pt x="1350" y="135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62" y="20250"/>
                </a:lnTo>
                <a:lnTo>
                  <a:pt x="25062" y="135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62" y="2025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12" h="21600">
                <a:moveTo>
                  <a:pt x="6162" y="10800"/>
                </a:moveTo>
                <a:lnTo>
                  <a:pt x="20250" y="3756"/>
                </a:lnTo>
                <a:lnTo>
                  <a:pt x="20250" y="178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把地板踩得吱吱响，手不停地挥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0320 w 792000"/>
              <a:gd name="textAreaRight" fmla="*/ 751680 w 79200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62" y="1350"/>
                </a:lnTo>
                <a:lnTo>
                  <a:pt x="1350" y="135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62" y="20250"/>
                </a:lnTo>
                <a:lnTo>
                  <a:pt x="25062" y="135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62" y="2025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12" h="21600">
                <a:moveTo>
                  <a:pt x="6162" y="10800"/>
                </a:moveTo>
                <a:lnTo>
                  <a:pt x="20250" y="3756"/>
                </a:lnTo>
                <a:lnTo>
                  <a:pt x="20250" y="178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刻钟过去了，半小时过去了，罗丹越干越有劲，情绪更加激动了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0320 w 792000"/>
              <a:gd name="textAreaRight" fmla="*/ 751680 w 79200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62" y="1350"/>
                </a:lnTo>
                <a:lnTo>
                  <a:pt x="1350" y="135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62" y="20250"/>
                </a:lnTo>
                <a:lnTo>
                  <a:pt x="25062" y="135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62" y="2025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12" h="21600">
                <a:moveTo>
                  <a:pt x="6162" y="10800"/>
                </a:moveTo>
                <a:lnTo>
                  <a:pt x="20250" y="3756"/>
                </a:lnTo>
                <a:lnTo>
                  <a:pt x="20250" y="178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像喝醉了洒一样，整个世界对他来讲好像已经消失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约过了一个小时，罗丹才停下来，对着女像痴痴地微笑，然后轻轻地吁了口气，重新把湿布披在塑像上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42900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痴痴地微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180324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喝醉了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800"/>
              </a:spcBef>
              <a:buClr>
                <a:srgbClr val="99ff66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傻，愚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54936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30304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极度迷恋某人或某种事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43700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于某种事物影响而变傻了的，精神失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141720"/>
            <a:ext cx="647640" cy="503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像喝醉了酒一样，整个世界对他来讲好像已经消失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约过了一个小时，罗丹才停下来，对着女像痴痴地微笑，然后轻轻地吁了口气，重新把湿布披在塑像上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刻钟过去了，半小时过去了，大约过了一小时，罗丹才停下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0" y="5950080"/>
            <a:ext cx="792360" cy="647640"/>
          </a:xfrm>
          <a:custGeom>
            <a:avLst/>
            <a:gdLst>
              <a:gd name="textAreaLeft" fmla="*/ 40320 w 792360"/>
              <a:gd name="textAreaRight" fmla="*/ 752040 w 7923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74" y="1350"/>
                </a:lnTo>
                <a:lnTo>
                  <a:pt x="1350" y="135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74" y="20250"/>
                </a:lnTo>
                <a:lnTo>
                  <a:pt x="25074" y="135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74" y="2025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24" h="21600">
                <a:moveTo>
                  <a:pt x="6168" y="10800"/>
                </a:moveTo>
                <a:lnTo>
                  <a:pt x="20256" y="3756"/>
                </a:lnTo>
                <a:lnTo>
                  <a:pt x="20256" y="178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276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刻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27664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半小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997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小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罗丹径自走出门去，随手拉上门准备上锁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191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径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645000"/>
            <a:ext cx="7561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罗丹这才猛然想起他的客人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36450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猛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茨威格见罗丹工作完了，走上前去准备同他交谈。罗丹径自走出门去，随手拉上门准备上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茨威格莫名其妙，赶忙叫住罗丹：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喂！亲爱的朋友，你怎么啦？我还在屋子里呢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罗丹这才猛然想起他的客人来，他推开门，很抱歉地对茨威格说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b7"/>
                </a:solidFill>
                <a:latin typeface="Arial"/>
              </a:rPr>
              <a:t>哎哟</a:t>
            </a: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!</a:t>
            </a:r>
            <a:r>
              <a:rPr b="1" lang="zh-CN" sz="4000" spc="-1" strike="noStrike">
                <a:solidFill>
                  <a:srgbClr val="ffffb7"/>
                </a:solidFill>
                <a:latin typeface="Arial"/>
              </a:rPr>
              <a:t>你看我，简直把你忘记了。对不起，请不要见怪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0320 w 792000"/>
              <a:gd name="textAreaRight" fmla="*/ 751680 w 79200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62" y="1350"/>
                </a:lnTo>
                <a:lnTo>
                  <a:pt x="1350" y="135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62" y="20250"/>
                </a:lnTo>
                <a:lnTo>
                  <a:pt x="25062" y="135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62" y="2025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12" h="21600">
                <a:moveTo>
                  <a:pt x="6162" y="10800"/>
                </a:moveTo>
                <a:lnTo>
                  <a:pt x="20250" y="3756"/>
                </a:lnTo>
                <a:lnTo>
                  <a:pt x="20250" y="1784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一 天下午，我在罗丹工作室里学到的，比我多年在学校里学到的还要多。因为从那时起，我知道人类的一切工作，如果值得去做，而且要做得好，就应该全神贯注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21528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75520"/>
            <a:ext cx="922032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8656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他是法国最著名的雕塑家，一生创作了许多优秀作品，他的雕塑神态生动，内涵丰富，深受世界各国人民喜爱。他的创作对欧洲近代雕塑的发展产生了很大的影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052640"/>
            <a:ext cx="358920" cy="936360"/>
          </a:xfrm>
          <a:custGeom>
            <a:avLst/>
            <a:gdLst>
              <a:gd name="textAreaLeft" fmla="*/ 147960 w 358920"/>
              <a:gd name="textAreaRight" fmla="*/ 210960 w 35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类的一切工作，如果值得去做，而且要做得好，就应该全神贯注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264360" cy="493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052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茨威格（１８８１－１９４２），奥地利著名作家。他生于维也纳一个犹太工厂主家庭，从小爱好文学。茨威格的文学活动从诗歌创作开始，早期诗集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银弦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０１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往日的花环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０４），他的主要成就是在传记文学和中短篇小说的创作上。如著名传记有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三位大师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巴尔扎克、狄更斯和陀思妥耶夫斯基传，１９２０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罗曼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罗兰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２１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三大诗人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卡萨诺伐、斯汤达和托尔斯泰传，１９２８）等。小说集有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最初的经历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１１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马来狂人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２２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混乱的感觉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２７）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象棋的故事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４１）等。此外还有长篇小说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焦躁的心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（１９３８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179280" y="4046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那一天下午，我在罗丹工作室里学到的，比我多年在学校里学到的还要多。因为从那时起，我知道人类的一切工作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值得去做，而且要做得好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就应该全神贯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55640" y="4508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692360" y="3716280"/>
            <a:ext cx="69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今天上午，我在课堂上学到的，比我多年在学校里学到的还要多。因为从这时起，我知道人类的一切工作，如果值得去做，而且要做得好， 就应该全神贯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79280" y="4046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那一天下午，我在罗丹工作室里学到的，比我多年在学校里学到的还要多。因为从那时起，我知道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人类的一切工作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如果值得去做，而且要做得好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就应该全神贯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03280" y="1844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250920" y="260280"/>
            <a:ext cx="853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达标测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看拼音写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āo qǐng    zhì  yǒ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灵明天要过生日了，想（       ）她的（      ）以及一些比较要好的同学来参加她的生日聚会。我很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í  biǎ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兴，到时候我要注意（        ），不能让小灵扫兴。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ī  lǐ  gū   l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学路上，我和笑笑（                ）的商量着送小灵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hī  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么礼物，听说她很（         ）周杰伦，我们准备送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u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有周杰伦照片的带（    ）的笔记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413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邀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1484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挚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278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仪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3645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叽哩咕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9640" y="450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痴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537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134136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二、按课文内容填空，并完成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读罗丹工作时全身贯注的语句，完成下列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）这些句子紧紧抓住罗丹修改时的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、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、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等特点，具体展示罗丹忘我工作的情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）我读了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全神贯注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这篇课文，我明白了做事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4196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328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神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328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47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全神贯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17360"/>
            <a:ext cx="8964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一、词语盘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邀请   挚友  痴迷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径自   上锁  端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全神贯注   仪态端庄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叽哩咕噜   莫名其妙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968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我能通过下列解释，在文中找出相应的词语。</a:t>
            </a: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全副精神，高度集中。        （   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仔细地看。 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一个人的外表（包括容貌、姿态、风度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端正庄重。                       （       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自作主张，直接行动。        （     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表示事情很奇怪，使人不明白。（        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3716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二、这篇课文的主要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用上：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.....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然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......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接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.....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最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9280" y="458136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549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全神贯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10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端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1989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仪态端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242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9928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莫名其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21528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75520"/>
            <a:ext cx="9220320" cy="620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377000"/>
            <a:ext cx="7632720" cy="37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名人名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我知道人类的一切工作，如果值得去做，而且要做得好，就应该全神贯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——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斯蒂芬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茨威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052640"/>
            <a:ext cx="358920" cy="936360"/>
          </a:xfrm>
          <a:custGeom>
            <a:avLst/>
            <a:gdLst>
              <a:gd name="textAreaLeft" fmla="*/ 147960 w 358920"/>
              <a:gd name="textAreaRight" fmla="*/ 210960 w 35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ic_141514"/>
          <p:cNvPicPr/>
          <p:nvPr/>
        </p:nvPicPr>
        <p:blipFill>
          <a:blip r:embed="rId1"/>
          <a:stretch/>
        </p:blipFill>
        <p:spPr>
          <a:xfrm>
            <a:off x="0" y="-4748040"/>
            <a:ext cx="9144000" cy="1160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4rodin"/>
          <p:cNvPicPr/>
          <p:nvPr/>
        </p:nvPicPr>
        <p:blipFill>
          <a:blip r:embed="rId2"/>
          <a:stretch/>
        </p:blipFill>
        <p:spPr>
          <a:xfrm>
            <a:off x="5376960" y="836640"/>
            <a:ext cx="3767040" cy="5272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-179280" y="2565360"/>
            <a:ext cx="5976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 Black"/>
                <a:ea typeface="迷你简中特广告"/>
              </a:rPr>
              <a:t>罗丹作品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Arial Black"/>
                <a:ea typeface="迷你简中特广告"/>
              </a:rPr>
              <a:t>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55520" y="2827080"/>
            <a:ext cx="25005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思想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思想者"/>
          <p:cNvPicPr/>
          <p:nvPr/>
        </p:nvPicPr>
        <p:blipFill>
          <a:blip r:embed="rId2"/>
          <a:stretch/>
        </p:blipFill>
        <p:spPr>
          <a:xfrm>
            <a:off x="3886200" y="380880"/>
            <a:ext cx="4697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7:52:54Z</dcterms:created>
  <dc:creator>Administrator</dc:creator>
  <dc:description/>
  <dc:language>en-US</dc:language>
  <cp:lastModifiedBy/>
  <dcterms:modified xsi:type="dcterms:W3CDTF">2015-08-19T03:30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