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bomb.wav" ContentType="audio/x-wav"/>
  <Override PartName="/ppt/media/drumroll.wav" ContentType="audio/x-wav"/>
  <Override PartName="/ppt/media/chimes.wav" ContentType="audio/x-wav"/>
  <Override PartName="/ppt/media/hammer.wav" ContentType="audio/x-wav"/>
  <Override PartName="/ppt/media/whoosh.wav" ContentType="audio/x-wav"/>
  <Override PartName="/ppt/media/laser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9318-4343-42EF-8680-C6490BDB9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5F71-5F43-4E3D-B40A-C3CA317CB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B5F4-CBB4-4FC2-B5F6-E96B2634E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DEE3-53BF-4FB5-B638-19DD7A33D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2B27-1A22-4FC4-96C2-16DB04733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23EC7-5CDC-4F29-A550-66EC831D7F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3C48A-5868-4034-BC73-47666FD094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05B18-6081-457E-BB3D-AD2CC755B3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03EF-A053-4346-8724-04285A5052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3EB1E-D548-49AD-8AD4-041E36BBE2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50802-C74E-4C59-B3FD-C260868A80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C6E8-324C-4529-A6C1-F58BE61E36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D55D5-E222-419E-80CB-280E96C8FC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6EAD8-99E1-444F-8AF2-9AD79E0816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4828-663C-41B1-AFE0-193C9C4CAF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DB086-A3E9-433C-847E-187E154CF9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9D01D-F994-486B-A135-86B3800833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B1909-E121-46A1-A6EA-0BFA58A15B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79CF-3C88-4258-B09B-598198F580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5BE6-2F7F-412D-8A41-E9E8E02E5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AF8D-710B-44C0-AB70-7CF7CE30E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A9AA-0C33-4947-91C5-2ED13A715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2F46-1E9E-4003-BF67-FBFC78E2D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1B01-D98B-4262-9B71-1279BD296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1DFF05C-2795-46D2-9446-A5E3F0EE03A1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081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8a15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463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Num" idx="2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D194187-A899-4E35-B6B7-DB56E2933FBB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1081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547640" y="2565360"/>
            <a:ext cx="6400800" cy="10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长城行楷体"/>
              </a:rPr>
              <a:t>三颗纽扣的房子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长城行楷体"/>
              <a:ea typeface="长城行楷体"/>
            </a:endParaRPr>
          </a:p>
        </p:txBody>
      </p:sp>
    </p:spTree>
  </p:cSld>
  <p:transition>
    <p:randomBar dir="horz"/>
    <p:sndAc>
      <p:stSnd>
        <p:snd r:embed="rId1" name="bomb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9440" y="404640"/>
            <a:ext cx="8207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综合题  比一比并分别组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膝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纽                    颗 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漆                   扭                    棵 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娶                   振                     拳  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取                   震                     券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2000" y="259920"/>
            <a:ext cx="8712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拓展题   说说下面省略号的用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列举的省略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说话中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待的下六个人，就待得下七个人；待得下七个人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待得下八个人……（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，我说的是……我该离开王位了。（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成功思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三颗纽扣”加上引号，表示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特定称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他于是做了一间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很小很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房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仅仅搁得下他一个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加一把锤子和一个刨子。至于锯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还得敲个钉子挂在房子外面。最后他在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房子下面安上四个轮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房子前面装上车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小房子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很轻。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下山的时候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三颗纽扣干脆坐在小门槛上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欢天喜地地让房子往山下滚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虽然生活很艰苦，但三颗纽扣依然可以欢天喜地，这句话说明他是一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乐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心胸开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人；这个房子造的很精致，说明三颗纽扣是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技术纯熟、心灵手巧</a:t>
            </a:r>
            <a:r>
              <a:rPr b="1" lang="zh-CN" sz="2800" spc="-1" strike="noStrike" u="sng">
                <a:solidFill>
                  <a:srgbClr val="463900"/>
                </a:solidFill>
                <a:uFillTx/>
                <a:latin typeface="Arial"/>
              </a:rPr>
              <a:t>的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-360" y="117000"/>
            <a:ext cx="9109080" cy="64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“待得下一个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待得下两个人。”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接受大胡子老头求助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8)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进来就进来吧。这房子我是给自己一个人做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你们要是待得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倒真高兴你们进来。”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接受带孩子的妇女求助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27)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待得下六个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待得下七个个；待得下七个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待得下八个人……”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接受其他人求助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33)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待得下十二个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待得下十三个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国王前来避雨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三颗纽扣的这些话中，我能感受到他是一个非常善良、乐于助人、宽厚待人的人。当那些求助的人睡着时他却失眠了，也说明他深刻、地感受着别人的不幸，富有强烈的同情</a:t>
            </a:r>
            <a:r>
              <a:rPr b="1" lang="zh-CN" sz="2800" spc="-1" strike="noStrike" u="sng">
                <a:solidFill>
                  <a:srgbClr val="463900"/>
                </a:solidFill>
                <a:uFillTx/>
                <a:latin typeface="Arial"/>
              </a:rPr>
              <a:t>心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640" y="1486080"/>
            <a:ext cx="7416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内容小结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篇童话故事讲述了一个名叫三颗纽扣的木匠，由于租不起房子，就自己造了一间会移动的小木屋去外地谋生，在一个下雨的夜晚，很多人前去请求避雨，虽然木屋很小，但他都一一答应了，其中前去避雨的国王从他身上受到启发：一个好人的心容得下全世界的人。此后他决心离开王位，去做帮助他人的好事。所有的人都坐上了免费的汽车，三颗纽扣最后又做了一间一模一样的房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功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我能流利地朗读课文，说出课文主要内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我要学会本课生字新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我能通过故事情节感受三颗纽扣的善良和宽厚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820728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成功自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9440" y="1052640"/>
            <a:ext cx="8207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轻声读一遍课文，给文章标出自然段，划出自己不认识的字词，想办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生字表、查资料、问别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速浏览课文，想想这篇文章主要写了一件什么事？根据提示理清故事的情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自然段：（序）交代人物的身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第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--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自然段（开端）三颗纽扣为自己建了一所小房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0728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功自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9440" y="1052640"/>
            <a:ext cx="82076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5--28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自然段（发展）雨夜中三颗纽扣的房子发生的一些事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9--5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自然段（高潮）国王借住小房子的过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52--59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自然段（结局）所有的人都免费坐上了汽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自然段（尾声）三颗纽扣做了一个和原来一模一样的房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出现的主要人物都有谁？三颗纽扣给你留下了什么印象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华康少女文字W5(P)"/>
              </a:rPr>
              <a:t>成功合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349360"/>
            <a:ext cx="6840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同桌互读课后生字并口头组词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同桌分享成功自学中②、③题的答案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33"/>
                </a:solidFill>
                <a:latin typeface="Arial"/>
              </a:rPr>
              <a:t>成功量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72720" y="1125360"/>
            <a:ext cx="7488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组合作学词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刨子  门槛  谋生  仆人  掠过  漆黑   震动   吩咐   长袍   膝盖鞠躬   嘟囔   栗木   陛下  伸缩   治理  纽扣   王冠   喇叭  寡妇   呻吟 噼里啪啦   风雨大作  来者不拒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：小组成员合作读词语（组长教读或者组员开火车读……），比比谁读得又准确又洪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：借助提示，用喜欢的词语（一个或者是多个）说一句或者一段通顺的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4000" y="1267920"/>
            <a:ext cx="7956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刨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ào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子：一种木工工具 。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吩咐：口头指派或命令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栗木：一种木料，干了以后硬如金钢，耐磨性很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风雨大作：狂风暴雨下了起来。作，指兴起。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组齐读课文第一自然段，思考题目中“三颗纽扣”四个字为什么要用</a:t>
            </a:r>
            <a:r>
              <a:rPr b="1" lang="zh-CN" sz="3200" spc="-1" strike="noStrike" u="sng">
                <a:solidFill>
                  <a:srgbClr val="463900"/>
                </a:solidFill>
                <a:uFillTx/>
                <a:latin typeface="Arial"/>
              </a:rPr>
              <a:t>引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04000" y="260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a15"/>
                </a:solidFill>
                <a:latin typeface="Arial"/>
                <a:ea typeface="微软雅黑"/>
              </a:rPr>
              <a:t>成功量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las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组合作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-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，说说三颗纽扣的房子是什么</a:t>
            </a:r>
            <a:r>
              <a:rPr b="1" lang="zh-CN" sz="3200" spc="-1" strike="noStrike" u="sng">
                <a:solidFill>
                  <a:srgbClr val="463900"/>
                </a:solidFill>
                <a:uFillTx/>
                <a:latin typeface="Arial"/>
              </a:rPr>
              <a:t>样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？有什么特点？在这一部分你还读懂了什么？（如：为什么三颗纽扣要建小房子？从这一部分来看他是一个怎样</a:t>
            </a:r>
            <a:r>
              <a:rPr b="1" lang="zh-CN" sz="3200" spc="-1" strike="noStrike" u="sng">
                <a:solidFill>
                  <a:srgbClr val="463900"/>
                </a:solidFill>
                <a:uFillTx/>
                <a:latin typeface="Arial"/>
              </a:rPr>
              <a:t>的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雨夜里，在接受别人求助的过程中，三颗纽扣说得最多的一句话是什么？分别出现在什么样的情景下？在文中找出相关句子读一读。并想想，从他这些话中你能感受到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成功測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920" y="692280"/>
            <a:ext cx="90028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基础题  拼音乐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ù  jiàng    niǔ  kòu   bào  zi    mén  kǎn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    )    (          )     (          )      (          )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ī  lǐ  pā  lā    dīng  zi   qī  hēi    yī  mú  yī yàng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      )      (         )    (        )     (                   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ū  gōng    xī  gài    zhèn  dòng   quán  tōu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 )      (       )       (            )        (        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ǎ  bā         guǎ  f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 )        (         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1989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木 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82920" y="1989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纽 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22600" y="1989000"/>
            <a:ext cx="12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刨 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16720" y="198900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门 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3281400"/>
            <a:ext cx="20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噼里啪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43280" y="3281400"/>
            <a:ext cx="12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钉 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3440" y="3284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漆 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  <p:sndAc>
      <p:stSnd>
        <p:snd r:embed="rId1" name="las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5-08-11T02:51:1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