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8C7-3A26-4D65-B856-8176C203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5611-423D-4657-AC93-B1B4EF72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DEE-464D-4021-8960-95DDF583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3AD-9AC9-4DD0-B027-CA10F943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B98-D2A8-4B30-8E9C-DDC16568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7E5-E49D-4502-9CEF-380BEED9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EBD-5CAC-41FC-B5CA-BBEEBA27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DB3-C1B8-490F-BB1E-4D96C20D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D4A-B5ED-4E3F-8A13-5FCDB05E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EE2-ED32-4043-B669-92446731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3D5-96E5-4325-8BF7-3DD02B05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FD1-41CF-46F1-8BD2-5BCCEDA4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6AE8-C39A-4727-9B9A-066C23671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1000" y="2757600"/>
            <a:ext cx="1903320" cy="2211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1844640"/>
            <a:ext cx="8136000" cy="4608720"/>
          </a:xfrm>
          <a:prstGeom prst="rect">
            <a:avLst/>
          </a:prstGeom>
          <a:solidFill>
            <a:srgbClr val="00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如果你把金钱当成上帝，它便会像魔鬼一样折磨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                                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菲尔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如果您失去了金钱，失之甚少；如果您失去了朋友，失之甚多； 如果您失去了勇气， 失去一切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                                 ——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德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哥德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0" r="0" b="245"/>
          <a:stretch/>
        </p:blipFill>
        <p:spPr>
          <a:xfrm>
            <a:off x="3352680" y="228600"/>
            <a:ext cx="2857680" cy="1581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76720" y="914400"/>
            <a:ext cx="5410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读懂课文内容，体会文中人物的心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有感情朗读课文，能按事情发展的先后顺序讲述在车站发生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感受人与人之间真诚友爱的美好品德和良好的社会风尚，树立正确的金钱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657600" y="1143000"/>
            <a:ext cx="452448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回顾文章内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304812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请你</a:t>
            </a:r>
            <a:r>
              <a:rPr b="1" lang="zh-CN" sz="4400" spc="-1" strike="noStrike" u="sng">
                <a:solidFill>
                  <a:srgbClr val="a50021"/>
                </a:solidFill>
                <a:uFillTx/>
                <a:latin typeface="Arial"/>
              </a:rPr>
              <a:t>迅速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浏览课文，用自己的语言</a:t>
            </a:r>
            <a:r>
              <a:rPr b="1" lang="zh-CN" sz="4400" spc="-1" strike="noStrike" u="sng">
                <a:solidFill>
                  <a:srgbClr val="a50021"/>
                </a:solidFill>
                <a:uFillTx/>
                <a:latin typeface="Arial"/>
              </a:rPr>
              <a:t>简洁地概括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下文章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52480" y="24382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忽然，立明嚷起来：“钱！钱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295280" y="2209680"/>
            <a:ext cx="6215040" cy="23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自读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4—5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自然段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看看你读出了什么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057400" y="2438280"/>
            <a:ext cx="56386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把钱交给我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请把钱交给我！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33720" y="243828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人们</a:t>
            </a:r>
            <a:r>
              <a:rPr b="1" lang="zh-CN" sz="5400" spc="-1" strike="noStrike">
                <a:solidFill>
                  <a:srgbClr val="a50021"/>
                </a:solidFill>
                <a:latin typeface="Comic Sans MS"/>
                <a:ea typeface="楷体_GB2312"/>
              </a:rPr>
              <a:t>纷纷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把捡起的钱交到她手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14400" y="175248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车站乱——人心没乱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981080" y="1371600"/>
            <a:ext cx="6534360" cy="27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楷体_GB2312"/>
              </a:rPr>
              <a:t>默读第</a:t>
            </a:r>
            <a:r>
              <a:rPr b="1" lang="en-US" sz="1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楷体_GB2312"/>
              </a:rPr>
              <a:t>6</a:t>
            </a:r>
            <a:r>
              <a:rPr b="1" lang="zh-CN" sz="1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楷体_GB2312"/>
              </a:rPr>
              <a:t>自然段，</a:t>
            </a:r>
            <a:endParaRPr b="1" lang="en-US" sz="1800" spc="-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楷体_GB2312"/>
              </a:rPr>
              <a:t>提出你不懂的问题与大家交流。</a:t>
            </a:r>
            <a:endParaRPr b="1" lang="en-US" sz="1800" spc="-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16360" y="1844640"/>
            <a:ext cx="388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助人为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拾金不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15238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  <a:ea typeface="华文新魏"/>
              </a:rPr>
              <a:t>此时，你的心情是怎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2514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此时，立明和我的心情又是怎样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3440" cy="6270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332000" y="3068640"/>
            <a:ext cx="6408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隶书"/>
              </a:rPr>
              <a:t>散落的钞票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隶书"/>
              <a:ea typeface="华文隶书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3189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581280" y="685800"/>
            <a:ext cx="2590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思考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342900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立明和“我”没吃麦当劳，也没买到《丁丁历险记》，为什么“特别高兴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280" y="188640"/>
            <a:ext cx="15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缩写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0"/>
            <a:ext cx="69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间：国庆长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点：地铁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物： “我”和立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134440"/>
            <a:ext cx="4535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件的起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件的经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事件的结果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133720"/>
            <a:ext cx="48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车站人多拥挤，有人钱挤掉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40360" y="3645000"/>
            <a:ext cx="48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家一起帮忙捡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5084640"/>
            <a:ext cx="48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掉落的钱物归原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1752480"/>
            <a:ext cx="82296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学习课文生字。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有感情朗读课文，读懂课文内容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能按事情发展的先后顺序讲述在车站发生的故事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993" t="3798" r="3515" b="80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1295280"/>
            <a:ext cx="69847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c059f"/>
                </a:solidFill>
                <a:latin typeface="Times New Roman"/>
                <a:ea typeface="楷体_GB2312"/>
              </a:rPr>
              <a:t>初读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了一件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429000" y="3276720"/>
            <a:ext cx="2143080" cy="92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概括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419720"/>
            <a:ext cx="73152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449568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时间、地点、人物、事件的要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7280" y="260280"/>
            <a:ext cx="860580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钞票  攒钱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  散落  挤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启动  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疾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快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  尴尬  挪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目睽睽  一沓  遗憾  感叹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拒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恩万谢  拾金不昧  夸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奖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hā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7080" y="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ā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0000" y="105264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11640" y="112536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105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àn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05264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u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2205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kuí ku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19640" y="220500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51640" y="220500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56000" y="328464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è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4360" y="328464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iǎ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51640" y="328464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q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"/>
                            </p:stCondLst>
                            <p:childTnLst>
                              <p:par>
                                <p:cTn id="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"/>
                            </p:stCondLst>
                            <p:childTnLst>
                              <p:par>
                                <p:cTn id="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"/>
                            </p:stCondLst>
                            <p:childTnLst>
                              <p:par>
                                <p:cTn id="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"/>
                            </p:stCondLst>
                            <p:childTnLst>
                              <p:par>
                                <p:cTn id="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1"/>
                            </p:stCondLst>
                            <p:childTnLst>
                              <p:par>
                                <p:cTn id="8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"/>
                            </p:stCondLst>
                            <p:childTnLst>
                              <p:par>
                                <p:cTn id="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276720" y="1143000"/>
            <a:ext cx="29383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钱</a:t>
            </a:r>
            <a:endParaRPr b="1" i="1" lang="en-US" sz="6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53080" y="1066680"/>
            <a:ext cx="205740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华文新魏"/>
              </a:rPr>
              <a:t>？</a:t>
            </a:r>
            <a:endParaRPr b="1" i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2284" b="4537"/>
          <a:stretch/>
        </p:blipFill>
        <p:spPr>
          <a:xfrm>
            <a:off x="457200" y="533520"/>
            <a:ext cx="819144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0" r="2850" b="19104"/>
          <a:stretch/>
        </p:blipFill>
        <p:spPr>
          <a:xfrm>
            <a:off x="228600" y="609480"/>
            <a:ext cx="83660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353440" cy="6270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332000" y="3068640"/>
            <a:ext cx="6408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隶书"/>
              </a:rPr>
              <a:t>散落的钞票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隶书"/>
              <a:ea typeface="华文隶书"/>
            </a:endParaRPr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6T03:18:13Z</dcterms:created>
  <dc:creator>Administrator</dc:creator>
  <dc:description/>
  <dc:language>en-US</dc:language>
  <cp:lastModifiedBy/>
  <dcterms:modified xsi:type="dcterms:W3CDTF">2015-08-11T02:28:03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  <property fmtid="{D5CDD505-2E9C-101B-9397-08002B2CF9AE}" pid="3" name="Version">
    <vt:r8>1</vt:r8>
  </property>
</Properties>
</file>