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7.jpeg" ContentType="image/jpeg"/>
  <Override PartName="/ppt/media/camera.wav" ContentType="audio/x-wav"/>
  <Override PartName="/ppt/media/image15.png" ContentType="image/png"/>
  <Override PartName="/ppt/media/image13.jpeg" ContentType="image/jpeg"/>
  <Override PartName="/ppt/media/type.wav" ContentType="audio/x-wav"/>
  <Override PartName="/ppt/media/image1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3.gif" ContentType="image/gif"/>
  <Override PartName="/ppt/media/image12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699-5D88-48C2-8259-3718F662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5EC6-E595-4AD0-AF8B-B3D10A6B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ADF8-835A-446C-A196-FF9D9207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B648-DABC-4957-A416-42827F06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1E23-7D04-489B-9236-3009D1C8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AA55-18EB-4727-A070-22AB8906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0038-E656-4F3D-9DED-CD64E71C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270-64B4-4FF5-BAA1-CFB3D27E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03E3-5B2E-4337-9433-3FCB1EE1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3C11-7A60-48EE-B97A-72231677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7975-C00C-467E-8786-3CFCF51E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5E44-DE18-42BB-9BAE-1C28CD14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5608-68F6-4160-81DD-B271824FC7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57680" cy="933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file:///tmp/home/.config/libreoffice/4/user/gallery/camera.wav" TargetMode="External"/><Relationship Id="rId8" Type="http://schemas.microsoft.com/office/2007/relationships/media" Target="file:///tmp/home/.config/libreoffice/4/user/gallery/camera.wav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859280" y="501336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宋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365720"/>
            <a:ext cx="475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6028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19280" y="1844640"/>
            <a:ext cx="62658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“</a:t>
            </a: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扫一室”与“扫天下”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0" y="5950080"/>
            <a:ext cx="9143280" cy="907920"/>
            <a:chOff x="0" y="5950080"/>
            <a:chExt cx="9143280" cy="90792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5614560" y="6019560"/>
              <a:ext cx="16164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3742920" y="5971680"/>
              <a:ext cx="143964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0" y="5950080"/>
              <a:ext cx="144000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1955520" y="5971680"/>
              <a:ext cx="14400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5"/>
            <a:stretch/>
          </p:blipFill>
          <p:spPr>
            <a:xfrm>
              <a:off x="7703280" y="6041160"/>
              <a:ext cx="1440000" cy="81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0" y="0"/>
            <a:ext cx="9143640" cy="549000"/>
            <a:chOff x="0" y="0"/>
            <a:chExt cx="9143640" cy="549000"/>
          </a:xfrm>
        </p:grpSpPr>
        <p:pic>
          <p:nvPicPr>
            <p:cNvPr id="53" name="" descr=""/>
            <p:cNvPicPr/>
            <p:nvPr/>
          </p:nvPicPr>
          <p:blipFill>
            <a:blip r:embed="rId6"/>
            <a:stretch/>
          </p:blipFill>
          <p:spPr>
            <a:xfrm>
              <a:off x="4573440" y="0"/>
              <a:ext cx="4570200" cy="5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4569840" cy="54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960640" y="1600200"/>
            <a:ext cx="3222720" cy="4525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908000" y="458136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08040" y="1413000"/>
            <a:ext cx="61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年轻人，你连一间小小的屋子都不扫，又怎么去扫天下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92360" y="285264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这是一个反问句，这句话的意思还可以怎样表达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42210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年轻人，你连一间小小的屋子都不扫，是扫不了天下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48656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学（分析题目。知内容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162864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题诗：图题诗就是为一幅画题一首和画内容差不多的诗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墨竹：单用墨画的竹子。墨竹图题诗就是单用墨画竹子的图画上面的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3573360"/>
            <a:ext cx="648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此人年少而有大志，但小事都不愿意去做，怎么能做成大事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5950080"/>
            <a:ext cx="9143280" cy="907920"/>
            <a:chOff x="0" y="5950080"/>
            <a:chExt cx="9143280" cy="90792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5614560" y="6019560"/>
              <a:ext cx="16164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3742920" y="5971680"/>
              <a:ext cx="143964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0" y="5950080"/>
              <a:ext cx="144000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4"/>
            <a:stretch/>
          </p:blipFill>
          <p:spPr>
            <a:xfrm>
              <a:off x="1955520" y="5971680"/>
              <a:ext cx="14400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5"/>
            <a:stretch/>
          </p:blipFill>
          <p:spPr>
            <a:xfrm>
              <a:off x="7703280" y="6041160"/>
              <a:ext cx="1440000" cy="816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48656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学（分析题目。知内容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1197000"/>
            <a:ext cx="10344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19280" y="3573360"/>
            <a:ext cx="648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4360" y="620640"/>
            <a:ext cx="4114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联系生活，明白寓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3" name=""/>
          <p:cNvSpPr/>
          <p:nvPr/>
        </p:nvSpPr>
        <p:spPr>
          <a:xfrm>
            <a:off x="1835280" y="1916280"/>
            <a:ext cx="547344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Arial"/>
                <a:ea typeface="宋体"/>
              </a:rPr>
              <a:t>听了薛勤的一番话，陈蕃会有改变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  <a:ea typeface="宋体"/>
              </a:rPr>
              <a:t>他会怎么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708000" y="252000"/>
            <a:ext cx="4248360" cy="57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</a:rPr>
              <a:t>陈蕃</a:t>
            </a:r>
            <a:br>
              <a:rPr sz="4400"/>
            </a:br>
            <a:r>
              <a:rPr b="0" lang="zh-CN" sz="4400" spc="-1" strike="noStrike">
                <a:solidFill>
                  <a:srgbClr val="0099ff"/>
                </a:solidFill>
                <a:latin typeface="Arial"/>
              </a:rPr>
              <a:t>东汉著名政治家曾任太守、太尉、太傅等职，从政数十年，为官清正廉洁，刚正不阿，被世人称赞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1628640"/>
            <a:ext cx="7921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20720" y="62064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108000" y="189000"/>
            <a:ext cx="3708360" cy="616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79280" y="333360"/>
            <a:ext cx="2664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说一说，练一练</a:t>
            </a:r>
            <a:endParaRPr b="0" i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1773360"/>
            <a:ext cx="8280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谈一谈你心目中的小事与大事分别是什么？学了这篇课文后，你觉得应该怎样对待小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文中的“扫一室”指（                      ）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“扫天下”是指（    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3573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平常小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4076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67280" y="4149720"/>
            <a:ext cx="32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指轰轰烈烈的大 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根据意思写词语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形容丝毫不在意，无所谓的样子。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追求远大的理想、事业上的抱负等。（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理由充分，说话气势就壮。               （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词填空。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懒惰        懒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他的生活很（     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（       ）的坏习惯，千万不要养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待         接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陈蕃见客人到来，就从自己的书房里出来（  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胡锦涛主席亲切地（        ）了外国客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将反问句改成陈述句。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连一间小小的屋子都不扫，又怎么去扫天下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——————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260280"/>
            <a:ext cx="280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堂检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11280" y="1413000"/>
            <a:ext cx="72007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意思写词语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形容丝毫不在意，无所谓的样子。（  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满不在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追求远大的理想、事业上的抱负等。（ 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志存高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理由充分，说话气势就壮。               （  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理直气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词填空。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懒惰        懒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他的生活很（ 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懒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（ 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懒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）的坏习惯，千万不要养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接待         接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陈蕃见客人到来，就从自己的书房里出来（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接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胡锦涛主席亲切地（  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接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）了外国客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将反问句改成陈述句。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连一间小小的屋子都不扫，又怎么去扫天下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你连一间小小的屋子都不扫，是扫不了天下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——————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8000" y="189000"/>
            <a:ext cx="280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堂检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5950080"/>
            <a:ext cx="9143280" cy="907920"/>
            <a:chOff x="0" y="5950080"/>
            <a:chExt cx="9143280" cy="9079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5614560" y="6019560"/>
              <a:ext cx="16164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3742920" y="5971680"/>
              <a:ext cx="143964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0" y="5950080"/>
              <a:ext cx="144000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4"/>
            <a:stretch/>
          </p:blipFill>
          <p:spPr>
            <a:xfrm>
              <a:off x="1955520" y="5971680"/>
              <a:ext cx="14400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5"/>
            <a:stretch/>
          </p:blipFill>
          <p:spPr>
            <a:xfrm>
              <a:off x="7703280" y="6041160"/>
              <a:ext cx="1440000" cy="81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"/>
          <p:cNvSpPr/>
          <p:nvPr/>
        </p:nvSpPr>
        <p:spPr>
          <a:xfrm>
            <a:off x="468360" y="620640"/>
            <a:ext cx="676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  <a:ea typeface="宋体"/>
              </a:rPr>
              <a:t>教育意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75a1"/>
                </a:solidFill>
                <a:latin typeface="Arial"/>
                <a:ea typeface="宋体"/>
              </a:rPr>
              <a:t>  </a:t>
            </a:r>
            <a:r>
              <a:rPr b="1" lang="zh-CN" sz="3600" spc="-1" strike="noStrike">
                <a:solidFill>
                  <a:srgbClr val="f175a1"/>
                </a:solidFill>
                <a:latin typeface="Arial"/>
                <a:ea typeface="宋体"/>
              </a:rPr>
              <a:t>不积跬步，无以至千里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75a1"/>
                </a:solidFill>
                <a:latin typeface="Arial"/>
                <a:ea typeface="宋体"/>
              </a:rPr>
              <a:t>  </a:t>
            </a:r>
            <a:r>
              <a:rPr b="1" lang="zh-CN" sz="3600" spc="-1" strike="noStrike">
                <a:solidFill>
                  <a:srgbClr val="f175a1"/>
                </a:solidFill>
                <a:latin typeface="Arial"/>
                <a:ea typeface="宋体"/>
              </a:rPr>
              <a:t>不积小流，无以成江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3357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3500280"/>
            <a:ext cx="669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句话的意思是：不迈出一小步，就不能走到千里之外；不积累小的河流，就不会有大江大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175a1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ff"/>
                </a:solidFill>
                <a:latin typeface="Arial"/>
                <a:ea typeface="隶书"/>
              </a:rPr>
              <a:t>教育意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75a1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f175a1"/>
                </a:solidFill>
                <a:latin typeface="Arial"/>
              </a:rPr>
              <a:t>不积跬步，无以至千里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75a1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f175a1"/>
                </a:solidFill>
                <a:latin typeface="Arial"/>
              </a:rPr>
              <a:t>不积小流，无以成江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75a1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645000"/>
            <a:ext cx="946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这句话的意思是：不迈出一小步，就不能走到千里之外；不积累小的河流，就不会有大江大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7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7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7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7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7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55640" y="2133720"/>
            <a:ext cx="6337440" cy="17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谢谢指导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2189" b="2899"/>
          <a:stretch/>
        </p:blipFill>
        <p:spPr>
          <a:xfrm>
            <a:off x="-108000" y="189000"/>
            <a:ext cx="9394920" cy="6256080"/>
          </a:xfrm>
          <a:prstGeom prst="rect">
            <a:avLst/>
          </a:prstGeom>
          <a:ln w="0">
            <a:noFill/>
          </a:ln>
        </p:spPr>
      </p:pic>
      <p:sp>
        <p:nvSpPr>
          <p:cNvPr id="56" name="Freeform 3"/>
          <p:cNvSpPr/>
          <p:nvPr/>
        </p:nvSpPr>
        <p:spPr>
          <a:xfrm>
            <a:off x="3132000" y="3184560"/>
            <a:ext cx="3311640" cy="3673440"/>
          </a:xfrm>
          <a:prstGeom prst="pie">
            <a:avLst/>
          </a:prstGeom>
          <a:gradFill rotWithShape="0">
            <a:gsLst>
              <a:gs pos="0">
                <a:srgbClr val="cc6600"/>
              </a:gs>
              <a:gs pos="50000">
                <a:srgbClr val="663300"/>
              </a:gs>
              <a:gs pos="100000">
                <a:srgbClr val="cc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84360" y="-171360"/>
            <a:ext cx="4105440" cy="3384360"/>
          </a:xfrm>
          <a:custGeom>
            <a:avLst/>
            <a:gdLst>
              <a:gd name="textAreaLeft" fmla="*/ 964080 w 4105440"/>
              <a:gd name="textAreaRight" fmla="*/ 3141360 w 4105440"/>
              <a:gd name="textAreaTop" fmla="*/ 794520 h 3384360"/>
              <a:gd name="textAreaBottom" fmla="*/ 2589840 h 338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60" y="11787"/>
                </a:lnTo>
                <a:lnTo>
                  <a:pt x="368" y="13595"/>
                </a:lnTo>
                <a:lnTo>
                  <a:pt x="3290" y="13834"/>
                </a:lnTo>
                <a:lnTo>
                  <a:pt x="1447" y="16200"/>
                </a:lnTo>
                <a:lnTo>
                  <a:pt x="4331" y="15675"/>
                </a:lnTo>
                <a:lnTo>
                  <a:pt x="3163" y="18437"/>
                </a:lnTo>
                <a:lnTo>
                  <a:pt x="5813" y="17183"/>
                </a:lnTo>
                <a:lnTo>
                  <a:pt x="5400" y="20153"/>
                </a:lnTo>
                <a:lnTo>
                  <a:pt x="7635" y="18256"/>
                </a:lnTo>
                <a:lnTo>
                  <a:pt x="8005" y="21232"/>
                </a:lnTo>
                <a:lnTo>
                  <a:pt x="9673" y="18821"/>
                </a:lnTo>
                <a:lnTo>
                  <a:pt x="10800" y="21600"/>
                </a:lnTo>
                <a:lnTo>
                  <a:pt x="11787" y="18840"/>
                </a:lnTo>
                <a:lnTo>
                  <a:pt x="13595" y="21232"/>
                </a:lnTo>
                <a:lnTo>
                  <a:pt x="13834" y="18310"/>
                </a:lnTo>
                <a:lnTo>
                  <a:pt x="16200" y="20153"/>
                </a:lnTo>
                <a:lnTo>
                  <a:pt x="15675" y="17269"/>
                </a:lnTo>
                <a:lnTo>
                  <a:pt x="18437" y="18437"/>
                </a:lnTo>
                <a:lnTo>
                  <a:pt x="17183" y="15787"/>
                </a:lnTo>
                <a:lnTo>
                  <a:pt x="20153" y="16200"/>
                </a:lnTo>
                <a:lnTo>
                  <a:pt x="18256" y="13965"/>
                </a:lnTo>
                <a:lnTo>
                  <a:pt x="21232" y="13595"/>
                </a:lnTo>
                <a:lnTo>
                  <a:pt x="18821" y="11927"/>
                </a:lnTo>
                <a:lnTo>
                  <a:pt x="21600" y="10800"/>
                </a:lnTo>
                <a:lnTo>
                  <a:pt x="18840" y="9813"/>
                </a:lnTo>
                <a:lnTo>
                  <a:pt x="21232" y="8005"/>
                </a:lnTo>
                <a:lnTo>
                  <a:pt x="18310" y="7766"/>
                </a:lnTo>
                <a:lnTo>
                  <a:pt x="20153" y="5400"/>
                </a:lnTo>
                <a:lnTo>
                  <a:pt x="17269" y="5925"/>
                </a:lnTo>
                <a:lnTo>
                  <a:pt x="18437" y="3163"/>
                </a:lnTo>
                <a:lnTo>
                  <a:pt x="15787" y="4417"/>
                </a:lnTo>
                <a:lnTo>
                  <a:pt x="16200" y="1447"/>
                </a:lnTo>
                <a:lnTo>
                  <a:pt x="13965" y="3344"/>
                </a:lnTo>
                <a:lnTo>
                  <a:pt x="13595" y="368"/>
                </a:lnTo>
                <a:lnTo>
                  <a:pt x="11927" y="2779"/>
                </a:lnTo>
                <a:lnTo>
                  <a:pt x="10800" y="0"/>
                </a:lnTo>
                <a:lnTo>
                  <a:pt x="9813" y="2760"/>
                </a:lnTo>
                <a:lnTo>
                  <a:pt x="8005" y="368"/>
                </a:lnTo>
                <a:lnTo>
                  <a:pt x="7766" y="3290"/>
                </a:lnTo>
                <a:lnTo>
                  <a:pt x="5400" y="1447"/>
                </a:lnTo>
                <a:lnTo>
                  <a:pt x="5925" y="4331"/>
                </a:lnTo>
                <a:lnTo>
                  <a:pt x="3163" y="3163"/>
                </a:lnTo>
                <a:lnTo>
                  <a:pt x="4417" y="5813"/>
                </a:lnTo>
                <a:lnTo>
                  <a:pt x="1447" y="5400"/>
                </a:lnTo>
                <a:lnTo>
                  <a:pt x="3344" y="7635"/>
                </a:lnTo>
                <a:lnTo>
                  <a:pt x="368" y="8005"/>
                </a:lnTo>
                <a:lnTo>
                  <a:pt x="2779" y="967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领悟“扫一室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与“扫天下”的含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知道它们之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存在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1773360"/>
            <a:ext cx="3024000" cy="3384360"/>
          </a:xfrm>
          <a:prstGeom prst="cloudCallout">
            <a:avLst>
              <a:gd name="adj1" fmla="val 89578"/>
              <a:gd name="adj2" fmla="val 45731"/>
            </a:avLst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感悟反问句，给反问句换一种说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88000" y="1628640"/>
            <a:ext cx="3456000" cy="3672000"/>
          </a:xfrm>
          <a:prstGeom prst="cloudCallout">
            <a:avLst>
              <a:gd name="adj1" fmla="val -66583"/>
              <a:gd name="adj2" fmla="val 26652"/>
            </a:avLst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、理解课文内容，懂得这则寓言的寓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5438" b="4828"/>
          <a:stretch/>
        </p:blipFill>
        <p:spPr>
          <a:xfrm>
            <a:off x="0" y="-243000"/>
            <a:ext cx="9223200" cy="6961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35280" y="227664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ff"/>
                </a:solidFill>
                <a:latin typeface="Arial"/>
                <a:ea typeface="宋体"/>
              </a:rPr>
              <a:t>用自己喜欢的方式读课文，画出生字、新词，读一读。遇到难读的词句多读几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42920" y="1125360"/>
            <a:ext cx="187344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独学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"/>
          <p:cNvSpPr/>
          <p:nvPr/>
        </p:nvSpPr>
        <p:spPr>
          <a:xfrm>
            <a:off x="3203640" y="148428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（自读课文，思字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5950080"/>
            <a:ext cx="9143280" cy="907920"/>
            <a:chOff x="0" y="5950080"/>
            <a:chExt cx="9143280" cy="907920"/>
          </a:xfrm>
        </p:grpSpPr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5614560" y="6019560"/>
              <a:ext cx="16164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3742920" y="5971680"/>
              <a:ext cx="143964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0" y="5950080"/>
              <a:ext cx="144000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5"/>
            <a:stretch/>
          </p:blipFill>
          <p:spPr>
            <a:xfrm>
              <a:off x="1955520" y="5971680"/>
              <a:ext cx="14400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6"/>
            <a:stretch/>
          </p:blipFill>
          <p:spPr>
            <a:xfrm>
              <a:off x="7703280" y="6041160"/>
              <a:ext cx="1440000" cy="81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"/>
          <p:cNvSpPr/>
          <p:nvPr/>
        </p:nvSpPr>
        <p:spPr>
          <a:xfrm>
            <a:off x="1547640" y="544500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（学习方法：画一画、读一读、想一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0" r="1389" b="7943"/>
          <a:stretch/>
        </p:blipFill>
        <p:spPr>
          <a:xfrm>
            <a:off x="36360" y="117360"/>
            <a:ext cx="9017280" cy="63118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8675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懒散　寒暄　污浊   肮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拜访　垃圾　沉思   着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理直气壮　志存高远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轰轰烈烈    乱七八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又脏又乱   满不在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4498" t="-844" r="6080" b="8372"/>
          <a:stretch/>
        </p:blipFill>
        <p:spPr>
          <a:xfrm>
            <a:off x="-36360" y="260280"/>
            <a:ext cx="9204120" cy="6343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0" y="260280"/>
            <a:ext cx="2951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同桌对学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98100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（相互交流，感悟大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50920" y="5950080"/>
            <a:ext cx="9143280" cy="907920"/>
            <a:chOff x="250920" y="5950080"/>
            <a:chExt cx="9143280" cy="90792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5865480" y="6019560"/>
              <a:ext cx="16164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3"/>
            <a:stretch/>
          </p:blipFill>
          <p:spPr>
            <a:xfrm>
              <a:off x="3993840" y="5971680"/>
              <a:ext cx="143964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4"/>
            <a:stretch/>
          </p:blipFill>
          <p:spPr>
            <a:xfrm>
              <a:off x="250920" y="5950080"/>
              <a:ext cx="144000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5"/>
            <a:stretch/>
          </p:blipFill>
          <p:spPr>
            <a:xfrm>
              <a:off x="2206440" y="5971680"/>
              <a:ext cx="14400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6"/>
            <a:stretch/>
          </p:blipFill>
          <p:spPr>
            <a:xfrm>
              <a:off x="7954200" y="6041160"/>
              <a:ext cx="1440000" cy="81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059280" y="1916280"/>
            <a:ext cx="4825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99"/>
                </a:solidFill>
                <a:latin typeface="Arial"/>
                <a:ea typeface="宋体"/>
              </a:rPr>
              <a:t>听读课文，同桌讨论：故事中的主人公是谁？文章主要讲了什么事</a:t>
            </a:r>
            <a:r>
              <a:rPr b="0" lang="en-US" sz="4400" spc="-1" strike="noStrike">
                <a:solidFill>
                  <a:srgbClr val="00ff99"/>
                </a:solidFill>
                <a:latin typeface="Arial"/>
                <a:ea typeface="宋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1835280" y="5516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1929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0" y="189000"/>
            <a:ext cx="2376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群学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"/>
          <p:cNvSpPr/>
          <p:nvPr/>
        </p:nvSpPr>
        <p:spPr>
          <a:xfrm>
            <a:off x="3380040" y="65412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（合作学习，以读促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65240" y="1916280"/>
            <a:ext cx="521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Arial"/>
                <a:ea typeface="宋体"/>
              </a:rPr>
              <a:t>你最喜欢文中的哪个人物？并说说喜欢他的理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1187280" cy="2133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753320" y="0"/>
            <a:ext cx="1390680" cy="1238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050920" y="213372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大丈夫活在世上，要干的是轰轰烈烈的大事业，要扫除的是天下一切不平之事，哪里会花心思去清扫小小的一间屋子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4360" y="549360"/>
            <a:ext cx="27352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读中体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-324000" y="-171360"/>
            <a:ext cx="9144000" cy="69192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0" y="5950080"/>
            <a:ext cx="9143280" cy="907920"/>
            <a:chOff x="0" y="5950080"/>
            <a:chExt cx="9143280" cy="907920"/>
          </a:xfrm>
        </p:grpSpPr>
        <p:pic>
          <p:nvPicPr>
            <p:cNvPr id="95" name="" descr=""/>
            <p:cNvPicPr/>
            <p:nvPr/>
          </p:nvPicPr>
          <p:blipFill>
            <a:blip r:embed="rId5"/>
            <a:stretch/>
          </p:blipFill>
          <p:spPr>
            <a:xfrm>
              <a:off x="5614560" y="6019560"/>
              <a:ext cx="16164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6"/>
            <a:stretch/>
          </p:blipFill>
          <p:spPr>
            <a:xfrm>
              <a:off x="3742920" y="5971680"/>
              <a:ext cx="143964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7"/>
            <a:stretch/>
          </p:blipFill>
          <p:spPr>
            <a:xfrm>
              <a:off x="0" y="5950080"/>
              <a:ext cx="144000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8"/>
            <a:stretch/>
          </p:blipFill>
          <p:spPr>
            <a:xfrm>
              <a:off x="1955520" y="5971680"/>
              <a:ext cx="14400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9"/>
            <a:stretch/>
          </p:blipFill>
          <p:spPr>
            <a:xfrm>
              <a:off x="7703280" y="6041160"/>
              <a:ext cx="1440000" cy="81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072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1374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</a:rPr>
              <a:t>扫一室”指平常小事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</a:rPr>
              <a:t>扫天下”指轰轰烈烈的大 事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5950080"/>
            <a:ext cx="9143280" cy="907920"/>
            <a:chOff x="0" y="5950080"/>
            <a:chExt cx="9143280" cy="90792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5614560" y="6019560"/>
              <a:ext cx="16164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3742920" y="5971680"/>
              <a:ext cx="143964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4"/>
            <a:stretch/>
          </p:blipFill>
          <p:spPr>
            <a:xfrm>
              <a:off x="0" y="5950080"/>
              <a:ext cx="144000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5"/>
            <a:stretch/>
          </p:blipFill>
          <p:spPr>
            <a:xfrm>
              <a:off x="1955520" y="5971680"/>
              <a:ext cx="14400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6"/>
            <a:stretch/>
          </p:blipFill>
          <p:spPr>
            <a:xfrm>
              <a:off x="7703280" y="6041160"/>
              <a:ext cx="1440000" cy="816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3284640"/>
            <a:ext cx="2808360" cy="3573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627280" y="260280"/>
            <a:ext cx="6516720" cy="5113440"/>
          </a:xfrm>
          <a:prstGeom prst="cloudCallout">
            <a:avLst>
              <a:gd name="adj1" fmla="val -47638"/>
              <a:gd name="adj2" fmla="val 37611"/>
            </a:avLst>
          </a:prstGeom>
          <a:solidFill>
            <a:srgbClr val="ff33cc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67280" y="1268280"/>
            <a:ext cx="33829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宋体"/>
              </a:rPr>
              <a:t>1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宋体"/>
              </a:rPr>
              <a:t>、“扫一室”与“扫天下”两者之间有什么关系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宋体"/>
              </a:rPr>
              <a:t>2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宋体"/>
              </a:rPr>
              <a:t>、你从中懂得了什么道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7T13:39:52Z</dcterms:created>
  <dc:creator>Administrator</dc:creator>
  <dc:description/>
  <dc:language>en-US</dc:language>
  <cp:lastModifiedBy/>
  <dcterms:modified xsi:type="dcterms:W3CDTF">2015-08-11T02:33:59Z</dcterms:modified>
  <cp:revision>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