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A79-F157-40CC-BDE1-AB62108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388-FD72-44C3-A5C7-FBF1052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6EF-3EFC-4739-BC87-5D236F9B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111-2FCF-407F-AE33-6895CAE7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403-D408-4337-A8B6-8067155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FE1-C311-40C6-8F5A-36ABCB9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5C0-4035-4587-AD50-63FA82A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595-BF64-4BC0-B21A-93EBF21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C9E-1A24-47C3-9555-94F6CAC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D63-3DAA-4413-99FD-C413201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DFB-649F-420B-9C2C-E85C01A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3DB-6244-42B7-9C6F-D2A9470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0FE-870C-4C83-8EB7-F6641939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4800" y="2092320"/>
            <a:ext cx="292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cc3300"/>
                </a:solidFill>
                <a:uFillTx/>
                <a:latin typeface="Arial"/>
                <a:ea typeface="华文仿宋"/>
              </a:rPr>
              <a:t>文章写了三个事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1880" y="320040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飞蛾求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1880" y="434340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瓜苗生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638680"/>
            <a:ext cx="27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静听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6576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200400"/>
            <a:ext cx="426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强烈的求生欲望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1400" y="4419720"/>
            <a:ext cx="442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生命力的强大、不屈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48006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60199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4400" y="563868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思考人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这篇文章共写了几个事例？用一个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关键词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来概括这个事例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1880" y="320040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飞蛾求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1880" y="434340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瓜苗生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638680"/>
            <a:ext cx="27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静听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6576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8006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60199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0" y="563868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思考人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333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找出每一个事例中最能体现生命特征、焕发生命光彩的词语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638680"/>
            <a:ext cx="159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震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5200" y="3195720"/>
            <a:ext cx="426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强烈的求生欲望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51400" y="4424400"/>
            <a:ext cx="442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生命力的强大、不屈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8680" y="4419720"/>
            <a:ext cx="112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生命力的强大、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不屈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200400"/>
            <a:ext cx="426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强烈的求生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欲望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549360"/>
            <a:ext cx="88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华文中宋"/>
              </a:rPr>
              <a:t>你感受到作者跟你说了她的哪些想法？（可用原文回答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708280"/>
            <a:ext cx="9144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Arial Black"/>
                <a:ea typeface="华文隶书"/>
              </a:rPr>
              <a:t>我必须对自己负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Arial Black"/>
                <a:ea typeface="华文隶书"/>
              </a:rPr>
              <a:t>让有限的生命发挥出无限的价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Arial Black"/>
                <a:ea typeface="华文隶书"/>
              </a:rPr>
              <a:t>我愿意为它奋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146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划出自已认为写得好的、最精彩的句子或词语，谈一谈你的体会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0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华文中宋"/>
              </a:rPr>
              <a:t>你对哪个事例感触最深？是什么打动了你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研读语句   理解文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抓“欲望”研读“飞蛾求生”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、默读该段，划出表现欲望的句子和词语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、反复读，并抓住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</a:rPr>
              <a:t>重点语句、关键词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仔细体会句子和词语的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</a:rPr>
              <a:t>含义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、齐读这句话，感悟领会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但它挣扎着，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极力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鼓动双翅，我感到一股生命的力量在我手中跃动，那样强烈！那样鲜明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3828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飞蛾那种求生的欲望令我震惊，我忍不住放了它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但它挣扎着，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极力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鼓动双翅，我感到一股生命的力量在我手中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跃动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强烈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！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鲜明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飞蛾那种求生的欲望令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震惊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忍不住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放了它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但它挣扎着，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极力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鼓动双翅，我感到一股生命的力量在我手中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跳动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强烈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鲜明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飞蛾那种求生的欲望令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震惊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忍不住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放了它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79840"/>
            <a:ext cx="9144000" cy="85572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我感到一股生命的力量在我手中跃动。”“跃动”改为“跳动”行不行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但它挣扎着，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极力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鼓动双翅，我感到一股生命的力量在我手中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跳动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强烈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那样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鲜明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0"/>
            <a:ext cx="9144000" cy="779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飞蛾那种求生的欲望令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震惊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，我</a:t>
            </a:r>
            <a:r>
              <a:rPr b="1" lang="zh-CN" sz="4500" spc="-1" strike="noStrike">
                <a:solidFill>
                  <a:srgbClr val="ff3300"/>
                </a:solidFill>
                <a:latin typeface="黑体"/>
                <a:ea typeface="黑体"/>
              </a:rPr>
              <a:t>忍不住</a:t>
            </a:r>
            <a:r>
              <a:rPr b="1" lang="zh-CN" sz="4500" spc="-1" strike="noStrike">
                <a:solidFill>
                  <a:srgbClr val="000066"/>
                </a:solidFill>
                <a:latin typeface="黑体"/>
                <a:ea typeface="黑体"/>
              </a:rPr>
              <a:t>放了它</a:t>
            </a:r>
            <a:r>
              <a:rPr b="1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79840"/>
            <a:ext cx="9144000" cy="85572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不行。跳动是一起一伏地动；跃动表达心情急切。用“跃动”更能表达“生之欲望”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052640"/>
            <a:ext cx="8820000" cy="1922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此时此刻，我想说：生命就是（                ）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0"/>
            <a:ext cx="7696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夜晚，我在灯下写稿，一只飞蛾不停地在我头顶上飞来飞去，骚扰着我。 趁它在停下的时候，我一伸手捉住了它。只要我的手指稍一用力，它就不能动弹了。但它挣扎着，极力鼓动双翅，我感到一股生命的力量在我手中跃动，那样强烈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那样鲜明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飞蛾那种求生的欲望令我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黑体"/>
              </a:rPr>
              <a:t>震惊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，我忍不住放了它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叙述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娓娓道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668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声音轻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读出脆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感情充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读出震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620640"/>
            <a:ext cx="8604000" cy="855720"/>
          </a:xfrm>
          <a:prstGeom prst="rect">
            <a:avLst/>
          </a:prstGeom>
          <a:solidFill>
            <a:srgbClr val="99cc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6600"/>
                </a:solidFill>
                <a:latin typeface="黑体"/>
                <a:ea typeface="黑体"/>
              </a:rPr>
              <a:t>那小小的种子里，包含着一种多么强的生命力啊！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竟使它可以冲破坚硬的外壳，在没有阳光、没有泥土的砖缝中，不屈向上，茁壮成长，即使它仅仅只活了几天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701640"/>
            <a:ext cx="79930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47800" y="907920"/>
            <a:ext cx="756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887400"/>
            <a:ext cx="76327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620640"/>
            <a:ext cx="8604000" cy="1617480"/>
          </a:xfrm>
          <a:prstGeom prst="rect">
            <a:avLst/>
          </a:prstGeom>
          <a:solidFill>
            <a:srgbClr val="99cc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6600"/>
                </a:solidFill>
                <a:latin typeface="黑体"/>
                <a:ea typeface="黑体"/>
              </a:rPr>
              <a:t>那小小的种子里，包含着一种</a:t>
            </a:r>
            <a:r>
              <a:rPr b="1" lang="zh-CN" sz="5000" spc="-1" strike="noStrike">
                <a:solidFill>
                  <a:srgbClr val="ff3300"/>
                </a:solidFill>
                <a:latin typeface="黑体"/>
                <a:ea typeface="黑体"/>
              </a:rPr>
              <a:t>多么强</a:t>
            </a:r>
            <a:r>
              <a:rPr b="1" lang="zh-CN" sz="5000" spc="-1" strike="noStrike">
                <a:solidFill>
                  <a:srgbClr val="006600"/>
                </a:solidFill>
                <a:latin typeface="黑体"/>
                <a:ea typeface="黑体"/>
              </a:rPr>
              <a:t>的生命力啊！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竟使它可以冲破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坚硬的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外壳，在没有阳光、没有泥土的砖缝中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不屈向上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茁壮成长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，即使它仅仅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只活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了几天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8080"/>
            <a:ext cx="9144000" cy="85572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隔了几天，竟然冒出了一截小瓜苗。”竟然，为什么不能去掉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733920"/>
            <a:ext cx="9144000" cy="161748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竟然”表达了一种意想不到，表达出一种惊喜，若去掉就没有了这种表达效果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052640"/>
            <a:ext cx="8820000" cy="1922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此时此刻，我想说：生命就是（                ）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413000"/>
            <a:ext cx="770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生命， 不屈的动力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冲破一切的力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781360"/>
            <a:ext cx="67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某些东西只有当失去它的时候，才感到它的珍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491000"/>
            <a:ext cx="4572000" cy="236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84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45720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00" y="620640"/>
            <a:ext cx="8604000" cy="1617480"/>
          </a:xfrm>
          <a:prstGeom prst="rect">
            <a:avLst/>
          </a:prstGeom>
          <a:solidFill>
            <a:srgbClr val="99cc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6600"/>
                </a:solidFill>
                <a:latin typeface="黑体"/>
                <a:ea typeface="黑体"/>
              </a:rPr>
              <a:t>那小小的种子里，包含着一种</a:t>
            </a:r>
            <a:r>
              <a:rPr b="1" lang="zh-CN" sz="5000" spc="-1" strike="noStrike">
                <a:solidFill>
                  <a:srgbClr val="ff3300"/>
                </a:solidFill>
                <a:latin typeface="黑体"/>
                <a:ea typeface="黑体"/>
              </a:rPr>
              <a:t>多么强</a:t>
            </a:r>
            <a:r>
              <a:rPr b="1" lang="zh-CN" sz="5000" spc="-1" strike="noStrike">
                <a:solidFill>
                  <a:srgbClr val="006600"/>
                </a:solidFill>
                <a:latin typeface="黑体"/>
                <a:ea typeface="黑体"/>
              </a:rPr>
              <a:t>的生命力啊！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竟使它可以冲破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坚硬的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外壳，在没有阳光、没有泥土的砖缝中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不屈向上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茁壮成长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，即使它仅仅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黑体"/>
              </a:rPr>
              <a:t>只活</a:t>
            </a:r>
            <a:r>
              <a:rPr b="1" lang="zh-CN" sz="5000" spc="-1" strike="noStrike">
                <a:solidFill>
                  <a:srgbClr val="006600"/>
                </a:solidFill>
                <a:latin typeface="Arial"/>
                <a:ea typeface="黑体"/>
              </a:rPr>
              <a:t>了几天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有一次，我用医生的听诊器，静听自己的心跳，那一声声沉稳而有规律的跳动，给我极大的震撼，这就是我的生命，单单属于我的。我可以好好使用它，也可以白白地糟蹋它。一切全由自己决定，我必须对自己负责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有一次，我用医生的听诊器，静听自己的心跳，那一声声沉稳而有规律的跳动，给我极大的震撼，这就是我的生命，单单属于我的。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我可以好好使用它，也可以白白地糟蹋它。一切全由自己决定，我必须对自己负责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620640"/>
            <a:ext cx="8604000" cy="703440"/>
          </a:xfrm>
          <a:prstGeom prst="rect">
            <a:avLst/>
          </a:prstGeom>
          <a:solidFill>
            <a:srgbClr val="99cc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那一声声沉稳而有规律的跳动，给我极大的震撼，这就是我的生命，单单属于我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566100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566100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010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310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620640"/>
            <a:ext cx="8604000" cy="1312920"/>
          </a:xfrm>
          <a:prstGeom prst="rect">
            <a:avLst/>
          </a:prstGeom>
          <a:solidFill>
            <a:srgbClr val="99cc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那一声声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沉稳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而有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规律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的跳动，给我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极大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的震撼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就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生命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，单单属于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566100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566100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4582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310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303048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静听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844640"/>
            <a:ext cx="287280" cy="36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9720" y="3505320"/>
            <a:ext cx="292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生命的有限与无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590840"/>
            <a:ext cx="72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两种对待生命的态度——好好使用生命珍惜生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360" y="4902120"/>
            <a:ext cx="4752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确立目标——与病魔作斗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2286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重点朗读最后两个自然段，找出触动自己的句子来谈一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品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034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335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我可以好好地使用它，也可以白白糟蹋它。一切全在我一念之间，我必须对自己负责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2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240" y="3581280"/>
            <a:ext cx="91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120b99"/>
                </a:solidFill>
                <a:latin typeface="Times New Roman"/>
              </a:rPr>
              <a:t>生命是属于我们自己的，如果我们不  珍惜时间</a:t>
            </a:r>
            <a:r>
              <a:rPr b="1" lang="en-US" sz="4000" spc="-1" strike="noStrike">
                <a:solidFill>
                  <a:srgbClr val="120b99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120b99"/>
                </a:solidFill>
                <a:latin typeface="Times New Roman"/>
              </a:rPr>
              <a:t>让岁月流逝，那么，我们便只能虚度光阴，无所事事；只有我们珍惜它，用心生活，我们才能过得充实，有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335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虽然生命短暂，但是，我们却可以让有限的生命体现出无限的价值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120b99"/>
                </a:solidFill>
                <a:latin typeface="Times New Roman"/>
              </a:rPr>
              <a:t>我们是命运的主人，只有我们努力了，生命才有意义，才能在有限的时间里最大可能地创造生活，丰富生活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996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621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于是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我下定决心，一定要珍惜生命，决不让它白白流失，使自己活得更加光彩有力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76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4290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120b99"/>
                </a:solidFill>
                <a:latin typeface="Times New Roman"/>
              </a:rPr>
              <a:t>人生不是一帆风顺的，无论遇到什么挫折，我们都应该勇敢地面对，不退缩，不气馁，做生活的强者，主宰自己的命运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2157480" cy="250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-92160"/>
            <a:ext cx="73915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杏林子，本名刘侠，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日出生于陕西省扶风县杏林镇。十二岁患类风湿节炎，全身关节大部分遭到损坏，致使她腿不能行，肩不能举，手不能抬，头不能转。与病魔奋斗了近五十年。后来病情恶化，她忍着病痛，写作不辍，写了四十多个剧本和许多散文。先后出版多部文集。一九八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年当选台湾十大杰出女青年，一九八三年获得国家文艺基金散文奖。更创办伊甸残障基金，身体力行，为残障朋友服务。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日不幸去世，享年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46160" y="208080"/>
            <a:ext cx="4101840" cy="12812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313160" y="285840"/>
            <a:ext cx="4714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虽然生命短暂，但是，我们却可以让有限的生命体现出无限的价值。于是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下定决心，一定要珍惜生命，决不让它白白流失，使自己活得更加光彩有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71640" y="907920"/>
            <a:ext cx="676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生命是什么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068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让有限的生命创造无限的价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小学毕业因病辍学的杏林子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数十年来坚持自修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著有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多本散文、小说、传记、剧本等，被誉为“台湾最具影响力的作家”，她组织成立了“伊甸残障福利基金会”，离世后，把躯体捐献给了医院，供“类风湿性关节炎”教学研究。她的一句名言是：除了爱，我一无所有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生          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飞蛾求生  （的）  欲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瓜苗生长 （的） 不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心脏跳动 （的）  震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                …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生          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飞蛾求生  （的）  欲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瓜苗生长 （的） 不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心脏跳动 （的）  震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花朵绽放  （的）  美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 星星闪烁 （的）  光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（是）                  （的）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……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6360" y="2349360"/>
            <a:ext cx="83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可以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好好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使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也可以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白白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糟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987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对自己负责，就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生命短暂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我们却可以让有限的生命体现出无限的价值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于是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我下定决心，一定要珍惜生命，决不让它白白流失，使自己活得更加光彩有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3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Tahoma"/>
                <a:ea typeface="楷体_GB2312"/>
              </a:rPr>
              <a:t>请用下列格式说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668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楷体_GB2312"/>
              </a:rPr>
              <a:t>我感受到生命因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10666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11430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楷体_GB2312"/>
              </a:rPr>
              <a:t>而美丽”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1337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ahoma"/>
                <a:ea typeface="楷体_GB2312"/>
              </a:rPr>
              <a:t>再联系实例说明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9718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示范：我感受到生命因为自强不息而美丽，著名作曲家贝多芬又瞎又聋，但他自强不息与命运抗争，终于“扼住了命运的咽喉”。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感受到生命因为顽强拼搏而美丽，张海迪阿姨下半身不遂，但她顽强与命运抗争，而《轻椅上的梦》成了激励青年上进的明灯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感受到生命因为有无限价值而美丽，伟大作家鲁迅就是一个极好的例子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感受到生命因为奋斗而美丽，像居里夫人，一生都奉献于发明上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感受到生命因为助人为乐而美丽，雷锋的一生都用于为人民服务中去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78000" cy="4406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71800" y="0"/>
            <a:ext cx="6477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300" spc="-1" strike="noStrike">
                <a:solidFill>
                  <a:srgbClr val="000000"/>
                </a:solidFill>
                <a:latin typeface="宋体"/>
              </a:rPr>
              <a:t>杏林子在作品中一直处处流露对人、对社会的关爱之情，流露出积极、乐观、斗志、爱和盼，讴歌天地间种种的美，抒发她对生命的欣赏与喜悦，以过人的毅力和爱心，在繁杂晦暗的社会中透出温暖的亮光。著有《杏林小记》、《生之歌》等作品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58920" y="270828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自己学习这篇课文的感受写下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以《我对自己生命的感悟》为题写一篇文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6360" y="1413000"/>
            <a:ext cx="31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63348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zh-CN" sz="45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4500" spc="-1" strike="noStrike">
                <a:solidFill>
                  <a:srgbClr val="000066"/>
                </a:solidFill>
                <a:latin typeface="Arial"/>
              </a:rPr>
              <a:t>、我能联系上下文和生活实际，理解含义深刻的句子，体会三个事例中蕴含的道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4500" spc="-1" strike="noStrike">
                <a:solidFill>
                  <a:srgbClr val="000066"/>
                </a:solidFill>
                <a:latin typeface="Arial"/>
              </a:rPr>
              <a:t>、通过作者对生命的思考，引发我对生命价值的思考：珍爱生命，顽强拼搏，让我的人生更有价值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4500" spc="-1" strike="noStrike">
                <a:solidFill>
                  <a:srgbClr val="000066"/>
                </a:solidFill>
                <a:latin typeface="Arial"/>
              </a:rPr>
              <a:t>、我能有感情的朗读课文，背诵课文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5734080"/>
            <a:ext cx="5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28000" y="602136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22123" y="10800"/>
                </a:lnTo>
                <a:lnTo>
                  <a:pt x="8035" y="17844"/>
                </a:lnTo>
                <a:close/>
              </a:path>
            </a:pathLst>
          </a:cu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自读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52280" y="1143000"/>
            <a:ext cx="88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遇到课文中的生字要多读几遍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096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读一篇文章，要善于</a:t>
            </a:r>
            <a:r>
              <a:rPr b="1" lang="zh-CN" sz="4500" spc="-1" strike="noStrike">
                <a:solidFill>
                  <a:srgbClr val="ff0000"/>
                </a:solidFill>
                <a:latin typeface="宋体"/>
              </a:rPr>
              <a:t>抓住关键词或主题词，从而抓住中心，抓住精神诵读全文，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想一想课文围绕着课题作者列举了哪几个事例？试用几个字或一句话</a:t>
            </a:r>
            <a:r>
              <a:rPr b="1" lang="zh-CN" sz="4500" spc="-1" strike="noStrike">
                <a:solidFill>
                  <a:srgbClr val="ff0000"/>
                </a:solidFill>
                <a:latin typeface="宋体"/>
              </a:rPr>
              <a:t>概括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一下每个事例的内容。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12952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骚扰  动弹    欲望  小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竟然  听诊器   震撼  辜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糟蹋  有限   珍惜  短暂  挣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不屈向上  茁壮生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838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s</a:t>
            </a:r>
            <a:r>
              <a:rPr b="1" lang="en-US" sz="3200" spc="-1" strike="noStrike">
                <a:solidFill>
                  <a:srgbClr val="c00000"/>
                </a:solidFill>
                <a:latin typeface="Franklin Gothic Medium"/>
                <a:ea typeface="华文楷体"/>
              </a:rPr>
              <a:t>ā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o   r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1460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t</a:t>
            </a:r>
            <a:r>
              <a:rPr b="1" lang="en-US" sz="3200" spc="-1" strike="noStrike">
                <a:solidFill>
                  <a:srgbClr val="c00000"/>
                </a:solidFill>
                <a:latin typeface="Franklin Gothic Medium"/>
                <a:ea typeface="华文楷体"/>
              </a:rPr>
              <a:t>á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438280" y="2362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zh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1814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h</a:t>
            </a:r>
            <a:r>
              <a:rPr b="1" lang="en-US" sz="3200" spc="-1" strike="noStrike">
                <a:solidFill>
                  <a:srgbClr val="c00000"/>
                </a:solidFill>
                <a:latin typeface="Franklin Gothic Medium"/>
                <a:ea typeface="华文楷体"/>
              </a:rPr>
              <a:t>à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62120" y="3886200"/>
            <a:ext cx="57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t</a:t>
            </a:r>
            <a:r>
              <a:rPr b="1" lang="en-US" sz="3200" spc="-1" strike="noStrike">
                <a:solidFill>
                  <a:srgbClr val="c00000"/>
                </a:solidFill>
                <a:latin typeface="Franklin Gothic Medium"/>
                <a:ea typeface="华文楷体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438280" y="3886200"/>
            <a:ext cx="10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xi</a:t>
            </a:r>
            <a:r>
              <a:rPr b="1" lang="en-US" sz="3200" spc="-1" strike="noStrike">
                <a:solidFill>
                  <a:srgbClr val="c00000"/>
                </a:solidFill>
                <a:latin typeface="Franklin Gothic Medium"/>
                <a:ea typeface="华文楷体"/>
              </a:rPr>
              <a:t>à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  <a:ea typeface="华文楷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64296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5400" y="762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2096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2004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Black"/>
                <a:ea typeface="楷体_GB2312"/>
              </a:rPr>
              <a:t>      </a:t>
            </a:r>
            <a:r>
              <a:rPr b="1" lang="zh-CN" sz="5000" spc="-1" strike="noStrike">
                <a:solidFill>
                  <a:srgbClr val="000000"/>
                </a:solidFill>
                <a:latin typeface="Arial Black"/>
                <a:ea typeface="楷体_GB2312"/>
              </a:rPr>
              <a:t>使用了</a:t>
            </a:r>
            <a:r>
              <a:rPr b="1" lang="zh-CN" sz="5000" spc="-1" strike="noStrike">
                <a:solidFill>
                  <a:srgbClr val="ff0000"/>
                </a:solidFill>
                <a:latin typeface="Arial Black"/>
                <a:ea typeface="华文彩云"/>
              </a:rPr>
              <a:t>反复</a:t>
            </a:r>
            <a:r>
              <a:rPr b="1" lang="zh-CN" sz="5000" spc="-1" strike="noStrike">
                <a:solidFill>
                  <a:srgbClr val="000000"/>
                </a:solidFill>
                <a:latin typeface="Arial Black"/>
                <a:ea typeface="楷体_GB2312"/>
              </a:rPr>
              <a:t>的修辞方法，强调了</a:t>
            </a:r>
            <a:r>
              <a:rPr b="1" lang="zh-CN" sz="5000" spc="-1" strike="noStrike">
                <a:solidFill>
                  <a:srgbClr val="ff0000"/>
                </a:solidFill>
                <a:latin typeface="Arial Black"/>
                <a:ea typeface="华文彩云"/>
              </a:rPr>
              <a:t>生命的可贵</a:t>
            </a:r>
            <a:r>
              <a:rPr b="1" lang="zh-CN" sz="5000" spc="-1" strike="noStrike">
                <a:solidFill>
                  <a:srgbClr val="000000"/>
                </a:solidFill>
                <a:latin typeface="Arial Black"/>
                <a:ea typeface="楷体_GB2312"/>
              </a:rPr>
              <a:t>，表达了对生命</a:t>
            </a:r>
            <a:r>
              <a:rPr b="1" lang="zh-CN" sz="5000" spc="-1" strike="noStrike">
                <a:solidFill>
                  <a:srgbClr val="ff0000"/>
                </a:solidFill>
                <a:latin typeface="Arial Black"/>
                <a:ea typeface="华文彩云"/>
              </a:rPr>
              <a:t>强烈的呼唤</a:t>
            </a:r>
            <a:r>
              <a:rPr b="1" lang="zh-CN" sz="5000" spc="-1" strike="noStrike">
                <a:solidFill>
                  <a:srgbClr val="000000"/>
                </a:solidFill>
                <a:latin typeface="Arial Black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课题为什么要连用两个“生命”？去掉一个是不是更简洁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09:39:34Z</dcterms:created>
  <dc:creator>Administrator</dc:creator>
  <dc:description/>
  <dc:language>en-US</dc:language>
  <cp:lastModifiedBy/>
  <dcterms:modified xsi:type="dcterms:W3CDTF">2015-08-20T02:21:28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