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F2A-FF46-49B1-A3C1-81439881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4D8-298A-43B4-BE5A-36FD35A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F21-4AA6-4BDD-88C3-085301D0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22F-BA08-4758-9456-1CD5CFCF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38E-179C-476D-BE31-7EF9DC4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DF7-7D30-4C91-B89D-F7D0F9E6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62B-CBE1-4EF2-844F-CC8FFA92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C0F-6CDB-40C7-A863-118C958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7BF-B2F0-4AF9-B0C5-80267D28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10B-B3BB-4B57-BD51-79BE663C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4E6-EB5F-453C-BA4B-3A0BAF43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BA1-42D4-48FB-A025-068EE4A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F209-4815-4595-A24D-639086A4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-316440"/>
            <a:ext cx="8507520" cy="64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1"/>
          <p:cNvPicPr/>
          <p:nvPr/>
        </p:nvPicPr>
        <p:blipFill>
          <a:blip r:embed="rId1"/>
          <a:stretch/>
        </p:blipFill>
        <p:spPr>
          <a:xfrm>
            <a:off x="-252360" y="-2619360"/>
            <a:ext cx="10134720" cy="947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8250d55182a8787f1138c2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细读感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情的结果是怎样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想到，她的右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轻轻一转，杯盖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下子松了开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才”“竟”两字中你读懂了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55640" y="530064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同学们之前不敢挑战形成对比，也显示出了困难并不是想象中的那么艰难。原来拧杯盖是很不费力气的，结果出乎意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96720" y="1052280"/>
            <a:ext cx="9083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09"/>
          <p:cNvPicPr/>
          <p:nvPr/>
        </p:nvPicPr>
        <p:blipFill>
          <a:blip r:embed="rId1"/>
          <a:stretch/>
        </p:blipFill>
        <p:spPr>
          <a:xfrm>
            <a:off x="-485640" y="-781200"/>
            <a:ext cx="10115280" cy="84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a7e7d525cb9d16224d088d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看到同学们的不同表现，耿老师语重心长地说了哪些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想一想耿老师通这些话是要告诉我们什么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4360" y="4154040"/>
            <a:ext cx="784836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1908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学生在老师面前要有信心，要敢于超越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在攀登科学高峰的道路上要有自信心和勇气克服困难和险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要勇于迎接学习道路上的挑战，从小树立勇攀科学高峰的自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173842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是这位新班主任，令人敬佩的耿老师，用他刚劲有力的大字，用他的亲身经验告诉我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勇气和自信是你成功的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学们，在今后的学习中，在以后的人生道路上，让我们永远记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勇气和自信是你成功的朋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08"/>
          <p:cNvPicPr/>
          <p:nvPr/>
        </p:nvPicPr>
        <p:blipFill>
          <a:blip r:embed="rId1"/>
          <a:stretch/>
        </p:blipFill>
        <p:spPr>
          <a:xfrm>
            <a:off x="0" y="-1900080"/>
            <a:ext cx="10067760" cy="85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5c7b11a60677dfc2ce79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当耿老师写完这行遒劲有力的大字，教室里响起了热烈的掌声，掌声中有同学们的感悟，相信此时的你一定有更多更深的感受，请同学们结合生活中的具体事例，说说对它的体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124000" y="692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0390"/>
          <p:cNvPicPr/>
          <p:nvPr/>
        </p:nvPicPr>
        <p:blipFill>
          <a:blip r:embed="rId2"/>
          <a:stretch/>
        </p:blipFill>
        <p:spPr>
          <a:xfrm>
            <a:off x="250920" y="260280"/>
            <a:ext cx="1904760" cy="1285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26920" y="1341360"/>
            <a:ext cx="756144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插曲  麻痹  遒劲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嘀咕  惊愕  崎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耿老师  轻轻一转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58920" y="2708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484360" y="2349360"/>
            <a:ext cx="374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dí   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g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嘀  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124000" y="692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390"/>
          <p:cNvPicPr/>
          <p:nvPr/>
        </p:nvPicPr>
        <p:blipFill>
          <a:blip r:embed="rId2"/>
          <a:stretch/>
        </p:blipFill>
        <p:spPr>
          <a:xfrm>
            <a:off x="250920" y="260280"/>
            <a:ext cx="1904760" cy="1285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26920" y="1341360"/>
            <a:ext cx="756144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插曲  麻痹  遒劲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嘀咕  惊愕  崎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耿老师  轻轻一转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124000" y="692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华文隶书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0390"/>
          <p:cNvPicPr/>
          <p:nvPr/>
        </p:nvPicPr>
        <p:blipFill>
          <a:blip r:embed="rId2"/>
          <a:stretch/>
        </p:blipFill>
        <p:spPr>
          <a:xfrm>
            <a:off x="250920" y="260280"/>
            <a:ext cx="1904760" cy="1285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826920" y="1341360"/>
            <a:ext cx="756144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插曲  麻痹  遒劲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嘀咕  惊愕  崎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耿老师  轻轻一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93841359556856f99d8204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1500120" y="2720880"/>
            <a:ext cx="614376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谁敢试一试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264680" y="83664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轻轻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3635280" y="404640"/>
            <a:ext cx="146160" cy="2160720"/>
          </a:xfrm>
          <a:custGeom>
            <a:avLst/>
            <a:gdLst>
              <a:gd name="textAreaLeft" fmla="*/ 93600 w 146160"/>
              <a:gd name="textAreaRight" fmla="*/ 146520 w 1461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780000" y="189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ǎn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00720" y="458136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51280" y="2060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486900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1264680" y="83664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轻轻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635280" y="404640"/>
            <a:ext cx="146160" cy="2160720"/>
          </a:xfrm>
          <a:custGeom>
            <a:avLst/>
            <a:gdLst>
              <a:gd name="textAreaLeft" fmla="*/ 93600 w 146160"/>
              <a:gd name="textAreaRight" fmla="*/ 146520 w 1461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780000" y="189000"/>
            <a:ext cx="45370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ǎn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改变方向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、形势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00720" y="458136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851280" y="20606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àn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旋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着某物移动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971640" y="486900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1264680" y="83664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轻轻一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3635280" y="404640"/>
            <a:ext cx="146160" cy="2160720"/>
          </a:xfrm>
          <a:custGeom>
            <a:avLst/>
            <a:gdLst>
              <a:gd name="textAreaLeft" fmla="*/ 93600 w 146160"/>
              <a:gd name="textAreaRight" fmla="*/ 146520 w 1461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80000" y="189000"/>
            <a:ext cx="45370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ǎn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改变方向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、形势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500720" y="458136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80000" y="198900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àn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旋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着某物移动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71640" y="486900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没想到，她的右手才那么轻轻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杯盖儿竟一下子松了开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8dca91812a242f7167096ee8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feb68fdc79574a0b801a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课文，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想试一试？”是谁提出来的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主要写了一件什么事？你能用简洁的话说一说吗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55640" y="54936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课文主要写新来的班主任耿老师通过让学生拧开水杯盖的一件事，教育学生从小树立自信心，面对挑战要有勇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e286943535c42296d1a2d34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通过课文对耿老师外貌的描写，你认为耿老师有什么特点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39640" y="50101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耿老师不仅外貌给我们留下了深刻的印象，他的教学艺术更是独具特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240280" y="256536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个子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浓眉大眼    篮球运动员的气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ce73f212d5e39b02dc5401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默读课文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---1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自然段，画出耿老师三次提出问题后同学们的表现是怎样的？在读读画线部分，看这是对人物的什么描写？从中你感到了什么？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90560" y="3758040"/>
            <a:ext cx="83534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190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女生们纷纷扭头看男生；前几排的男生都把目光投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力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几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力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相互吐吐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教室里还是静悄悄的。同学们心里都在犯嘀咕：这新班主任的葫芦里到底卖的什么药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e73f212d5e39b02dc5401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默读课文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---1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自然段，画出耿老师三次提出问题后同学们的表现是怎样的？在读读画线部分，看这是对人物的什么描写？从中你感到了什么？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90560" y="3758040"/>
            <a:ext cx="83534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1908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女生们纷纷扭头看男生；前几排的男生都把目光投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力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几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力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相互吐吐舌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教室里还是静悄悄的。同学们心里都在犯嘀咕：这新班主任的葫芦里到底卖的什么药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2484360" y="3213000"/>
            <a:ext cx="5040360" cy="936720"/>
          </a:xfrm>
          <a:prstGeom prst="wedgeRoundRectCallout">
            <a:avLst>
              <a:gd name="adj1" fmla="val 61180"/>
              <a:gd name="adj2" fmla="val 606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表情描写：同学们的为难和不敢尝试的心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3059280" y="4581360"/>
            <a:ext cx="4681440" cy="1401840"/>
          </a:xfrm>
          <a:prstGeom prst="wedgeRectCallout">
            <a:avLst>
              <a:gd name="adj1" fmla="val -69736"/>
              <a:gd name="adj2" fmla="val 48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心理描写：同学们的猜测表现了同学们不敢大胆尝试，不敢向老师挑战、向困难挑战的心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教室里静悄悄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教室里还是静悄悄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个“静”字说明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0e82486644718805aa184c6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个子女生是怎样表现的？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小个子女生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起身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咬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嘴唇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猛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口气，用左手将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在怀中，右手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盖准备使劲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908000" y="41497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小个子女生是怎样的一个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2268360" y="4076640"/>
            <a:ext cx="5328000" cy="2521080"/>
          </a:xfrm>
          <a:prstGeom prst="cloudCallout">
            <a:avLst>
              <a:gd name="adj1" fmla="val 2861"/>
              <a:gd name="adj2" fmla="val -10554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动作描写：表现小个子女生要坚决战胜困难的勇气和信心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03:26:22Z</dcterms:created>
  <dc:creator>雨林木风</dc:creator>
  <dc:description/>
  <dc:language>en-US</dc:language>
  <cp:lastModifiedBy>dreamsummit</cp:lastModifiedBy>
  <dcterms:modified xsi:type="dcterms:W3CDTF">2015-04-29T06:43:41Z</dcterms:modified>
  <cp:revision>22</cp:revision>
  <dc:subject/>
  <dc:title>幻灯片 1</dc:title>
</cp:coreProperties>
</file>