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946-BD2E-41AF-B38B-D32700B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7C1-C2ED-4238-9F71-354F5DB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BBDE-15E9-4BE7-AB7D-7F6858A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B1F30-D5B4-4E5A-A472-859EDBF4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496EE-E46C-425D-B3A2-24D0AD4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E34A-4446-46BB-A214-BA35B1A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D43E2-0A09-472C-A8C6-45CBC06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BE4D1-C60E-42D5-8F69-FC6CEA0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69C5E-2EB5-4727-8BAC-4AB8021D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7D61-0817-4049-901D-7BFC6E03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1D145-FC75-4288-A153-BEDBAF7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1D893-8DAE-4127-AE56-0FA1F699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1BC-5484-4D22-B380-8D068914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0AA2-2ADF-41C6-AFA9-68FC2A0F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D07A-E0CC-4EDC-A589-0741AFE7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8FC56-957D-4378-B55C-1E297ABD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8CA00-650E-4802-8A72-481DD97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CCBA9-4867-47C1-931E-8081456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8BA58-FBC1-4958-992C-A789BCE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C948-49AD-4107-9FDA-CE17C3D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5EB67-DB8C-44C5-9EE3-FC89CF9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D462D-B21F-4A54-B386-00B682C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B0F1-BE56-457D-8EC1-02B87C18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63E-7894-444C-94D5-5C61037D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41155-79E8-4E18-844E-E6A49525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C0EFB-1BD6-43EE-80EC-2DD6D001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FBA63-BB8A-4899-9363-E5433886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095BA-1113-4E5B-9926-359C0FE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50A38-6E89-4A22-981C-9E99010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4CC8C-F655-4C8D-9126-25DEDD0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8BCAD-A335-43D9-9A15-2BCD949E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87B3-961C-401F-A2D8-7D8585F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1D84B-A481-4962-9186-A29F85C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88C68-6D88-46D6-BB5A-4D56408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C5E4-2DC9-4E2C-804B-C04AD400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DD8ED-A9AA-49A3-8270-A3B1C773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31C7-BA8F-4348-B8F1-50DAABCB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667BF-FEEC-4F8F-AF4A-60DF8CB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4A8B-D8A4-476F-902B-F22209C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37F12-EC1B-4B41-A463-3922812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E89AD-5FEB-48BB-B3AC-E846CBD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9AEE8-E5EE-4D43-9C5E-D8AEDCAB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7B35C-5D0E-47E8-92AA-9738220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AD7CE-822C-47DF-A910-9FB76442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FD62C-D8E1-4AD2-A26E-38E1D68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A85-8D3F-46E3-AEC8-333E891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56132-9889-4B85-8CCC-2D73D44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4CBB2-11A8-46B4-8EDF-42C3AEA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B94CE-701D-4867-962F-EA592461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42148-AF62-450F-B61C-B49C3602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FEFD1-6362-40DB-A874-E6E401A4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CCA0-D64A-4A0B-9C80-0290BDE9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CDFE-5C60-4A00-8153-86A341E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9552-A510-408D-AE90-7D0B8FF4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685E-163F-4B45-A11A-7208CF6F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281C-8D7C-4437-A6A8-A40D41F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F8F-E292-4AE3-9133-68A99764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F2A9-268A-4E53-AF8F-D7D8B6F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CF6D-3F6F-4342-991C-9692A9A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7587-4FB7-4670-A91A-4BF83A2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EDD-66FE-4784-B9FB-5ABDB29A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DE5-D67B-43F0-AFDB-5A886916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23D9-6EC1-4909-B190-B60989E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19B5-B67B-4EBB-B96F-54A24503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3012-0658-472D-AA0A-D8DF98F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2161-A901-4ED0-8BEC-2738899B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A567-23C0-41FB-8A10-D445EC15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6CE-F779-4D10-BAA2-C7B6D83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491B-01A8-45BB-879E-345F0D7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F0F1-6E1A-46CB-AC48-7A637BD4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4C75-CA23-4AF6-89F0-3EBD168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FF65-FFD6-4CFF-9F7E-16E4BF7E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F3D5-0E96-4550-8A9B-A23A061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32B3-1DC0-47F3-8E2D-9C039C42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9757-50F9-4ABE-9F50-6D182192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A9DB-6069-48F5-BFDD-0215DA49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7AB6-3A7A-49DC-92D5-7EB8696B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D77F-D551-49A6-B8F9-9873B6AD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28E-A5C8-4D70-83FD-A6104AF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CE4B-A3E9-4758-B9EC-9DFA8B7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FE4B-BF89-4B6B-8B27-53C26ED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5389-B8CA-45F2-BAC4-6C3A6028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37C9-BBDE-418F-9787-BF27C66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D217-0496-4DF0-BEA4-25D5EFF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6DFA-7312-4020-9334-09C0D20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E5E9-0B02-4D07-B895-B6281F88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29EE-6CB8-48C7-81CD-D85539D1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5030-131E-483E-A2E1-FE7DE795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AA51-B0D1-4E8F-ABC5-B97BA996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A20-0759-4076-9F7F-EE4B632A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46DD-5B13-474B-8C1A-7BECE7E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B75C-C9D3-4117-BBB5-08F2160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A483-B66D-44E9-8D3C-67BA026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B247-8925-4B05-B29C-5FFDB38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3B941-9DFD-4BC6-A539-FE3FE29F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9479B-C3F8-40C0-A7BF-E262FE4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BBF3-28E9-4C61-A37A-5203B61E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522E-8DDC-4147-8FDF-6789662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A4D4-899E-4B82-844B-1F8B071F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910E-825F-4CD9-BC71-F317713C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B2A-BCB9-42CF-9F55-B4E83831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A2A1-DCA1-48A0-8938-CB14160D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A100-CC09-4CCA-AD41-1A939B4A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4E61-577B-4BCC-A98F-F4BE835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ACBE-EE31-4460-B41A-E8FDFF4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A75B-BA63-4D8D-805F-7C85A2D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21E74-3B3C-4254-9486-97EC3DC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245DE-71AD-47CD-93C5-91A2A0B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FD07-36A0-4B92-9B33-0311DC68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076B-5280-4803-8649-A4CACD4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56FD-C7A9-4526-ADD3-4F31AE1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873-2902-4CF9-8584-37FAF0E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37C4-0A55-4651-805F-A0EBEEB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A0C93-3FDA-42A9-B32B-6BE3827A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9DDB-26FE-4A83-9091-1AA3A0D2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4510-6AF1-49A0-B311-C8CFD3C8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C5A7C-BD4A-49EA-952B-64CA821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2120E-AA38-4B37-8536-F0080D8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6A37-D0DC-43E8-971A-42FF466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EAAA-9FDC-4083-97FD-1616661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FDD7-E712-435B-85B1-CDA9FB3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3D3E-FE67-4395-9547-89DFB66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A6B-FBDE-4ECA-B082-3261377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383D-4020-4392-B8BF-A132362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A86D-D176-4CF7-BFF2-9A681DC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45F5-0592-4427-88D7-32D2A483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A4D7-CC3A-4CE9-B2D5-E443D1D5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BC83-7468-45FD-A4FD-2251504F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11C8-6E82-4272-97E1-3AE079A5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26F3-D1C8-4FF9-A466-DF51EDC2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6849-E5AB-4320-9C11-760C6B4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13EE3-A7F9-4D79-BFA8-82EC939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60F0-209F-4297-AC72-427A3AC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FC5-4537-44C6-A7EB-CED343E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DD8B-72B7-4D81-9C20-D6FB3E3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6772-F253-48A8-B682-C9AC85A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859A-CACE-4D22-842E-58ADFA7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DF47-1C55-4E8C-B9D2-C1C659D4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8C5E-8C4E-4EF3-B885-C474E17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E0135-63EB-4303-94C0-ABD80E3F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2E93-BE1A-495F-BD15-5095D7A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2A468-0DE4-43F1-B8C5-86E64E12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906E8-DCF3-42C0-91FE-3FB3489B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24BBC-6FBD-4E7C-83C0-991CECB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8FA2-2AE0-4E3D-A43B-E2C59CB26B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1ABA-4DF6-45B6-B206-5FC42F8EAA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07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11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6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217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221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0BB-5AE7-41D9-AF6D-C8C45D4B2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F83C-375F-4D1E-8102-A9D4860F4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B889-40FF-4FC0-8CFA-80F61EAF1B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ABB-550F-4EF6-ACFF-379441D73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0E27-9E79-4235-9835-C60C7120B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30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76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90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04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18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32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46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60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F69-1CFC-4CFE-AAD1-2317B462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1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32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975-8C9F-46AC-A305-087596D8D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82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3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33" name="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47" name=""/>
              <p:cNvSpPr/>
              <p:nvPr/>
            </p:nvSpPr>
            <p:spPr>
              <a:xfrm rot="6798600">
                <a:off x="97200" y="6161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6798600">
                <a:off x="51120" y="615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999400">
                <a:off x="330120" y="6163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5999400">
                <a:off x="287280" y="61714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5380200">
                <a:off x="574560" y="6139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380200">
                <a:off x="525960" y="61444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5583000">
                <a:off x="478080" y="6152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5737200">
                <a:off x="427320" y="616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4924800">
                <a:off x="722520" y="6106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3816600">
                <a:off x="1053000" y="5969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4104000">
                <a:off x="959040" y="60159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4324800">
                <a:off x="911520" y="60364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3367800">
                <a:off x="1224360" y="586980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707200">
                <a:off x="1389240" y="5753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8642600">
                <a:off x="1438920" y="39232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7961000">
                <a:off x="1249920" y="3848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7961000">
                <a:off x="1292760" y="3861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8085200">
                <a:off x="1328040" y="3872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8379200">
                <a:off x="1367640" y="3891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7261400">
                <a:off x="1029600" y="38012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7349600">
                <a:off x="1073520" y="38102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7349600">
                <a:off x="1121040" y="3818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7611200">
                <a:off x="1169280" y="3825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6737600">
                <a:off x="797400" y="379944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953000">
                <a:off x="89280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311000">
                <a:off x="662400" y="3814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434600">
                <a:off x="711720" y="3807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5680400">
                <a:off x="462240" y="3849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4223600">
                <a:off x="6840" y="4043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4431200">
                <a:off x="100440" y="39927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5142200">
                <a:off x="237240" y="39308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923200">
                <a:off x="1172160" y="378540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8411000">
                <a:off x="1378440" y="38552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8742800">
                <a:off x="980280" y="56347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FD2-D4B7-4CA7-8074-C6C8326E3A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2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25" name="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39" name=""/>
              <p:cNvSpPr/>
              <p:nvPr/>
            </p:nvSpPr>
            <p:spPr>
              <a:xfrm rot="6798600">
                <a:off x="97200" y="6161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6798600">
                <a:off x="51120" y="615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5999400">
                <a:off x="330120" y="6163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999400">
                <a:off x="287280" y="61714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380200">
                <a:off x="574560" y="6139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5380200">
                <a:off x="525960" y="61444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5583000">
                <a:off x="478080" y="6152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5737200">
                <a:off x="427320" y="616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924800">
                <a:off x="722520" y="6106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816600">
                <a:off x="1053000" y="5969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4104000">
                <a:off x="959040" y="60159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4324800">
                <a:off x="911520" y="60364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3367800">
                <a:off x="1224360" y="586980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707200">
                <a:off x="1389240" y="5753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8642600">
                <a:off x="1438920" y="39232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7961000">
                <a:off x="1249920" y="3848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7961000">
                <a:off x="1292760" y="3861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8085200">
                <a:off x="1328040" y="3872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8379200">
                <a:off x="1367640" y="3891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7261400">
                <a:off x="1029600" y="38012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7349600">
                <a:off x="1073520" y="38102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7349600">
                <a:off x="1121040" y="3818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7611200">
                <a:off x="1169280" y="3825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6737600">
                <a:off x="797400" y="379944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6953000">
                <a:off x="89280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6311000">
                <a:off x="662400" y="3814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434600">
                <a:off x="711720" y="3807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5680400">
                <a:off x="462240" y="3849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4223600">
                <a:off x="6840" y="4043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4431200">
                <a:off x="100440" y="39927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5142200">
                <a:off x="237240" y="39308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7923200">
                <a:off x="1172160" y="378540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8411000">
                <a:off x="1378440" y="38552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742800">
                <a:off x="980280" y="56347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BFC-6437-4249-A359-0A36FBA34D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458-42F2-46B9-92D0-FEC2A2B26A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153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154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156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规则：规定出来供大家共同遵守的制度或章程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3500"/>
            </a:br>
            <a:r>
              <a:rPr b="0" lang="zh-CN" sz="3500" spc="-1" strike="noStrike">
                <a:solidFill>
                  <a:srgbClr val="330066"/>
                </a:solidFill>
                <a:latin typeface="Arial"/>
              </a:rPr>
              <a:t>　　　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全班分小组选择喜欢的小节读一读，读后讨论：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这三节诗歌各写了什么规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33cc33"/>
                </a:solidFill>
                <a:latin typeface="Arial"/>
              </a:rPr>
              <a:t>请走天桥和地下通道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33cc33"/>
                </a:solidFill>
                <a:latin typeface="Arial"/>
              </a:rPr>
              <a:t>不准乱扔垃圾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33cc33"/>
                </a:solidFill>
                <a:latin typeface="Arial"/>
              </a:rPr>
              <a:t>请按顺序排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050920" y="404640"/>
            <a:ext cx="48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再读诗歌，领悟诗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主人公为什么不遵守规则？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别人也这样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这样方便快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没人看见是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用不着你管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99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799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99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99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回头一笑        满不在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不好意思        瞪起眼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55640" y="54936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要读好这小节该注意哪个词语？用怎样的语气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lang="zh-CN" sz="8000" spc="-1" strike="noStrike">
                <a:solidFill>
                  <a:srgbClr val="008080"/>
                </a:solidFill>
                <a:latin typeface="Tahoma"/>
              </a:rPr>
              <a:t>结合生活实际说</a:t>
            </a:r>
            <a:br>
              <a:rPr sz="8000"/>
            </a:br>
            <a:r>
              <a:rPr b="1" lang="zh-CN" sz="8000" spc="-1" strike="noStrike">
                <a:solidFill>
                  <a:srgbClr val="008080"/>
                </a:solidFill>
                <a:latin typeface="Tahoma"/>
              </a:rPr>
              <a:t>一说，生活中还有哪些规则必须自觉遵守呢？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</a:rPr>
              <a:t>说一说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遵守规则是一种美德！不遵守规则将给个人，他人和社会带来不安全的因素，造成社会不稳定和不和谐。这多不应该！现在，你想对这些不自觉遵守规则的人说些什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1"/>
          <a:srcRect l="48239" t="0" r="0" b="5096"/>
          <a:stretch/>
        </p:blipFill>
        <p:spPr>
          <a:xfrm>
            <a:off x="2629080" y="189000"/>
            <a:ext cx="48639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rcRect l="0" t="0" r="8098" b="15470"/>
          <a:stretch/>
        </p:blipFill>
        <p:spPr>
          <a:xfrm>
            <a:off x="396720" y="404640"/>
            <a:ext cx="840276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828720" y="476280"/>
            <a:ext cx="78469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1547640" y="1484280"/>
            <a:ext cx="6553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谁说没有规则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rcRect l="0" t="0" r="3752" b="16491"/>
          <a:stretch/>
        </p:blipFill>
        <p:spPr>
          <a:xfrm>
            <a:off x="108000" y="333360"/>
            <a:ext cx="88009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拓展学习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四人小组说一说：你发现校园里、大街上有哪些不守规则的不良现象？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根据观察到生活中的不良现象，依照诗歌仿写一段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rcRect l="0" t="0" r="225" b="12058"/>
          <a:stretch/>
        </p:blipFill>
        <p:spPr>
          <a:xfrm>
            <a:off x="34920" y="333360"/>
            <a:ext cx="912348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rcRect l="0" t="0" r="2085" b="15211"/>
          <a:stretch/>
        </p:blipFill>
        <p:spPr>
          <a:xfrm>
            <a:off x="108000" y="476280"/>
            <a:ext cx="89535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rcRect l="0" t="0" r="3751" b="15521"/>
          <a:stretch/>
        </p:blipFill>
        <p:spPr>
          <a:xfrm>
            <a:off x="324000" y="333360"/>
            <a:ext cx="88009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次，周恩来去北戴河，需要看世界地图和一些书籍 。工作人员给北戴河文化馆打电话，说有位领导要来看世界地图和其他一些书籍。接电话的小黄回答：“我们有规定，图书不外借，要看请自己来。”周恩来便冒雨到图书馆借书。小黄一见是周总理，心里很懊悔，总理和蔼地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无论谁都要遵守制度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95280" y="26028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aeaea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论谁都要遵守制度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Comic Sans MS"/>
              </a:rPr>
              <a:t>作业：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0" lang="zh-CN" sz="5400" spc="-1" strike="noStrike">
                <a:solidFill>
                  <a:srgbClr val="0000ff"/>
                </a:solidFill>
                <a:latin typeface="Comic Sans MS"/>
              </a:rPr>
              <a:t>背诵诗歌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0" lang="zh-CN" sz="5400" spc="-1" strike="noStrike">
                <a:solidFill>
                  <a:srgbClr val="0000ff"/>
                </a:solidFill>
                <a:latin typeface="Comic Sans MS"/>
              </a:rPr>
              <a:t>摘录有关规则的名言警句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学习目标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由读诗歌，用自己喜欢的方式读。可以小声地读，也可以默读。遇到生字词多读几遍，用喜欢的方式学会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出重点词语，体会对于违反规则的不良心态的准确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c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垃圾    喂食   狗熊    糖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饼干    快捷    明明白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满不在乎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                  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下列句子的句式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是小学生怎么能不遵守《小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守则》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反问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为什么没有提前告诉我原定的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划改变了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疑问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海底是否没有一点声音呢？不是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海底的动物常常窃窃私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设问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不准喂动物食品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你发现这句有什么特点？能读出什么感受呢？像这样的句子知道是什么句吗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7:59:08Z</dcterms:created>
  <dc:creator>Administrator</dc:creator>
  <dc:description/>
  <dc:language>en-US</dc:language>
  <cp:lastModifiedBy/>
  <dcterms:modified xsi:type="dcterms:W3CDTF">2015-08-11T02:04:4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