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370-A53C-4AD8-B598-188BE214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15E-F817-4323-BE97-14BB2494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17D-C4FF-4A07-BAB0-DBE4AD6F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164-996C-4D62-9DAD-D8076AA8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6AB-C405-42D8-BFD6-7C04B4FF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651-3805-4E4F-A0E7-4B8B1520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634-AA38-4ABF-A538-BB084CC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2ED-D9D2-441F-95EA-47D927B2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324-669A-48B1-869D-ACDB929A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2B0-D362-40DD-AE5A-FB6F9A16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829-D23E-4F89-9A2F-F2CC57A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64A-9248-4676-8077-A634E946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2C4-51D3-4891-B0A3-BFE8075EF2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762120" y="2743200"/>
            <a:ext cx="769608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说勤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750320" y="228600"/>
            <a:ext cx="525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桥梁      北宋       警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稍微      期末      习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远渡重洋     基础     社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10560" y="228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917160" y="228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463440" y="228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824760" y="1066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917160" y="1066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311160" y="1066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510560" y="1828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267080" y="18288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基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660360" y="1828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798560" y="3657600"/>
            <a:ext cx="531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资治通鉴》     毫不气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华罗庚    良训    勤能补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92360" y="1681200"/>
            <a:ext cx="338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新宋体"/>
              </a:rPr>
              <a:t>通往理想境界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新宋体"/>
              </a:rPr>
              <a:t>桥梁是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新宋体"/>
              </a:rPr>
              <a:t>是勤奋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14720" y="2590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桥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300040" y="41580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古今中外，每一个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者手中的鲜花，都是他们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汗水和心血浇灌出来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42920" y="2500200"/>
            <a:ext cx="41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鲜花”指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199760" y="3071880"/>
            <a:ext cx="38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汗水和心血”又指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04920" y="3733920"/>
            <a:ext cx="85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从古至今，从中国到国外，成功者的成功无一不是他们勤奋刻苦、孜孜以求的结果，勤奋是他们的成功之路，是他们取得成功的必不可少的因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司马光像"/>
          <p:cNvPicPr/>
          <p:nvPr/>
        </p:nvPicPr>
        <p:blipFill>
          <a:blip r:embed="rId1"/>
          <a:stretch/>
        </p:blipFill>
        <p:spPr>
          <a:xfrm>
            <a:off x="189000" y="55440"/>
            <a:ext cx="4554360" cy="5497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281240" y="55404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司马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童第周像"/>
          <p:cNvPicPr/>
          <p:nvPr/>
        </p:nvPicPr>
        <p:blipFill>
          <a:blip r:embed="rId2"/>
          <a:stretch/>
        </p:blipFill>
        <p:spPr>
          <a:xfrm>
            <a:off x="4681440" y="-19080"/>
            <a:ext cx="4353120" cy="5535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792760" y="55627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童第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司马光简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童第周简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>
            <a:hlinkClick r:id="rId1" action="ppaction://hlinksldjump"/>
          </p:cNvPr>
          <p:cNvSpPr/>
          <p:nvPr/>
        </p:nvSpPr>
        <p:spPr>
          <a:xfrm>
            <a:off x="2399760" y="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勤能补拙是良训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分辛苦一分才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8360" y="2133720"/>
            <a:ext cx="831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勤奋能使天资聪明的人成才，反之，也会流于平庸；勤奋也能使基础较差的人成为可用之才，不应自暴自弃。成功者的成功无一不是勤奋刻苦、孜孜以求的结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华罗庚简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8-18T09:18:23Z</dcterms:modified>
  <cp:revision>16</cp:revision>
  <dc:subject/>
  <dc:title>PowerPoint Presentation</dc:title>
</cp:coreProperties>
</file>