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chimes.wav" ContentType="audio/x-wav"/>
  <Override PartName="/ppt/media/image5.wmf" ContentType="image/x-wmf"/>
  <Override PartName="/ppt/media/image1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4E8-604F-4157-A94F-F29C5780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6AE-02E1-47F9-86DA-EE999171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D63-DB16-4A23-ABCD-94E3E03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961-8131-4026-90F5-34BAE6B7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EB02-93E7-4BC6-91FF-FAEB95F7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4D5A-EF65-454D-8199-9DBD7C9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CC7-3248-43B0-B3F3-0D60C8D6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324-82A8-460F-863A-F32BB38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023-D917-4752-9D03-F9E2C5A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8640" y="275760"/>
            <a:ext cx="82281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BB0-C63A-4384-8CA4-B76D3091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C28-C88C-4393-AC62-1E72385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DB8-25F5-48EE-8D2E-7916A5B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420-3A63-4ED4-8331-ECE2722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F075-3D60-4EA1-9C8E-C904AFD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6011-32F2-4608-80B6-C4D20D9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6337-6F15-49A0-AC81-55BD2DC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80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80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22F-7DB8-4AC6-9CFB-1335C918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C43C-6565-47A9-8FD8-9C88DD0A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B45A-758A-4996-BCEA-DA7ADCC0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14DB-77F2-4640-A502-F46964A2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E400-21D3-4BCA-A9F9-9A9256C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9BE2-59C8-4772-AC28-FE2AAAA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046-FF79-4B2A-B4C5-EAF1D3C7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8640" y="275760"/>
            <a:ext cx="82281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84E1-C37E-45CE-8717-9F3958A8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6A26-30AD-4F7A-9CE7-0AE61D4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BC406-506E-46C8-8CED-2EDE5B7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B14E-A132-43EE-A723-E9954F9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A2BF-F8EB-407F-9FB3-7BB22F61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37F2-7F39-4819-BCC2-8078FFBE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80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864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80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54AE-A792-4DA3-A656-9DB604F5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9403-1CB0-4DD2-B0F0-85F69C56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604C-34A8-4EA1-857A-E404D4AB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F35F3-F985-4E0B-8918-1B41A04B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2B4-747D-4DF9-941A-45448D10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E30F-42E9-4902-9797-4DAF7EF7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FC05-F6A0-4EDF-9C1E-FC6BF2CD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8640" y="275760"/>
            <a:ext cx="82281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A58C-C03A-492F-BA4E-F020CE67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4984-B288-4A62-9060-9E3E632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28CA-BA27-45AA-B596-4521CB0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E4AD-3F1D-4030-A5F3-3378B9B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1EEF-3A96-4D4E-A492-C2B3B27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7C84-3D09-48B6-B384-2673E45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800" y="130464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864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800" y="3902400"/>
            <a:ext cx="264924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D243-2F82-4537-9CD0-DEF29110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F5D-6BDD-4AD0-A2C3-E3EC954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5760"/>
            <a:ext cx="82281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E7C-224C-4C5F-8D2C-767E7CB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C10-65E8-4878-AC50-6072115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0240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A3E-DF02-4B4B-9619-78EEF609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304640"/>
            <a:ext cx="401508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02400"/>
            <a:ext cx="8228160" cy="237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B48-1F6F-4F70-A69E-CC2ABD2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marL="241200" indent="-241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4000" indent="3204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18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66960" indent="-32256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7C6B-EE2E-482B-93E7-18A7883813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marL="241200" indent="-241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4000" indent="3204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18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66960" indent="-32256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828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88DF-C925-4096-889E-C12BF3BC98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marL="241200" indent="-241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4000" indent="3204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18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66960" indent="-32256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828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CF90-0CF0-49B6-B482-6EDB5DB4183C}" type="datetime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B7C0-DF9F-495A-9FF1-E4A18BAB3E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8640" y="1304640"/>
            <a:ext cx="8228160" cy="49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marL="241200" indent="-241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4000" indent="3204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18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66960" indent="-32256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–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290600" indent="-646200">
              <a:lnSpc>
                <a:spcPct val="12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»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828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B2E-A149-45ED-AE84-6FC4200EA448}" type="datetime"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96120"/>
            <a:ext cx="2133720" cy="3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4D8-564A-4599-999C-180E26E0A890}" type="slidenum"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4%BA%B5%C4&#892;&#428;&amp;in=13328&amp;cl=2&amp;lm=-1&amp;pn=2&amp;rn=1&amp;di=13545973083&amp;ln=1&amp;fr=ala1&amp;ic=0&amp;s=&amp;se=&amp;sme=0&amp;tab=&amp;width=&amp;height=&amp;face=0&amp;fb=0" TargetMode="External"/><Relationship Id="rId2" Type="http://schemas.openxmlformats.org/officeDocument/2006/relationships/hyperlink" Target="http://image.baidu.com/i?ct=503316480&amp;z=0&amp;tn=baiduimagedetail&amp;word=%B4%BA%B5%C4&#892;&#428;&amp;in=13328&amp;cl=2&amp;lm=-1&amp;pn=2&amp;rn=1&amp;di=13545973083&amp;ln=1&amp;fr=ala1&amp;ic=0&amp;s=&amp;se=&amp;sme=0&amp;tab=&amp;width=&amp;height=&amp;face=0&amp;fb=0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121" descr="3a4bd511f0afcf1e213f2e9e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122"/>
          <p:cNvSpPr/>
          <p:nvPr/>
        </p:nvSpPr>
        <p:spPr>
          <a:xfrm>
            <a:off x="0" y="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语文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版四年级语文上册第二单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123"/>
          <p:cNvSpPr txBox="1"/>
          <p:nvPr/>
        </p:nvSpPr>
        <p:spPr>
          <a:xfrm>
            <a:off x="3276720" y="1989000"/>
            <a:ext cx="409572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8*</a:t>
            </a: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四季童话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矩形 5124"/>
          <p:cNvSpPr/>
          <p:nvPr/>
        </p:nvSpPr>
        <p:spPr>
          <a:xfrm>
            <a:off x="0" y="13716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4338" descr="u=1297394979,1229824019&amp;fm=15&amp;gp=0"/>
          <p:cNvPicPr/>
          <p:nvPr/>
        </p:nvPicPr>
        <p:blipFill>
          <a:blip r:embed="rId2"/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339" descr="u=2077828421,1391039206&amp;fm=15&amp;gp=0"/>
          <p:cNvPicPr/>
          <p:nvPr/>
        </p:nvPicPr>
        <p:blipFill>
          <a:blip r:embed="rId3"/>
          <a:stretch/>
        </p:blipFill>
        <p:spPr>
          <a:xfrm>
            <a:off x="4572000" y="3156120"/>
            <a:ext cx="4753080" cy="37018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4340" descr="u=2205146247,1023348220&amp;fm=15&amp;gp=0"/>
          <p:cNvPicPr/>
          <p:nvPr/>
        </p:nvPicPr>
        <p:blipFill>
          <a:blip r:embed="rId4"/>
          <a:stretch/>
        </p:blipFill>
        <p:spPr>
          <a:xfrm>
            <a:off x="4643280" y="0"/>
            <a:ext cx="441036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矩形 14341"/>
          <p:cNvSpPr txBox="1"/>
          <p:nvPr/>
        </p:nvSpPr>
        <p:spPr>
          <a:xfrm>
            <a:off x="3780000" y="2708280"/>
            <a:ext cx="190476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秋</a:t>
            </a:r>
            <a:endParaRPr b="0" lang="en-US" sz="9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5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5361" descr="05843523e007d6bb4723e865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5362"/>
          <p:cNvSpPr/>
          <p:nvPr/>
        </p:nvSpPr>
        <p:spPr>
          <a:xfrm>
            <a:off x="646128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5363"/>
          <p:cNvSpPr/>
          <p:nvPr/>
        </p:nvSpPr>
        <p:spPr>
          <a:xfrm>
            <a:off x="1979640" y="62064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冬哥哥用雪来干什么？冬天只有白色吗？找出文中的一个排比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文本框 15364"/>
          <p:cNvSpPr/>
          <p:nvPr/>
        </p:nvSpPr>
        <p:spPr>
          <a:xfrm>
            <a:off x="2843280" y="2205000"/>
            <a:ext cx="59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矩形 15365"/>
          <p:cNvSpPr/>
          <p:nvPr/>
        </p:nvSpPr>
        <p:spPr>
          <a:xfrm>
            <a:off x="4935600" y="2060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冬哥哥在用雪作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矩形 15366"/>
          <p:cNvSpPr/>
          <p:nvPr/>
        </p:nvSpPr>
        <p:spPr>
          <a:xfrm>
            <a:off x="3203640" y="278136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雪花，纷纷扬扬地撒下。撒的很轻柔，很恬静，很均匀，很有层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16385" descr="u=917205656,1682675024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435600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386" descr="u=4152708187,4056380181&amp;fm=2&amp;gp=0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2338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6387" descr="u=1992632482,1736106451&amp;fm=3&amp;gp=0"/>
          <p:cNvPicPr/>
          <p:nvPr/>
        </p:nvPicPr>
        <p:blipFill>
          <a:blip r:embed="rId3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6388" descr="u=2648601385,411339448&amp;fm=3&amp;gp=0"/>
          <p:cNvPicPr/>
          <p:nvPr/>
        </p:nvPicPr>
        <p:blipFill>
          <a:blip r:embed="rId4"/>
          <a:stretch/>
        </p:blipFill>
        <p:spPr>
          <a:xfrm>
            <a:off x="4319640" y="3213000"/>
            <a:ext cx="4824360" cy="3645000"/>
          </a:xfrm>
          <a:prstGeom prst="rect">
            <a:avLst/>
          </a:prstGeom>
          <a:ln w="0">
            <a:noFill/>
          </a:ln>
        </p:spPr>
      </p:pic>
      <p:sp>
        <p:nvSpPr>
          <p:cNvPr id="247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7409" descr="冬天2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7410" descr="冬天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50" name="矩形 17411"/>
          <p:cNvSpPr txBox="1"/>
          <p:nvPr/>
        </p:nvSpPr>
        <p:spPr>
          <a:xfrm>
            <a:off x="4932360" y="2565360"/>
            <a:ext cx="11430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00ffff"/>
                </a:solidFill>
                <a:latin typeface="宋体"/>
              </a:rPr>
              <a:t>冬</a:t>
            </a:r>
            <a:endParaRPr b="0" lang="en-US" sz="6000" spc="-1" strike="noStrike">
              <a:ln w="0">
                <a:noFill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pic>
        <p:nvPicPr>
          <p:cNvPr id="251" name="图片 17412" descr="四季的脚步-冬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7413" descr="f58bb3c5c40db5b68226ac98"/>
          <p:cNvPicPr/>
          <p:nvPr/>
        </p:nvPicPr>
        <p:blipFill>
          <a:blip r:embed="rId4">
            <a:lum contrast="-8000"/>
          </a:blip>
          <a:stretch/>
        </p:blipFill>
        <p:spPr>
          <a:xfrm>
            <a:off x="0" y="0"/>
            <a:ext cx="4572000" cy="3432240"/>
          </a:xfrm>
          <a:prstGeom prst="rect">
            <a:avLst/>
          </a:prstGeom>
          <a:ln w="0">
            <a:noFill/>
          </a:ln>
        </p:spPr>
      </p:pic>
      <p:sp>
        <p:nvSpPr>
          <p:cNvPr id="253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8640" y="1305000"/>
            <a:ext cx="8228160" cy="48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图片 18435" descr="8f85273f54443f2271cf6c64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7" name="矩形 18436"/>
          <p:cNvSpPr/>
          <p:nvPr/>
        </p:nvSpPr>
        <p:spPr>
          <a:xfrm>
            <a:off x="2195640" y="549360"/>
            <a:ext cx="65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一首介绍春、夏、秋、冬四个季节变化的诗歌。它以拟人的写法，抓住四季的特点，生动地描绘了迷人的四季景色。四季给我们带来了这么多美丽的景象，你们喜欢四季吗？你想对他们说些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18437"/>
          <p:cNvSpPr/>
          <p:nvPr/>
        </p:nvSpPr>
        <p:spPr>
          <a:xfrm>
            <a:off x="533520" y="1522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6145" descr="4a6669ac22a180164a36d666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6146"/>
          <p:cNvSpPr/>
          <p:nvPr/>
        </p:nvSpPr>
        <p:spPr>
          <a:xfrm>
            <a:off x="1710000" y="476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eb400"/>
                </a:solidFill>
                <a:latin typeface="Times New Roman"/>
                <a:ea typeface="华文新魏"/>
              </a:rPr>
              <a:t>读读下列生字和词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6147"/>
          <p:cNvSpPr/>
          <p:nvPr/>
        </p:nvSpPr>
        <p:spPr>
          <a:xfrm>
            <a:off x="971640" y="1197000"/>
            <a:ext cx="4968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z</a:t>
            </a:r>
            <a:r>
              <a:rPr b="1" lang="en-US" sz="3200" spc="-1" strike="noStrike">
                <a:solidFill>
                  <a:srgbClr val="deb400"/>
                </a:solidFill>
                <a:latin typeface="Times New Roman"/>
              </a:rPr>
              <a:t>ǎ</a:t>
            </a:r>
            <a:r>
              <a:rPr b="1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o  k</a:t>
            </a:r>
            <a:r>
              <a:rPr b="1" lang="en-US" sz="3200" spc="-1" strike="noStrike">
                <a:solidFill>
                  <a:srgbClr val="deb400"/>
                </a:solidFill>
                <a:latin typeface="Times New Roman"/>
              </a:rPr>
              <a:t>ǎ</a:t>
            </a:r>
            <a:r>
              <a:rPr b="1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o  h</a:t>
            </a:r>
            <a:r>
              <a:rPr b="1" lang="en-US" sz="3200" spc="-1" strike="noStrike">
                <a:solidFill>
                  <a:srgbClr val="deb400"/>
                </a:solidFill>
                <a:latin typeface="Times New Roman"/>
              </a:rPr>
              <a:t>ō</a:t>
            </a:r>
            <a:r>
              <a:rPr b="1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ng ji</a:t>
            </a:r>
            <a:r>
              <a:rPr b="1" lang="en-US" sz="3200" spc="-1" strike="noStrike">
                <a:solidFill>
                  <a:srgbClr val="deb400"/>
                </a:solidFill>
                <a:latin typeface="Times New Roman"/>
              </a:rPr>
              <a:t>ā</a:t>
            </a:r>
            <a:r>
              <a:rPr b="1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澡    烤    烘    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ch</a:t>
            </a:r>
            <a:r>
              <a:rPr b="0" lang="en-US" sz="3200" spc="-1" strike="noStrike">
                <a:solidFill>
                  <a:srgbClr val="deb400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ng   j</a:t>
            </a:r>
            <a:r>
              <a:rPr b="0" lang="en-US" sz="3200" spc="-1" strike="noStrike">
                <a:solidFill>
                  <a:srgbClr val="deb400"/>
                </a:solidFill>
                <a:latin typeface="Times New Roman"/>
              </a:rPr>
              <a:t>ū</a:t>
            </a:r>
            <a:r>
              <a:rPr b="0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n  y</a:t>
            </a:r>
            <a:r>
              <a:rPr b="0" lang="en-US" sz="3200" spc="-1" strike="noStrike">
                <a:solidFill>
                  <a:srgbClr val="deb400"/>
                </a:solidFill>
                <a:latin typeface="Times New Roman"/>
              </a:rPr>
              <a:t>ū</a:t>
            </a:r>
            <a:r>
              <a:rPr b="0" lang="en-US" sz="3200" spc="-1" strike="noStrike">
                <a:solidFill>
                  <a:srgbClr val="deb400"/>
                </a:solidFill>
                <a:latin typeface="黑体"/>
                <a:ea typeface="黑体"/>
              </a:rPr>
              <a:t>n</a:t>
            </a:r>
            <a:r>
              <a:rPr b="0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橙       均   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文本框 6148"/>
          <p:cNvSpPr/>
          <p:nvPr/>
        </p:nvSpPr>
        <p:spPr>
          <a:xfrm>
            <a:off x="971640" y="3429000"/>
            <a:ext cx="56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喷香     彩霞    清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撇嘴     滴嗒    叮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漂漂亮亮   纷纷扬扬   家家户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色彩斑斓   活泼可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图片 6149" descr="读一读"/>
          <p:cNvPicPr/>
          <p:nvPr/>
        </p:nvPicPr>
        <p:blipFill>
          <a:blip r:embed="rId2"/>
          <a:stretch/>
        </p:blipFill>
        <p:spPr>
          <a:xfrm>
            <a:off x="7108920" y="0"/>
            <a:ext cx="2035080" cy="2421000"/>
          </a:xfrm>
          <a:prstGeom prst="rect">
            <a:avLst/>
          </a:prstGeom>
          <a:ln w="0">
            <a:noFill/>
          </a:ln>
        </p:spPr>
      </p:pic>
      <p:sp>
        <p:nvSpPr>
          <p:cNvPr id="174" name="矩形 6150"/>
          <p:cNvSpPr/>
          <p:nvPr/>
        </p:nvSpPr>
        <p:spPr>
          <a:xfrm>
            <a:off x="3276720" y="2276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8640" y="1305000"/>
            <a:ext cx="8228160" cy="48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图片 7171" descr="8f85273f54413f2270cf6c9f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79" name="矩形 7172"/>
          <p:cNvSpPr/>
          <p:nvPr/>
        </p:nvSpPr>
        <p:spPr>
          <a:xfrm>
            <a:off x="2194560" y="691920"/>
            <a:ext cx="40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读课文，借助注音读准生字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童话中四季的主人公是谁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7173"/>
          <p:cNvSpPr txBox="1"/>
          <p:nvPr/>
        </p:nvSpPr>
        <p:spPr>
          <a:xfrm>
            <a:off x="1547640" y="2060640"/>
            <a:ext cx="17146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春姑娘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矩形 7174"/>
          <p:cNvSpPr txBox="1"/>
          <p:nvPr/>
        </p:nvSpPr>
        <p:spPr>
          <a:xfrm>
            <a:off x="4356000" y="2133720"/>
            <a:ext cx="230364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夏娃娃</a:t>
            </a:r>
            <a:endParaRPr b="1" lang="en-US" sz="4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矩形 7175"/>
          <p:cNvSpPr txBox="1"/>
          <p:nvPr/>
        </p:nvSpPr>
        <p:spPr>
          <a:xfrm>
            <a:off x="1619280" y="3573360"/>
            <a:ext cx="171432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秋姐姐</a:t>
            </a:r>
            <a:endParaRPr b="1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矩形 7176"/>
          <p:cNvSpPr txBox="1"/>
          <p:nvPr/>
        </p:nvSpPr>
        <p:spPr>
          <a:xfrm>
            <a:off x="4788000" y="3500280"/>
            <a:ext cx="17143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冬哥哥</a:t>
            </a:r>
            <a:endParaRPr b="0" lang="en-US" sz="4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8160" cy="84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ctr">
            <a:noAutofit/>
          </a:bodyPr>
          <a:p>
            <a:pPr indent="0"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8640" y="1305000"/>
            <a:ext cx="8228160" cy="48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25200" bIns="25200" anchor="t">
            <a:normAutofit/>
          </a:bodyPr>
          <a:p>
            <a:pPr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图片 8195" descr="09d878a5f764ffe89052ee9f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196" descr="细读感悟"/>
          <p:cNvPicPr/>
          <p:nvPr/>
        </p:nvPicPr>
        <p:blipFill>
          <a:blip r:embed="rId2"/>
          <a:stretch/>
        </p:blipFill>
        <p:spPr>
          <a:xfrm>
            <a:off x="324000" y="0"/>
            <a:ext cx="3456000" cy="895320"/>
          </a:xfrm>
          <a:prstGeom prst="rect">
            <a:avLst/>
          </a:prstGeom>
          <a:ln w="0">
            <a:noFill/>
          </a:ln>
        </p:spPr>
      </p:pic>
      <p:sp>
        <p:nvSpPr>
          <p:cNvPr id="189" name="矩形 8197"/>
          <p:cNvSpPr txBox="1"/>
          <p:nvPr/>
        </p:nvSpPr>
        <p:spPr>
          <a:xfrm>
            <a:off x="3924360" y="40464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我是童话故事里的人物！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文本框 8198"/>
          <p:cNvSpPr/>
          <p:nvPr/>
        </p:nvSpPr>
        <p:spPr>
          <a:xfrm>
            <a:off x="826920" y="981000"/>
            <a:ext cx="84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春姑娘爱做些什么事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春天里还写了哪些有生命的事物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文本框 8199"/>
          <p:cNvSpPr/>
          <p:nvPr/>
        </p:nvSpPr>
        <p:spPr>
          <a:xfrm>
            <a:off x="755640" y="249228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夏娃娃是一个什么样的孩子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在哪些方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文本框 8200"/>
          <p:cNvSpPr/>
          <p:nvPr/>
        </p:nvSpPr>
        <p:spPr>
          <a:xfrm>
            <a:off x="826920" y="400536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秋姐姐最喜欢干什么？她摘了哪些果子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来干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文本框 8201"/>
          <p:cNvSpPr/>
          <p:nvPr/>
        </p:nvSpPr>
        <p:spPr>
          <a:xfrm>
            <a:off x="826920" y="5229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冬哥哥用雪来干什么？找出文中的一个排比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9217" descr="97d1f54ab25485ef82025c9e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矩形 9218"/>
          <p:cNvSpPr/>
          <p:nvPr/>
        </p:nvSpPr>
        <p:spPr>
          <a:xfrm>
            <a:off x="3059280" y="4762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春姑娘爱做些什么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文本框 9219"/>
          <p:cNvSpPr/>
          <p:nvPr/>
        </p:nvSpPr>
        <p:spPr>
          <a:xfrm>
            <a:off x="2124000" y="105264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春姑娘爱笑、爱哭、爱唱歌、爱跳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文本框 9220"/>
          <p:cNvSpPr/>
          <p:nvPr/>
        </p:nvSpPr>
        <p:spPr>
          <a:xfrm>
            <a:off x="2771640" y="206064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矩形 9221"/>
          <p:cNvSpPr/>
          <p:nvPr/>
        </p:nvSpPr>
        <p:spPr>
          <a:xfrm>
            <a:off x="4119840" y="1773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春天里还写了哪些事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文本框 9222"/>
          <p:cNvSpPr/>
          <p:nvPr/>
        </p:nvSpPr>
        <p:spPr>
          <a:xfrm>
            <a:off x="2556000" y="2565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小燕子、小溪流、小草、鲜花、柳树、小蜜蜂、风筝、笋芽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0241">
            <a:hlinkClick r:id="rId1"/>
          </p:cNvPr>
          <p:cNvSpPr/>
          <p:nvPr/>
        </p:nvSpPr>
        <p:spPr>
          <a:xfrm>
            <a:off x="763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矩形 10242">
            <a:hlinkClick r:id="rId2"/>
          </p:cNvPr>
          <p:cNvSpPr/>
          <p:nvPr/>
        </p:nvSpPr>
        <p:spPr>
          <a:xfrm>
            <a:off x="763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图片 10243" descr="u=269182289,826565404&amp;fm=3&amp;gp=0"/>
          <p:cNvPicPr/>
          <p:nvPr/>
        </p:nvPicPr>
        <p:blipFill>
          <a:blip r:embed="rId3"/>
          <a:stretch/>
        </p:blipFill>
        <p:spPr>
          <a:xfrm>
            <a:off x="0" y="0"/>
            <a:ext cx="4427640" cy="35733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244" descr="u=2443472526,3157749722&amp;fm=3&amp;gp=0"/>
          <p:cNvPicPr/>
          <p:nvPr/>
        </p:nvPicPr>
        <p:blipFill>
          <a:blip r:embed="rId4"/>
          <a:stretch/>
        </p:blipFill>
        <p:spPr>
          <a:xfrm>
            <a:off x="4427640" y="3449520"/>
            <a:ext cx="4716360" cy="34084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245" descr="u=1245598665,3391754151&amp;fm=3&amp;gp=0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246" descr="u=3756436102,1718458749&amp;fm=3&amp;gp=0"/>
          <p:cNvPicPr/>
          <p:nvPr/>
        </p:nvPicPr>
        <p:blipFill>
          <a:blip r:embed="rId6"/>
          <a:stretch/>
        </p:blipFill>
        <p:spPr>
          <a:xfrm>
            <a:off x="0" y="357336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208" name="矩形 10247"/>
          <p:cNvSpPr txBox="1"/>
          <p:nvPr/>
        </p:nvSpPr>
        <p:spPr>
          <a:xfrm>
            <a:off x="3419640" y="2852640"/>
            <a:ext cx="178272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春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1265" descr="97d1f54ab25485ef82025c9e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11" name="矩形 11266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5433840" cy="2624400"/>
          </a:xfrm>
          <a:prstGeom prst="rect">
            <a:avLst/>
          </a:prstGeom>
          <a:ln w="0">
            <a:noFill/>
          </a:ln>
        </p:spPr>
      </p:pic>
      <p:sp>
        <p:nvSpPr>
          <p:cNvPr id="212" name="矩形 11267"/>
          <p:cNvSpPr/>
          <p:nvPr/>
        </p:nvSpPr>
        <p:spPr>
          <a:xfrm>
            <a:off x="3059280" y="981000"/>
            <a:ext cx="54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夏娃娃是一个什么样的孩子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现在哪些方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2289" descr="u=1748713312,4184762623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4572000" cy="34592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2290" descr="u=2673255936,3148328144&amp;fm=3&amp;gp=0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2291" descr="u=2206324695,1804848709&amp;fm=3&amp;gp=0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2292" descr="u=2982008385,2989634486&amp;fm=3&amp;gp=0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18" name="矩形 12293"/>
          <p:cNvSpPr txBox="1"/>
          <p:nvPr/>
        </p:nvSpPr>
        <p:spPr>
          <a:xfrm>
            <a:off x="3851280" y="2924280"/>
            <a:ext cx="146052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夏</a:t>
            </a:r>
            <a:endParaRPr b="0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3313" descr="11be49de36a07c0c62279864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3314"/>
          <p:cNvSpPr/>
          <p:nvPr/>
        </p:nvSpPr>
        <p:spPr>
          <a:xfrm>
            <a:off x="40989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文本框 13315"/>
          <p:cNvSpPr/>
          <p:nvPr/>
        </p:nvSpPr>
        <p:spPr>
          <a:xfrm>
            <a:off x="212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13316"/>
          <p:cNvSpPr/>
          <p:nvPr/>
        </p:nvSpPr>
        <p:spPr>
          <a:xfrm>
            <a:off x="8290080" y="45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图片 13317" descr="小蜜蜂"/>
          <p:cNvPicPr/>
          <p:nvPr/>
        </p:nvPicPr>
        <p:blipFill>
          <a:blip r:embed="rId2"/>
          <a:stretch/>
        </p:blipFill>
        <p:spPr>
          <a:xfrm>
            <a:off x="6300720" y="404640"/>
            <a:ext cx="2219400" cy="232416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13318"/>
          <p:cNvSpPr/>
          <p:nvPr/>
        </p:nvSpPr>
        <p:spPr>
          <a:xfrm>
            <a:off x="2916360" y="443700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秋姐姐最喜欢吃果子。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矩形 13319"/>
          <p:cNvSpPr/>
          <p:nvPr/>
        </p:nvSpPr>
        <p:spPr>
          <a:xfrm>
            <a:off x="1763640" y="40464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秋姐姐最喜欢干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摘了哪些果子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来干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文本框 13320"/>
          <p:cNvSpPr/>
          <p:nvPr/>
        </p:nvSpPr>
        <p:spPr>
          <a:xfrm>
            <a:off x="1763640" y="50133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苹果、葡萄、香蕉、甜橙、梨子、菠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13321"/>
          <p:cNvSpPr/>
          <p:nvPr/>
        </p:nvSpPr>
        <p:spPr>
          <a:xfrm>
            <a:off x="2556000" y="5805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用水果做月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页脚占位符 1"/>
          <p:cNvSpPr/>
          <p:nvPr/>
        </p:nvSpPr>
        <p:spPr>
          <a:xfrm>
            <a:off x="3124080" y="6396120"/>
            <a:ext cx="2895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4T22:14:10Z</dcterms:created>
  <dc:creator/>
  <dc:description/>
  <dc:language>en-US</dc:language>
  <cp:lastModifiedBy>Administrator</cp:lastModifiedBy>
  <dcterms:modified xsi:type="dcterms:W3CDTF">2016-07-14T22:16:0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