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4DC-F2ED-494F-9EB4-6065FAE7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65D-3F78-40B8-A2B9-313E88A1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781-AA5E-4377-8249-8B9257CC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FA4-19AD-4A41-A516-6247E17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970-D51F-4185-B281-F819502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71C-85C6-4D25-A8F1-B0F2BFF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F41-793B-4B14-A1D9-6104CB4C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447-3141-4B8B-8FBA-EB3ED3F7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355-B768-4FA8-A42D-331AE866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1C8-B183-4BE3-8361-C11E18F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6CC-3379-4630-AE92-EAE292C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1F9-2A79-4F13-A996-9FAEB01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E0E-A7EB-4543-BC12-2D86DB1C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天安门广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拓展训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当节日来临，天安门穿上了盛装，如同一幅美不胜收的画。如果你是小画家，你会画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鲜花    彩灯    礼花    人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386480" cy="576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领袖     旭日     中央     雕梁画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宣告     辉煌     仪式     雄伟壮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曙光     政府     庄严     五彩缤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晨曦     沸腾     映衬     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外挺拔     遥遥相对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尽收眼底     博物馆         蟠龙花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巍峨壮丽     纪念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碑身正面是毛泽东主席题写的“人民英雄永垂不朽”八个金光闪闪的大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西两侧，中国国家博物馆与巍峨壮丽的人民大会堂遥遥相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思考：天安门广场到底有哪些雄伟的建筑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民英雄纪念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毛主席纪念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中国国家博物馆、人民大会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你从哪些地方看出它雄伟壮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雕梁画栋   汉白玉   华表   蟠龙花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外挺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每个自然段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天安门广场的地理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天安门建筑的相对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天安门的象征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五星红旗与旭日一同升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节日里的天安门广场更加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63520" y="691920"/>
            <a:ext cx="73864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词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广       宽大       宽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车在（   ）的公路上穿梭往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的会议室里，整整齐齐地排列着四百张椅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的田野一望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386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安门广场位于（），它是（）的城市广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第四自然段应该怎么读？用什么样的语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庄严       自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思考：天安门美在哪里？画出相关句子，自己品味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天安门广场这么美好的景象，这么热闹的场面，同学们你的心里又有什么样的感觉？应该用怎样的语气来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386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往”、“象征”各是什么意思？为什么全国各族人民无比向往天安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向往：因为热爱而希望达到或得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天安门是中国的象征？（用“因为…所以…”练习说话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35:37Z</dcterms:created>
  <dc:creator>Administrator</dc:creator>
  <dc:description/>
  <dc:language>en-US</dc:language>
  <cp:lastModifiedBy/>
  <dcterms:modified xsi:type="dcterms:W3CDTF">2016-04-25T08:35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