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3097-E27D-4D89-80C8-F4C97D56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4569-3B03-45E5-84B3-57BA1D07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8BE6-7A51-4238-9BE1-54868656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132D-9DF0-4006-B801-8196A152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1257-39BF-4FDA-A0E6-6111A692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F5AA-6660-472F-9DA2-F171FEDB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0D58-0DA4-498C-A330-6DCE06D1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BED8-F806-4E93-9CFC-F0E2A91C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8E18-C187-4CB4-9216-8EAEEDC7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2536-37FF-4704-A098-227B25D7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E323-ABA8-4820-94C2-22BEEBF8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5F72-DC87-4EE2-962C-1951D853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6B28-D522-4431-B46F-B1184C41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9A90-DA5F-479F-97AE-5011055D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E9CA-6183-4035-A1C6-F9FBE9EA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A349-81BC-4342-8C9B-24D5EBFB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BF77-7B65-448D-8A1C-29544B55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6BAF2-5A60-40CF-921A-7FE41550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79EE5-28D6-422F-868A-C129B1A6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2DF81-74BF-405B-9752-D6127DAC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B1564-3325-426F-9455-F1A6478B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32DB8-7430-4D9A-ACD4-D403BAE3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869D-06C5-41D0-B547-0E402953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97160-8220-4F14-AAF5-FE433DD2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301B7-0658-426D-BE1C-09C1CFBD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2621A-0B48-4B33-9927-472284CD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600D2-863D-49E5-938C-6E204009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C5FC3-1BE8-4F5C-A355-A0E195BE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22A12-0A70-49A7-BF9A-4DEEB591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30CC2-D315-4918-9FB8-6682AD2A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4AB7-0FAF-47AE-83D8-88516E2F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6F08-25A6-4123-925B-C63662B3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6BC-9CD2-4A3B-8A16-4A02BC51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1B7-66EA-410F-BF35-0461BD9D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2878-2A36-45E9-9AF1-0DBD154E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6D7-E5E8-4866-8BA5-4DCC91CF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B146-707A-42CE-B710-635D8CB8A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88D7-03AE-4192-A5DC-B6D600DC4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F297-A6FB-4EAD-A44A-1AE5AE018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6019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 rot="5400000">
            <a:off x="-1008720" y="2890080"/>
            <a:ext cx="468144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隶书"/>
              </a:rPr>
              <a:t>万年牢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隶书"/>
              <a:ea typeface="隶书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50920" y="981000"/>
            <a:ext cx="871380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走街串巷　天津　海棠  把儿   损伤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晾晒   闷煮  竹签　 削东西</a:t>
            </a:r>
            <a:r>
              <a:rPr b="1" lang="zh-CN" sz="4000" spc="-1" strike="noStrike">
                <a:solidFill>
                  <a:srgbClr val="0099ff"/>
                </a:solidFill>
                <a:latin typeface="黑体"/>
                <a:ea typeface="黑体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耽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甩出   蘸糖　 赚钱　 嫌弃　掺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132360" y="259920"/>
            <a:ext cx="1182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整体感知课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自由读课文，思考：课文围绕父亲做糖葫芦讲了几件事情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91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课文，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文中几次提到题目“万年牢”？三处的“万年牢”各是什么意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330783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06520" y="4578480"/>
            <a:ext cx="7997760" cy="1803240"/>
          </a:xfrm>
          <a:prstGeom prst="roundRect">
            <a:avLst>
              <a:gd name="adj" fmla="val 9731"/>
            </a:avLst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4508640"/>
            <a:ext cx="8209080" cy="1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父亲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的糖葫芦糖蘸得均匀，越薄越见功夫，吃一口让人叫好，蘸出的糖葫芦不怕冷不怕热不怕潮，这叫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万年牢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476280"/>
            <a:ext cx="43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第一处万年牢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421000"/>
            <a:ext cx="4680000" cy="7124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这里的“万年牢”指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67280" y="2421000"/>
            <a:ext cx="381636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3213000"/>
            <a:ext cx="7991280" cy="7124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父亲做的糖葫芦工艺高、质量好，体现在蘸的糖均匀，还不怕冷、热、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40360" y="2421000"/>
            <a:ext cx="86508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68360" y="981000"/>
            <a:ext cx="820908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父亲把糖煮开，等能              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火候就算到家了。父亲把锅端下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放在备好的架子上，我在一边往父亲手里递串好的葫芦，父亲接过来在糖锅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滚蘸，蘸好了一手递给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手接过我递过去的没蘸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的节奏掌握得正好，一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儿不耽误，父亲很高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076720" y="2997360"/>
            <a:ext cx="3240360" cy="31842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427640" y="1125360"/>
            <a:ext cx="186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拉出丝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父亲教我在石板上甩出“糖风”来，那是糖葫芦尖上薄薄的一片糖。过年的糖葫芦，要甩出长长的糖风。父亲甩的可漂亮了，好像聚宝盆上的光圈。父亲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糖葫芦糖蘸得均匀，越薄越见功夫，吃一口让人叫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蘸出的糖葫芦不怕冷不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热不怕潮，这叫万年牢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076720" y="3141720"/>
            <a:ext cx="3240360" cy="318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5076720"/>
            <a:ext cx="7997760" cy="1305000"/>
          </a:xfrm>
          <a:prstGeom prst="roundRect">
            <a:avLst>
              <a:gd name="adj" fmla="val 9731"/>
            </a:avLst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00000" y="2060640"/>
            <a:ext cx="8209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是因为父亲做糖葫芦认真仔细，所以他的糖葫芦才能经久不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95280" y="765000"/>
            <a:ext cx="834228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二处“万年牢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4176720" cy="3132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39640" y="3860640"/>
            <a:ext cx="7777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公平买卖走正道，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顾客点头说声好，回头再来这是宝，做生意讲实在是万年牢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1844640"/>
            <a:ext cx="374472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什么是“正道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2781360"/>
            <a:ext cx="395928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父亲是怎样走正道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49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大买卖的老板都有一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套生意经，变着法儿多赚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父亲对老板定价太高心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对老板的行为也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他还像过去那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认真选料，一点儿也不马虎。老板嫌他扔得太多，让他少仍点、掺点儿假，他        。老板给他派下手，他也不满意， 那个下手不熟练，动作太慢。他常说：“还不如我闺女呢，太慢了！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00720" y="333360"/>
            <a:ext cx="4319280" cy="3240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2133720"/>
            <a:ext cx="169236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满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781360"/>
            <a:ext cx="176364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看不下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17080" y="4221000"/>
            <a:ext cx="60732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532720" y="4221000"/>
            <a:ext cx="61128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3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3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7" dur="indefinite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" dur="indefinite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50920" y="476280"/>
            <a:ext cx="8342280" cy="43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干了不到一年，父亲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这份         ，仍然提篮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叫卖。自己吃苦不怕，他说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凭着良心做买卖才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能做亏心买卖。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公平买卖走正道， 顾客点头说声好，回头再来这是宝，做生意讲实在是万年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50920" y="479736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二处的万年牢指的是：好的产品赢得顾客信赖，公平的买卖赢得更多的回头客，生意会越来越兴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1197000"/>
            <a:ext cx="90000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辞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79640" y="1197000"/>
            <a:ext cx="107964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3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7" dur="indefinit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3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" dur="indefinit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000" y="117360"/>
            <a:ext cx="8604000" cy="6453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843280" y="549360"/>
            <a:ext cx="36860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黑体"/>
              </a:rPr>
              <a:t>万年牢</a:t>
            </a:r>
            <a:endParaRPr b="1" lang="en-US" sz="96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95280" y="2421000"/>
            <a:ext cx="583236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父亲教导我做万年牢，就是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个可靠的人，实实在在的人。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论做什么事都要讲究认真，讲究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2023920" cy="2770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39640" y="1197000"/>
            <a:ext cx="439272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三次“万年牢”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5516640"/>
            <a:ext cx="7128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诚实可靠品质的人品“万年牢”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24000" y="54936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我的糖葫芦蘸得均匀，越薄越见功夫，吃一口让人叫好，蘸出的糖葫芦不怕冷不怕热不怕潮，这叫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万年牢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0" t="0" r="0" b="49"/>
          <a:stretch/>
        </p:blipFill>
        <p:spPr>
          <a:xfrm>
            <a:off x="4427640" y="4329000"/>
            <a:ext cx="4716360" cy="25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公平买卖走正道，顾客点头说声好，回头再来这是宝，做生意讲实在是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万年牢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0" t="0" r="9842" b="4465"/>
          <a:stretch/>
        </p:blipFill>
        <p:spPr>
          <a:xfrm>
            <a:off x="4572000" y="4221000"/>
            <a:ext cx="4253040" cy="241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0" t="0" r="9063" b="2957"/>
          <a:stretch/>
        </p:blipFill>
        <p:spPr>
          <a:xfrm>
            <a:off x="4572000" y="4292640"/>
            <a:ext cx="4289400" cy="2455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95280" y="69228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父亲教导我做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万年牢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，就是要做个可靠的人，实实在在的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95280" y="1052640"/>
            <a:ext cx="8209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黑体"/>
              </a:rPr>
              <a:t>课文中三处提到了 “万年牢”，这中间有什么联系和深刻的含义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443640" y="189000"/>
            <a:ext cx="2303640" cy="1052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68360" y="2565360"/>
            <a:ext cx="813600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万年牢的产品质量赢得了生意的万年牢，万年牢的生意靠的是诚实、守信的“万年牢”人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万年牢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——做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209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　　　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怎样的人可以称得上是万年牢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35880" cy="52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父亲教导“我”做万年牢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就是要“我”对待父母（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就是要“我”对待朋友（      ）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就是要“我”对待学习（      ）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就是要“我”对待工作（      ）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700360" y="5661000"/>
            <a:ext cx="6087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动动小笔头吧！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12720" y="1125000"/>
            <a:ext cx="67658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在生活和学习中，我们怎样才能成为万年牢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06520" y="1989000"/>
            <a:ext cx="82087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黑体"/>
              </a:rPr>
              <a:t>你是怎么理解父亲做人的道理的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黑体"/>
              </a:rPr>
              <a:t>?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黑体"/>
              </a:rPr>
              <a:t>结合具体的生活事例来说明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227640" y="189000"/>
            <a:ext cx="2592360" cy="1184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547640" y="4365720"/>
            <a:ext cx="6153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黑体"/>
              </a:rPr>
              <a:t>搜集有关诚信的故事和名言警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620640"/>
            <a:ext cx="304560" cy="5181840"/>
          </a:xfrm>
          <a:custGeom>
            <a:avLst/>
            <a:gdLst>
              <a:gd name="textAreaLeft" fmla="*/ 194760 w 304560"/>
              <a:gd name="textAreaRight" fmla="*/ 304920 w 30456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5640" y="213372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54560" y="285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证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0800000">
            <a:off x="7236000" y="691920"/>
            <a:ext cx="576000" cy="5181480"/>
          </a:xfrm>
          <a:custGeom>
            <a:avLst/>
            <a:gdLst>
              <a:gd name="textAreaLeft" fmla="*/ 367920 w 576000"/>
              <a:gd name="textAreaRight" fmla="*/ 576000 w 5760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60360" y="28321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70280" y="2276640"/>
            <a:ext cx="23133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实在在做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老实实做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00" y="240156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年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15640" y="1484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经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8000" y="1125360"/>
            <a:ext cx="287640" cy="1157400"/>
          </a:xfrm>
          <a:custGeom>
            <a:avLst/>
            <a:gdLst>
              <a:gd name="textAreaLeft" fmla="*/ 183960 w 287640"/>
              <a:gd name="textAreaRight" fmla="*/ 288000 w 287640"/>
              <a:gd name="textAreaTop" fmla="*/ 29880 h 1157400"/>
              <a:gd name="textAreaBottom" fmla="*/ 1127520 h 11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84720" y="112536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68360" y="765000"/>
            <a:ext cx="35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好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29080" y="14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作工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79640" y="1628640"/>
            <a:ext cx="347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艺高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932720" y="1484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认真实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3284640"/>
            <a:ext cx="287280" cy="11570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7040"/>
              <a:gd name="textAreaBottom" fmla="*/ 1127160 h 115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56000" y="3213000"/>
            <a:ext cx="152640" cy="1219320"/>
          </a:xfrm>
          <a:custGeom>
            <a:avLst/>
            <a:gdLst>
              <a:gd name="textAreaLeft" fmla="*/ 0 w 152640"/>
              <a:gd name="textAreaRight" fmla="*/ 5508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15640" y="3573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受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老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32720" y="3500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辞去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1640" y="5300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结   父亲教导一生受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95640" y="3429000"/>
            <a:ext cx="30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偷工减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720" y="3933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弄虚作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06240" y="1890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结    父亲做糖葫芦非常有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195640" y="443700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欺骗顾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920000" cy="57769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0920" y="1736640"/>
            <a:ext cx="842472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有名  —（      ）   耽误—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均匀  —（      ）   邀请—（      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228600"/>
            <a:ext cx="3124080" cy="1066680"/>
            <a:chOff x="457200" y="228600"/>
            <a:chExt cx="3124080" cy="1066680"/>
          </a:xfrm>
        </p:grpSpPr>
        <p:sp>
          <p:nvSpPr>
            <p:cNvPr id="273" name=""/>
            <p:cNvSpPr/>
            <p:nvPr/>
          </p:nvSpPr>
          <p:spPr>
            <a:xfrm>
              <a:off x="457200" y="228600"/>
              <a:ext cx="2590920" cy="1066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2120" y="380880"/>
              <a:ext cx="2819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cc6600"/>
                  </a:solidFill>
                  <a:latin typeface="Times New Roman"/>
                  <a:ea typeface="华文行楷"/>
                </a:rPr>
                <a:t>近义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2438280" y="1706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著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1280" y="2421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平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227640" y="1700280"/>
            <a:ext cx="21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耽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39640" y="3284640"/>
            <a:ext cx="3124080" cy="1066680"/>
            <a:chOff x="539640" y="3284640"/>
            <a:chExt cx="3124080" cy="1066680"/>
          </a:xfrm>
        </p:grpSpPr>
        <p:sp>
          <p:nvSpPr>
            <p:cNvPr id="279" name=""/>
            <p:cNvSpPr/>
            <p:nvPr/>
          </p:nvSpPr>
          <p:spPr>
            <a:xfrm>
              <a:off x="539640" y="3284640"/>
              <a:ext cx="2590920" cy="1066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4560" y="3436920"/>
              <a:ext cx="2819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cc6600"/>
                  </a:solidFill>
                  <a:latin typeface="Times New Roman"/>
                  <a:ea typeface="华文行楷"/>
                </a:rPr>
                <a:t>反义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430200" y="4869000"/>
            <a:ext cx="871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耽误 —（      ）   漂亮—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满意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   ）   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熟练—（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40000" y="4869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及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27640" y="4797360"/>
            <a:ext cx="19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丑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940360" y="2421000"/>
            <a:ext cx="19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340000" y="5661000"/>
            <a:ext cx="11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不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64880" y="249228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约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464880" y="5589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生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9640" y="1079640"/>
            <a:ext cx="8209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新凤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我国著名的评剧演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因家境贫寒，她没有上过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岁开始学戏，十四岁就肩负起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家的生活重担。经过长期的艺术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践，新凤霞逐渐形成独具特色的“新派唱腔”。她唱的评剧《刘巧儿》在第一届全国戏曲观摩演出中获得演员一等奖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97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，新凤霞获第十六届 “亚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732720" y="189000"/>
            <a:ext cx="2023920" cy="2770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9640" y="1182600"/>
            <a:ext cx="57898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最杰出艺人奖”。后来生病不能演出，她就刻苦学习写作，成了一名作家。写出了二十九部近百万字的作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77080" y="260280"/>
            <a:ext cx="2023920" cy="2770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786720" y="4581360"/>
            <a:ext cx="1672920" cy="525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501480"/>
            <a:ext cx="9144000" cy="6240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6000" y="1773360"/>
            <a:ext cx="4968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巷               津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损               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签               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甩               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64000" y="177336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j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  <a:ea typeface="华文中宋"/>
              </a:rPr>
              <a:t>ī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32720" y="177948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（天津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19640" y="2997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liàng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76360" y="41562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qi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  <a:ea typeface="华文中宋"/>
              </a:rPr>
              <a:t>ā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0920" y="2997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（晾晒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0" y="17733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xiàng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60720" y="17794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（巷子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76360" y="2997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  <a:ea typeface="华文中宋"/>
              </a:rPr>
              <a:t>ǔ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60720" y="299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（破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41562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  <a:ea typeface="华文中宋"/>
              </a:rPr>
              <a:t>ā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59280" y="41497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（竹签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41562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（耽误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53737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shu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  <a:ea typeface="华文中宋"/>
              </a:rPr>
              <a:t>ǎ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i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19640" y="53802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zhuàn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9280" y="53737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（甩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6920" y="53802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（赚钱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4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4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4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4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4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4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4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4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4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4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4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4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4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4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4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4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400560" y="2209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9080" y="87300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24360" y="6012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8784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92920" y="5162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0" t="0" r="755" b="0"/>
          <a:stretch/>
        </p:blipFill>
        <p:spPr>
          <a:xfrm>
            <a:off x="250920" y="0"/>
            <a:ext cx="7775640" cy="5313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116000" y="836640"/>
            <a:ext cx="61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76500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2519280" cy="1150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36240" y="784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词语学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234936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1773360"/>
            <a:ext cx="525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1700280"/>
            <a:ext cx="6408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街串巷  天津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损伤   晾晒    竹签      耽误   甩出    赚钱    嫌弃   掺假    削好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87280" y="125424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多音字组词，先写字音，再组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659640" y="4703760"/>
            <a:ext cx="1673280" cy="5256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611280" y="1905120"/>
            <a:ext cx="3673440" cy="1464120"/>
            <a:chOff x="611280" y="1905120"/>
            <a:chExt cx="3673440" cy="1464120"/>
          </a:xfrm>
        </p:grpSpPr>
        <p:sp>
          <p:nvSpPr>
            <p:cNvPr id="167" name=""/>
            <p:cNvSpPr/>
            <p:nvPr/>
          </p:nvSpPr>
          <p:spPr>
            <a:xfrm>
              <a:off x="611280" y="2266560"/>
              <a:ext cx="776160" cy="77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把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32000" y="1905120"/>
              <a:ext cx="2952720" cy="14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宋体"/>
                </a:rPr>
                <a:t>(    )(    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宋体"/>
                </a:rPr>
                <a:t>(    )(    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7640" y="2276280"/>
              <a:ext cx="209520" cy="963360"/>
            </a:xfrm>
            <a:custGeom>
              <a:avLst/>
              <a:gdLst>
                <a:gd name="textAreaLeft" fmla="*/ 133920 w 209520"/>
                <a:gd name="textAreaRight" fmla="*/ 209880 w 209520"/>
                <a:gd name="textAreaTop" fmla="*/ 24840 h 963360"/>
                <a:gd name="textAreaBottom" fmla="*/ 938520 h 96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11280" y="4221000"/>
            <a:ext cx="3673440" cy="1464120"/>
            <a:chOff x="611280" y="4221000"/>
            <a:chExt cx="3673440" cy="1464120"/>
          </a:xfrm>
        </p:grpSpPr>
        <p:sp>
          <p:nvSpPr>
            <p:cNvPr id="171" name=""/>
            <p:cNvSpPr/>
            <p:nvPr/>
          </p:nvSpPr>
          <p:spPr>
            <a:xfrm>
              <a:off x="1332000" y="4221000"/>
              <a:ext cx="2952720" cy="14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宋体"/>
                </a:rPr>
                <a:t>(    )(    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宋体"/>
                </a:rPr>
                <a:t>(    )(    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1280" y="4582800"/>
              <a:ext cx="663480" cy="77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削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87640" y="4592520"/>
              <a:ext cx="209520" cy="963720"/>
            </a:xfrm>
            <a:custGeom>
              <a:avLst/>
              <a:gdLst>
                <a:gd name="textAreaLeft" fmla="*/ 133920 w 209520"/>
                <a:gd name="textAreaRight" fmla="*/ 209880 w 209520"/>
                <a:gd name="textAreaTop" fmla="*/ 24840 h 963720"/>
                <a:gd name="textAreaBottom" fmla="*/ 938880 h 96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77880" y="907920"/>
            <a:ext cx="439560" cy="103356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4941720" y="1905120"/>
            <a:ext cx="3662280" cy="1464120"/>
            <a:chOff x="4941720" y="1905120"/>
            <a:chExt cx="3662280" cy="1464120"/>
          </a:xfrm>
        </p:grpSpPr>
        <p:sp>
          <p:nvSpPr>
            <p:cNvPr id="176" name=""/>
            <p:cNvSpPr/>
            <p:nvPr/>
          </p:nvSpPr>
          <p:spPr>
            <a:xfrm>
              <a:off x="4941720" y="2266560"/>
              <a:ext cx="792000" cy="77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闷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16280" y="2276280"/>
              <a:ext cx="209520" cy="963360"/>
            </a:xfrm>
            <a:custGeom>
              <a:avLst/>
              <a:gdLst>
                <a:gd name="textAreaLeft" fmla="*/ 133920 w 209520"/>
                <a:gd name="textAreaRight" fmla="*/ 209880 w 209520"/>
                <a:gd name="textAreaTop" fmla="*/ 24840 h 963360"/>
                <a:gd name="textAreaBottom" fmla="*/ 938520 h 96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51280" y="1905120"/>
              <a:ext cx="2952720" cy="14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宋体"/>
                </a:rPr>
                <a:t>(    )(    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宋体"/>
                </a:rPr>
                <a:t>(    )(    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743120" y="1890720"/>
            <a:ext cx="884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b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b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0360" y="1890720"/>
            <a:ext cx="11527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ē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è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00360" y="1903320"/>
            <a:ext cx="15843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把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伞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4203720"/>
            <a:ext cx="12002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xi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xu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20000" y="1903320"/>
            <a:ext cx="15843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闷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烦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00360" y="4203720"/>
            <a:ext cx="15843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削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剥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300720" y="11592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0920" y="692280"/>
            <a:ext cx="864216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xiàng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g    bà       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走街串巷　天津　海棠  把儿  损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g   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       q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   x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o          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晾晒  闷煮  竹签　 削东西</a:t>
            </a:r>
            <a:r>
              <a:rPr b="1" lang="zh-CN" sz="4000" spc="-1" strike="noStrike">
                <a:solidFill>
                  <a:srgbClr val="0099ff"/>
                </a:solidFill>
                <a:latin typeface="黑体"/>
                <a:ea typeface="黑体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耽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   z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   zh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     x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    c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甩出  蘸糖　赚钱　 嫌弃　掺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11:33:58Z</dcterms:created>
  <dc:creator>Administrator</dc:creator>
  <dc:description/>
  <dc:language>en-US</dc:language>
  <cp:lastModifiedBy/>
  <dcterms:modified xsi:type="dcterms:W3CDTF">2015-08-20T02:23:05Z</dcterms:modified>
  <cp:revision>139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