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276-2662-4490-8603-F7F6BE17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7DC-6361-4EE5-BB44-049DDE2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9A1-6371-44DB-A062-C2B1B6E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93F-5B92-4141-8B79-3F64114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0A7-E62E-4C30-959F-CB3F0B9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AE1-BC79-4360-BEFD-BCF636E1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93D-789D-437B-9CB0-AC993FA1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9DA-FACD-44B9-9CE2-709FFE6A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AAF-1F8C-4558-AB52-2251C65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D95-C8B2-4CE9-BA8E-25C3EF6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6F8-AA8A-4244-B21D-C15A7A0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1A1-C3C4-4328-A872-5E09A9D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9A65-98E5-4495-A599-2C02AB3B8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000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洞庭天下水，岳阳天下楼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刘禹锡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0"/>
            <a:ext cx="7848360" cy="204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十三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踏上仕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刘禹锡，三十三岁成为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政治革新的核心人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革新只进行了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半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失败告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刘禹锡接连被贬。四十二岁奉召回京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次年写诗得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政，外放为连州刺史，后又担任夔州刺史、和州刺史，五十四岁从和州召回洛阳。 刘禹锡贬逐南荒，二十年间去来洞庭，据文献可考的约有六次。其中只有转任和州这一次，是在秋天。可见本诗是转任和州经过洞庭湖所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52280"/>
            <a:ext cx="81532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经历了人生的喜悲、大起落之后，刘禹锡走向成熟。这次虽是转到和州赴任，但已大彻大悟、宠辱不惊。眼前洞庭秋月，水月的和谐，山水的和谐，诗人平和的心境与大自然的宁静融为一体，想到以往坎坷和郁郁不得志，想到即将赴任的新地，他从过去痛苦中走出来，从对明天的憧憬中走出来，在明月清辉之下，在碧波万顷的湖边，纷繁的心绪与大自然同归于平静，于是一首诗从心底沽沽流出，于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望洞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同这个月夜凝固成“洞庭秋月”而得到永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13560" y="3428280"/>
            <a:ext cx="35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723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6743880"/>
            <a:ext cx="72392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156996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位于湖南省的北部，岳阳市附近，是我国第二大淡水湖。洞庭湖的风光极为秀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。君山在洞庭湖中，山上有诸多名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8424" b="0"/>
          <a:stretch/>
        </p:blipFill>
        <p:spPr>
          <a:xfrm>
            <a:off x="0" y="-228600"/>
            <a:ext cx="7924680" cy="378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4071" r="2125" b="0"/>
          <a:stretch/>
        </p:blipFill>
        <p:spPr>
          <a:xfrm>
            <a:off x="1676520" y="31240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明星稀、风清月朗、风月无边、皓月当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波光粼粼、银光闪闪、水平如镜、水天一色、迷迷蒙蒙、朦朦胧胧、宁静和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2388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华文行楷"/>
              </a:rPr>
              <a:t>望洞庭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14400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6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13560" y="3428280"/>
            <a:ext cx="35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79080" y="3428280"/>
            <a:ext cx="34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105520"/>
            <a:ext cx="1676520" cy="761760"/>
          </a:xfrm>
          <a:prstGeom prst="wedgeEllipseCallout">
            <a:avLst>
              <a:gd name="adj1" fmla="val 32671"/>
              <a:gd name="adj2" fmla="val -12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洞庭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76920"/>
            <a:ext cx="1676160" cy="1066680"/>
          </a:xfrm>
          <a:prstGeom prst="wedgeEllipseCallout">
            <a:avLst>
              <a:gd name="adj1" fmla="val 3407"/>
              <a:gd name="adj2" fmla="val -7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君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438280"/>
            <a:ext cx="2133360" cy="533520"/>
          </a:xfrm>
          <a:prstGeom prst="wedgeRectCallout">
            <a:avLst>
              <a:gd name="adj1" fmla="val -53796"/>
              <a:gd name="adj2" fmla="val 69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未磨拭的铜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705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70080" y="4529160"/>
            <a:ext cx="32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9080" y="3428280"/>
            <a:ext cx="34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105520"/>
            <a:ext cx="1676520" cy="761760"/>
          </a:xfrm>
          <a:prstGeom prst="wedgeEllipseCallout">
            <a:avLst>
              <a:gd name="adj1" fmla="val 32671"/>
              <a:gd name="adj2" fmla="val -12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洞庭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876920"/>
            <a:ext cx="1676160" cy="1066680"/>
          </a:xfrm>
          <a:prstGeom prst="wedgeEllipseCallout">
            <a:avLst>
              <a:gd name="adj1" fmla="val 3407"/>
              <a:gd name="adj2" fmla="val -7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君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438280"/>
            <a:ext cx="2133360" cy="533520"/>
          </a:xfrm>
          <a:prstGeom prst="wedgeRectCallout">
            <a:avLst>
              <a:gd name="adj1" fmla="val -53796"/>
              <a:gd name="adj2" fmla="val 69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未磨拭的铜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付瑾</dc:creator>
  <dc:description>内有音频</dc:description>
  <cp:keywords/>
  <dc:language>en-US</dc:language>
  <cp:lastModifiedBy>user</cp:lastModifiedBy>
  <dcterms:modified xsi:type="dcterms:W3CDTF">2012-02-08T14:05:09Z</dcterms:modified>
  <cp:revision>10</cp:revision>
  <dc:subject>为您服务教育网　http://www.wsbedu.com/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