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708-9A9A-43E1-A737-7C5D07C7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429-DDB4-4711-B384-A30BFEAD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4F1-2731-48FA-8EDE-94154DC5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ECC-FD5B-4BCD-B59F-BD027EAC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8F0D-29D2-4748-9511-77F26C49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CE81-225C-4D10-AFA1-95EE238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07A6-A75E-422C-A950-37634461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01CC-A38D-4937-A2AE-D719FA5E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A28E-98C6-4D60-8C06-665A7F3C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5A84-E9E6-496A-8CAD-0967605F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F853-86B4-4477-8F7C-00ED9E87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895-BC3C-421A-91C6-22F8CE3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5B8F-AC27-400A-8076-ABBDE67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19DB-2588-48BE-AAA3-2214AE0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C010-9084-438E-B71E-A946FA84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19A8-283F-4102-94AE-70480B85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D619-E438-41AE-BA30-65FF94D3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B5FF-49AB-4868-9763-6A5E1887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366B-CE5A-45EC-A951-ACA46793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3237-03D5-4D87-9769-C63D5850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912B-DE65-4A0C-9EE3-7BD763ED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CDDC-3810-4C0B-BF82-3E2A4971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38F-D16D-45E6-A581-75E3F35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78CC-8011-418B-88E6-82F54355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40D5-83B5-487D-982D-32D4BDF0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86AB-3B0E-428A-A9ED-6D5B086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1EB73-8872-412C-8376-01ADBE39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46CA-E2D0-4B5D-900C-6A5D3682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5430-988F-4DBF-B502-A72B7513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4FE5-963A-4DA3-9FF0-328FC358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458-4C19-4D1D-AC13-11D7A574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C1D-7E4F-4F10-9000-94CECC37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3EC-D3A5-4397-8496-AE9D5A03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5F0-8588-4891-8F9E-2ECB5CA1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917-83DF-44DE-B960-5E6BA7B1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B8A-FD0C-4476-A745-A0CD38A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E8BC-85A3-46FB-905B-30E207E86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5BDF-1B25-47B2-9ACD-CFA391A54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B358-3B10-4684-B9BD-842BE7F845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99"/>
                </a:solidFill>
                <a:latin typeface="Arial"/>
                <a:ea typeface="华康娃娃体W5"/>
              </a:rPr>
              <a:t>为了他的尊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康娃娃体W5"/>
              </a:rPr>
              <a:t>请问，究竟有什么不一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8560" y="1125360"/>
            <a:ext cx="87850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cc0099"/>
                </a:solidFill>
                <a:latin typeface="楷体"/>
                <a:ea typeface="楷体"/>
              </a:rPr>
              <a:t>砖放在屋前和放在屋后都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楷体"/>
                <a:ea typeface="楷体"/>
              </a:rPr>
              <a:t>样，可搬不搬对乞丐来说就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楷体"/>
                <a:ea typeface="楷体"/>
              </a:rPr>
              <a:t>一样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康娃娃体W5"/>
              </a:rPr>
              <a:t>不同的人对搬砖的不同看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"/>
                <a:ea typeface="楷体"/>
              </a:rPr>
              <a:t>双手健全乞丐的做法</a:t>
            </a:r>
            <a:r>
              <a:rPr b="1" lang="en-US" sz="3200" spc="-1" strike="noStrike">
                <a:solidFill>
                  <a:srgbClr val="660066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cc0099"/>
                </a:solidFill>
                <a:latin typeface="楷体"/>
                <a:ea typeface="楷体"/>
              </a:rPr>
              <a:t>鄙夷地走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"/>
                <a:ea typeface="楷体"/>
              </a:rPr>
              <a:t>其他乞丐的做法</a:t>
            </a:r>
            <a:r>
              <a:rPr b="1" lang="en-US" sz="3200" spc="-1" strike="noStrike">
                <a:solidFill>
                  <a:srgbClr val="660066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cc0099"/>
                </a:solidFill>
                <a:latin typeface="楷体"/>
                <a:ea typeface="楷体"/>
              </a:rPr>
              <a:t>那堆砖在屋前屋后挪动了几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"/>
                <a:ea typeface="楷体"/>
              </a:rPr>
              <a:t>孩子的不解</a:t>
            </a:r>
            <a:r>
              <a:rPr b="1" lang="en-US" sz="3200" spc="-1" strike="noStrike">
                <a:solidFill>
                  <a:srgbClr val="660066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cc0099"/>
                </a:solidFill>
                <a:latin typeface="楷体"/>
                <a:ea typeface="楷体"/>
              </a:rPr>
              <a:t>你到底是想把砖放在屋前，还是屋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"/>
                <a:ea typeface="楷体"/>
              </a:rPr>
              <a:t>母亲的看法</a:t>
            </a:r>
            <a:r>
              <a:rPr b="1" lang="en-US" sz="3200" spc="-1" strike="noStrike">
                <a:solidFill>
                  <a:srgbClr val="660066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cc0099"/>
                </a:solidFill>
                <a:latin typeface="楷体"/>
                <a:ea typeface="楷体"/>
              </a:rPr>
              <a:t>砖放在屋前和屋后都一样，但搬不搬对于乞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"/>
                <a:ea typeface="楷体"/>
              </a:rPr>
              <a:t>丐来说就不一样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华康娃娃体W5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660066"/>
                </a:solidFill>
                <a:latin typeface="楷体"/>
                <a:ea typeface="楷体"/>
              </a:rPr>
              <a:t>、文中写“妇人的孩子”和“双手健全的乞丐”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660066"/>
                </a:solidFill>
                <a:latin typeface="楷体"/>
                <a:ea typeface="楷体"/>
              </a:rPr>
              <a:t>、这篇文章有好几个人物，谁最让你感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8000" y="1052280"/>
            <a:ext cx="691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搬砖后的乞丐会有怎样的生活   变化？在课文中寻找依据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349360"/>
            <a:ext cx="69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业有成，成了体面的董事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3068640"/>
            <a:ext cx="62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他成功的原因是什么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4149720"/>
            <a:ext cx="6553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明白了：只有自尊自立自强，并且要付出劳动才有回报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乞丐与妇人的两次相见有什么不同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341360"/>
            <a:ext cx="7921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前一次乞丐与妇人偶然相遇；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后一次乞丐专程来报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2852640"/>
            <a:ext cx="799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怎么看待妇人拒绝乞丐的回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默读妇人与乞丐第二次见面的对话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细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4149720"/>
            <a:ext cx="7921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妇人很自爱，不求回报，更不愿享受他人的劳动成果，她要靠自己的双手创造生活。她这样教乞丐，也这样要求自己，显示了妇人高尚的人格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  <a:ea typeface="华康娃娃体W5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、独臂乞丐最初想在女主人那里得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、通过搬砖劳动，实际上他得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、你从课文中哪些语句可以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康娃娃体W5"/>
              </a:rPr>
              <a:t>体会乞丐前后形象的变化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"/>
              </a:rPr>
              <a:t>这个乞丐很可怜，他的右手连同整条手臂都断掉了，空空的袖子晃荡着，让人看了很难过，碰上谁都会慷慨施舍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"/>
              </a:rPr>
              <a:t>若干年后，一个很体面的人来到这座庭院。他西装革履，气度不凡，跟那些自信、自重的成功人士一模一样。美中不足的是，这人只有一只手，右边是一条空空的衣袖，一荡一荡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出示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认为文中的女主人是怎样一个人？你是从文中的哪些地方体会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华康娃娃体W5"/>
              </a:rPr>
              <a:t>体会老妇人的美好品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"/>
              </a:rPr>
              <a:t>这位可敬的老妇人，拥有美好的心灵，帮助乞丐寻找回了自己的尊严，尊重乞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"/>
              </a:rPr>
              <a:t>同样，</a:t>
            </a:r>
            <a:r>
              <a:rPr b="1" lang="zh-CN" sz="3600" spc="-1" strike="noStrike">
                <a:solidFill>
                  <a:srgbClr val="cc0099"/>
                </a:solidFill>
                <a:latin typeface="楷体"/>
                <a:ea typeface="楷体"/>
              </a:rPr>
              <a:t>妇人很自爱，不求回报，更不愿享受他人的劳动成果，她要靠自己的双手创造生活。她这样教乞丐，也这样要求自己，显示了妇人高尚的人格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了乞丐的尊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女主人毫不客气地指着门前一堆砖对乞丐说：“你帮我把这些砖搬到屋后去吧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了帮助乞丐找到自己的尊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女主人俯身搬起砖来。她只用一只手搬了一趟说：“你看，并不是两只手才能干活。我能干，你为什么不能干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了尊重乞丐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女主人递给他一条雪白的毛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了保持自己的尊严，女主人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“我们不能接受你的照顾，因为我们一家人都有两只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了帮助更多的人，女主人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“那你就把房子送给连一只手都没有的人吧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"/>
                <a:ea typeface="楷体"/>
              </a:rPr>
              <a:t>乞丐    晃荡    慷慨    施舍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"/>
                <a:ea typeface="楷体"/>
              </a:rPr>
              <a:t>忍心    捉弄    怔住    橄榄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"/>
                <a:ea typeface="楷体"/>
              </a:rPr>
              <a:t>俯下    濡湿    额头    鞠躬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"/>
                <a:ea typeface="楷体"/>
              </a:rPr>
              <a:t>鄙夷    不屑    挪动    迁到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"/>
                <a:ea typeface="楷体"/>
              </a:rPr>
              <a:t>照顾    人格    报酬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"/>
                <a:ea typeface="楷体"/>
              </a:rPr>
              <a:t>气喘如牛   西装革履   气度不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"/>
                <a:ea typeface="楷体"/>
              </a:rPr>
              <a:t>美中不足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后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个乞丐原来希望从女主人那里得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？实际上他得到了什么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一个乞丐原来希望从女主人那里得到施舍，最后他不但挣得了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元钱，而且找回了做人的尊严，也得到了自食其力的信心和力量，从此走上了自新，成功之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“双手健全的乞丐”在课文中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两个乞丐形成了鲜明的对比，这种反衬更表现出女主人做法的高尚。在对比中揭示文章的主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90960" y="836280"/>
            <a:ext cx="4170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不期望回报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2133720"/>
            <a:ext cx="461016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给予你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便不期望回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付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是为了　有一天索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那么，我将变得多么渺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，你是湖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2133720"/>
            <a:ext cx="442764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乐意是堤岸环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，你是山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乐意是装点你姿容的青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，不一定能使自己伟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但一定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使自己崇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做有尊严的人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也要给别人以自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向彬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9117000" y="6159600"/>
            <a:ext cx="176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未知"/>
          <p:cNvSpPr/>
          <p:nvPr/>
        </p:nvSpPr>
        <p:spPr>
          <a:xfrm>
            <a:off x="9117000" y="6159600"/>
            <a:ext cx="176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9124920" y="6149880"/>
            <a:ext cx="360" cy="972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师总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不劳而获得到的是施舍，靠劳动挣来的是报酬，只有劳动才能找回尊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丧失了自尊心的人，是一个没有出息的人，丧失了自尊心的民族，是一个无望的民族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陈祖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课文中的“他”指的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乞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文中是谁给了乞丐尊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位普通的妇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说课文主要讲了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本文记叙的是一位老妇人毫不客气地让乞丐搬砖头获取所得，使乞丐获得了自信和做人的尊严，从而依靠自己的劳动取得成功的故事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第一部分（</a:t>
            </a:r>
            <a:r>
              <a:rPr b="1" lang="en-US" sz="3200" spc="-1" strike="noStrike">
                <a:solidFill>
                  <a:srgbClr val="cc0099"/>
                </a:solidFill>
                <a:latin typeface="仿宋"/>
                <a:ea typeface="仿宋"/>
              </a:rPr>
              <a:t>1-8</a:t>
            </a: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）祥写独臂乞丐向老妇人乞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妇人毫无客气地让他板砖，才给他二十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第二部分（</a:t>
            </a:r>
            <a:r>
              <a:rPr b="1" lang="en-US" sz="3200" spc="-1" strike="noStrike">
                <a:solidFill>
                  <a:srgbClr val="cc0099"/>
                </a:solidFill>
                <a:latin typeface="仿宋"/>
                <a:ea typeface="仿宋"/>
              </a:rPr>
              <a:t>9-12</a:t>
            </a: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）以双臂乞丐宁可不要施舍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不肯板砖，以及妇人与孩子的对话，点明了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人坚持让乞丐板砖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第三部分（</a:t>
            </a:r>
            <a:r>
              <a:rPr b="1" lang="en-US" sz="3200" spc="-1" strike="noStrike">
                <a:solidFill>
                  <a:srgbClr val="cc0099"/>
                </a:solidFill>
                <a:latin typeface="仿宋"/>
                <a:ea typeface="仿宋"/>
              </a:rPr>
              <a:t>13-21</a:t>
            </a: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）独臂乞丐成功后，想谢赠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仿宋"/>
                <a:ea typeface="仿宋"/>
              </a:rPr>
              <a:t>妇人，被老妇人拒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畅所欲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说：在生活中你见过乞丐吗？你是怎么看待他们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在常人眼里，乞丐向别人乞讨，靠别人的施舍生活，有的令人同情，有的令人厌恶，基本没有尊严可言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文围绕妇人写了哪两件事？</a:t>
            </a:r>
            <a:r>
              <a:rPr b="1" lang="zh-CN" sz="4000" spc="-1" strike="noStrike">
                <a:solidFill>
                  <a:srgbClr val="3c16c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2133720"/>
            <a:ext cx="72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楷体_GB2312"/>
                <a:ea typeface="楷体_GB2312"/>
              </a:rPr>
              <a:t>  ①</a:t>
            </a:r>
            <a:r>
              <a:rPr b="1" lang="zh-CN" sz="3600" spc="-1" strike="noStrike">
                <a:solidFill>
                  <a:srgbClr val="336699"/>
                </a:solidFill>
                <a:latin typeface="楷体_GB2312"/>
                <a:ea typeface="楷体_GB2312"/>
              </a:rPr>
              <a:t>教乞丐搬砖；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楷体_GB2312"/>
                <a:ea typeface="楷体_GB2312"/>
              </a:rPr>
              <a:t>  ②拒绝乞丐的回报。</a:t>
            </a:r>
            <a:r>
              <a:rPr b="1" lang="en-US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42900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文中哪一段具体描写乞丐搬砖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从哪些方面进行了描写？</a:t>
            </a:r>
            <a:r>
              <a:rPr b="1" lang="zh-CN" sz="3600" spc="-1" strike="noStrike">
                <a:solidFill>
                  <a:srgbClr val="3c16c6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4076640"/>
            <a:ext cx="7128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6699"/>
                </a:solidFill>
                <a:latin typeface="楷体_GB2312"/>
                <a:ea typeface="楷体_GB2312"/>
              </a:rPr>
              <a:t>第四段。写了乞丐的神态、动作、外貌         ─乞丐看到妇人用一只手搬砖非常惊异，也很受震动，最终也去尝试，非常辛苦也很狼狈。（体会：整整、才）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54936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99"/>
                </a:solidFill>
                <a:latin typeface="Arial"/>
              </a:rPr>
              <a:t>思考并讨论</a:t>
            </a:r>
            <a:r>
              <a:rPr b="1" lang="zh-CN" sz="4000" spc="-1" strike="noStrike">
                <a:solidFill>
                  <a:srgbClr val="336699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8000" y="765000"/>
            <a:ext cx="7812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白毛巾”变成 “黑毛巾”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27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搬砖这活很脏、很累，乞丐付出了艰辛的劳动才得以完成。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乞丐很仔细地擦脸，白毛巾变黑了，表明他不仅擦掉脸上的尘土，而且是内心自尊心的觉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3789360"/>
            <a:ext cx="67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雪白”说明了什么？去掉行不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4437000"/>
            <a:ext cx="712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妇人用雪白的毛巾给乞丐擦脸，表明了她对乞丐的尊重、对他付出劳动的尊重。去掉不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终于</a:t>
            </a:r>
            <a:r>
              <a:rPr b="1" lang="en-US" sz="3600" spc="-1" strike="noStrike">
                <a:solidFill>
                  <a:srgbClr val="ff0066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他俯下身子</a:t>
            </a:r>
            <a:r>
              <a:rPr b="1" lang="en-US" sz="3600" spc="-1" strike="noStrike">
                <a:solidFill>
                  <a:srgbClr val="ff0066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用唯一的手搬起砖来。他一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只能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搬一块</a:t>
            </a:r>
            <a:r>
              <a:rPr b="1" lang="en-US" sz="3600" spc="-1" strike="noStrike">
                <a:solidFill>
                  <a:srgbClr val="ff0066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整整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搬了两个小时</a:t>
            </a:r>
            <a:r>
              <a:rPr b="1" lang="en-US" sz="3600" spc="-1" strike="noStrike">
                <a:solidFill>
                  <a:srgbClr val="ff0066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才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把砖搬完。他累得气喘如牛</a:t>
            </a:r>
            <a:r>
              <a:rPr b="1" lang="en-US" sz="3600" spc="-1" strike="noStrike">
                <a:solidFill>
                  <a:srgbClr val="ff0066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脸上布满灰尘</a:t>
            </a:r>
            <a:r>
              <a:rPr b="1" lang="en-US" sz="3600" spc="-1" strike="noStrike">
                <a:solidFill>
                  <a:srgbClr val="ff0066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几绺乱发被汗水濡湿了</a:t>
            </a:r>
            <a:r>
              <a:rPr b="1" lang="en-US" sz="3600" spc="-1" strike="noStrike">
                <a:solidFill>
                  <a:srgbClr val="ff0066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歪贴在额头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3860640"/>
            <a:ext cx="822960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华康娃娃体W5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康娃娃体W5"/>
              </a:rPr>
              <a:t>如此辛苦，值得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129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1197000"/>
            <a:ext cx="705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2997360"/>
            <a:ext cx="698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4149720"/>
            <a:ext cx="7128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60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乞丐在与妇人告别时说了什么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该怎么读这句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134136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我不会忘记你的</a:t>
            </a:r>
            <a:r>
              <a:rPr b="1" lang="en-US" sz="3200" spc="-1" strike="noStrike">
                <a:solidFill>
                  <a:srgbClr val="ff66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这条毛巾也留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我作纪念吧。”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要读出感激、敬佩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2852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“对乞丐来说，搬砖和不搬砖可就  大不相同了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3860640"/>
            <a:ext cx="785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搬砖，可以让乞丐明白：他是一个有用的                          人，虽然他不体面、不伟大。只有自己真正付出了劳动，才能得到应有的回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07:44Z</dcterms:created>
  <dc:creator>Administrator</dc:creator>
  <dc:description/>
  <dc:language>en-US</dc:language>
  <cp:lastModifiedBy/>
  <dcterms:modified xsi:type="dcterms:W3CDTF">2015-07-28T01:58:0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