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CBE-8F49-4178-834A-E3F992E4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901-F712-4DCC-A021-C49A28A2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D1F-F384-4182-88E4-BA662AD8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DC3-F0D8-4A73-AAD3-1843EC28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2931-71F9-4ECC-870D-27DC1180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D05-77FF-480A-84B4-FA62FF3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79E7-704B-4D93-96FF-C9FBE34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3069-6E0A-48DD-A8C8-1FEFF58D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1F08-400A-4BE3-88E1-58043C5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0377-34B2-45E5-8AF9-6FECA0F4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50E-07A3-4DC6-8C77-614A54A6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061-A5FD-4771-9C0C-BEB8557B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EF50-E137-4E39-A497-A30DBFC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4C40-F20F-43D1-BF7D-58BB010F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324F-D880-49B5-B7F8-6755B376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E7D-E2E1-49AA-8A89-E810F034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9D6C-9C3A-48F6-AE2D-C324A997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16AC-2A2C-4259-AA07-FD4588EF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3567-C0E7-4DDA-9230-0BEE5F5F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2B60-2E33-4AFA-B488-8DFB509C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A1F4-951A-486A-A1B9-CE085B0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021B-17C9-4E6E-89A1-7C774745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4EE-471A-463E-9209-0FB765B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22E8-0868-4E6D-B557-E2599239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B601-BFE7-44C6-8D1F-EC33CE5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E065-677F-4E7A-AD80-4014FFE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7D54-4D18-45D2-A821-53AAAD3B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0A58-DCC0-4F1C-8778-E168219B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A0E0-29F8-49ED-8AE8-71324724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206A-B99C-4F40-9176-C752B579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844-F5C6-4175-9907-28469B4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000-798B-4684-BA57-0842AB3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BA6-F073-4575-A643-3046E2F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276-CBC2-4025-AAF0-A62C1C7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ECA-0962-41AF-9F8F-7455FE8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5E6-C975-4A3B-BE3C-8A08EE8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DB7-C324-4518-90B7-E1A5DFCC3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478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24DB-E70A-4DE2-A9C9-A116C6204C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49e9c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52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5B14-9D71-4860-937E-A0E9DFDE4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44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434547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434547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34547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434547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99ff"/>
                </a:solidFill>
                <a:latin typeface="华文中宋"/>
              </a:rPr>
              <a:t>小桥流水人家</a:t>
            </a:r>
            <a:endParaRPr b="1" lang="en-US" sz="54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61680" y="3911760"/>
            <a:ext cx="7751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幼圆"/>
              </a:rPr>
              <a:t>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作者： 谢冰莹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踏溪图：感受流水之</a:t>
            </a:r>
            <a:r>
              <a:rPr b="1" lang="zh-CN" sz="3200" spc="-1" strike="noStrike">
                <a:solidFill>
                  <a:srgbClr val="d60093"/>
                </a:solidFill>
                <a:latin typeface="华文中宋"/>
              </a:rPr>
              <a:t>动美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6740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天旱的时候，这条小溪就会干涸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。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村民平时靠它来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灌溉田园，清洗衣物，点缀风景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。有时，它只有细细的流泉，从石头缝里穿过。我和一群六七岁的小朋友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最喜欢扒开石头，寻找小鱼、小虾、小螃蟹，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我们并不是捉来吃，而是养在玻璃瓶里玩儿。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第一句话起什么作用？小溪除了景美，还有什么作用？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0639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的确，正是因为小溪的终年潺潺环绕，才有了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灌溉田园，清洗衣物，点缀风景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，才有了我和一群六七岁的小朋友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最喜欢扒开石头，寻找小鱼、小虾、小螃蟹。它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灌溉田园，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带来了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收获；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它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清洗衣物，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带来了</a:t>
            </a:r>
            <a:r>
              <a:rPr b="1" lang="en-US" sz="2400" spc="-1" strike="noStrike">
                <a:solidFill>
                  <a:srgbClr val="d60093"/>
                </a:solidFill>
                <a:latin typeface="幼圆"/>
              </a:rPr>
              <a:t>------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；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它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点缀风景，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带来了</a:t>
            </a:r>
            <a:r>
              <a:rPr b="1" lang="en-US" sz="2400" spc="-1" strike="noStrike">
                <a:solidFill>
                  <a:srgbClr val="d60093"/>
                </a:solidFill>
                <a:latin typeface="幼圆"/>
              </a:rPr>
              <a:t>------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；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它让我和伙伴们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找鱼虾、螃蟹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，带来了</a:t>
            </a:r>
            <a:r>
              <a:rPr b="1" lang="en-US" sz="2400" spc="-1" strike="noStrike">
                <a:solidFill>
                  <a:srgbClr val="d60093"/>
                </a:solidFill>
                <a:latin typeface="幼圆"/>
              </a:rPr>
              <a:t>--------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。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1854360"/>
            <a:ext cx="338436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填空：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有了小溪，村庄有了生机；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有了小溪，大人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-------------------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；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有了小溪，小孩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--------------------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；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有了小溪，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--------------------------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；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有了小溪，家乡有了动感，有了美丽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04000" y="1486080"/>
            <a:ext cx="22399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卧桥图：欣赏小桥之</a:t>
            </a:r>
            <a:r>
              <a:rPr b="1" lang="zh-CN" sz="3200" spc="-1" strike="noStrike">
                <a:solidFill>
                  <a:srgbClr val="d60093"/>
                </a:solidFill>
                <a:latin typeface="华文中宋"/>
              </a:rPr>
              <a:t>静美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一条小小的木桥，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横跨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在溪上。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我喜欢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过桥，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更高兴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把采来的野花丢在桥下，让流水把它们送到远方。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　　</a:t>
            </a:r>
            <a:br>
              <a:rPr sz="2400"/>
            </a:b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20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2b4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静卧的木桥带我过溪，又送我童年的欢笑，梦想的远方。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663" t="4604" r="4604" b="8108"/>
          <a:stretch/>
        </p:blipFill>
        <p:spPr>
          <a:xfrm>
            <a:off x="890640" y="2813040"/>
            <a:ext cx="7143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卧桥图：欣赏小桥之</a:t>
            </a:r>
            <a:r>
              <a:rPr b="1" lang="zh-CN" sz="3200" spc="-1" strike="noStrike">
                <a:solidFill>
                  <a:srgbClr val="d60093"/>
                </a:solidFill>
                <a:latin typeface="华文中宋"/>
              </a:rPr>
              <a:t>静美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我的家离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小桥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很近，走路五六分钟就到了。沿着溪岸向东行，还有一座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</a:rPr>
              <a:t>长石桥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，那是通到茶山去的。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我曾经随着采茶女上山摘过茶叶，我喜欢欣赏茶树下面紫色的野花和黄色的野菌。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至今一看到茶树，脑海里立刻会浮现出当时的情景来。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石桥带给“我”什么呢？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245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71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采花的美好画面，调皮的童年时光，快乐的童年记忆，是不语的石桥给我的回忆。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7456" t="0" r="0" b="17266"/>
          <a:stretch/>
        </p:blipFill>
        <p:spPr>
          <a:xfrm>
            <a:off x="1028880" y="3429000"/>
            <a:ext cx="3398760" cy="2144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4032000" cy="2578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2079" t="0" r="0" b="12712"/>
          <a:stretch/>
        </p:blipFill>
        <p:spPr>
          <a:xfrm>
            <a:off x="4800600" y="4005360"/>
            <a:ext cx="3948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71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有了小桥，我懂得欣赏自然的美丽，也懂得了欣赏劳动的快乐与美好。童年的珍贵记忆与小桥并在，生活之美也与小桥并存。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3218" r="4312" b="15475"/>
          <a:stretch/>
        </p:blipFill>
        <p:spPr>
          <a:xfrm>
            <a:off x="4718160" y="1703520"/>
            <a:ext cx="3857400" cy="3662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3625" t="0" r="0" b="7490"/>
          <a:stretch/>
        </p:blipFill>
        <p:spPr>
          <a:xfrm>
            <a:off x="682560" y="3718080"/>
            <a:ext cx="38181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713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生活图：品味人家之</a:t>
            </a:r>
            <a:r>
              <a:rPr b="1" lang="zh-CN" sz="3200" spc="-1" strike="noStrike">
                <a:solidFill>
                  <a:srgbClr val="d60093"/>
                </a:solidFill>
                <a:latin typeface="华文中宋"/>
              </a:rPr>
              <a:t>情美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　</a:t>
            </a:r>
            <a:r>
              <a:rPr b="1" lang="zh-CN" sz="2000" spc="-1" strike="noStrike">
                <a:solidFill>
                  <a:srgbClr val="d60093"/>
                </a:solidFill>
                <a:latin typeface="幼圆"/>
              </a:rPr>
              <a:t>我爱我的老家，那是我出生的地方。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我家只有几间矮小的平房，我出生的那间卧室，光线很暗，地面潮湿，</a:t>
            </a:r>
            <a:r>
              <a:rPr b="1" lang="zh-CN" sz="2000" spc="-1" strike="noStrike">
                <a:solidFill>
                  <a:srgbClr val="d60093"/>
                </a:solidFill>
                <a:latin typeface="幼圆"/>
              </a:rPr>
              <a:t>但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我非常爱它。父亲的书房就在前面，我可以天天去玩。那是一座</a:t>
            </a:r>
            <a:r>
              <a:rPr b="1" lang="zh-CN" sz="2000" spc="-1" strike="noStrike">
                <a:solidFill>
                  <a:srgbClr val="0000cc"/>
                </a:solidFill>
                <a:latin typeface="幼圆"/>
              </a:rPr>
              <a:t>空气流通、阳光充足、有东南两面大窗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的漂亮房子。清晨，可以看到太阳从后山上的树丛里钻出来。夏天，凉爽的清风从南窗里吹进来，太舒服了！</a:t>
            </a:r>
            <a:r>
              <a:rPr b="1" lang="zh-CN" sz="2000" spc="-1" strike="noStrike">
                <a:solidFill>
                  <a:srgbClr val="ff0000"/>
                </a:solidFill>
                <a:latin typeface="幼圆"/>
              </a:rPr>
              <a:t>更美的是，我由东窗可以望到那条小溪和小桥，还有那几株依依多情的杨柳。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幼圆"/>
              </a:rPr>
              <a:t> 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屋子美哉！美在哪儿？　　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0308" t="0" r="0" b="23231"/>
          <a:stretch/>
        </p:blipFill>
        <p:spPr>
          <a:xfrm>
            <a:off x="5016600" y="1268280"/>
            <a:ext cx="3876480" cy="2322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22969" t="386" r="0" b="28645"/>
          <a:stretch/>
        </p:blipFill>
        <p:spPr>
          <a:xfrm>
            <a:off x="5543640" y="4292640"/>
            <a:ext cx="33274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生活图：品味人家之</a:t>
            </a:r>
            <a:r>
              <a:rPr b="1" lang="zh-CN" sz="3200" spc="-1" strike="noStrike">
                <a:solidFill>
                  <a:srgbClr val="d60093"/>
                </a:solidFill>
                <a:latin typeface="华文中宋"/>
              </a:rPr>
              <a:t>情美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740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故乡所有的居民都姓谢。村庄有大有小，大的有五六十户人家，小的只有三四家。大家过着</a:t>
            </a:r>
            <a:r>
              <a:rPr b="1" lang="en-US" sz="2400" spc="-1" strike="noStrike">
                <a:solidFill>
                  <a:srgbClr val="d60093"/>
                </a:solidFill>
                <a:latin typeface="幼圆"/>
              </a:rPr>
              <a:t>“日出而作”“日入而息”“守望相助”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的太平生活。那段日子，深深的印在我的脑海中。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</a:rPr>
              <a:t>那些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美好的印象，我一辈子也不会忘记。</a:t>
            </a:r>
            <a:br>
              <a:rPr sz="2400"/>
            </a:b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139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0" t="10566" r="20392" b="0"/>
          <a:stretch/>
        </p:blipFill>
        <p:spPr>
          <a:xfrm>
            <a:off x="6588000" y="5302080"/>
            <a:ext cx="1835280" cy="1167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11501" b="7289"/>
          <a:stretch/>
        </p:blipFill>
        <p:spPr>
          <a:xfrm>
            <a:off x="179280" y="4438800"/>
            <a:ext cx="2951280" cy="1730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rcRect l="0" t="0" r="5335" b="37276"/>
          <a:stretch/>
        </p:blipFill>
        <p:spPr>
          <a:xfrm>
            <a:off x="828720" y="2781360"/>
            <a:ext cx="3155760" cy="1297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rcRect l="0" t="0" r="9689" b="20751"/>
          <a:stretch/>
        </p:blipFill>
        <p:spPr>
          <a:xfrm>
            <a:off x="3565440" y="5343480"/>
            <a:ext cx="2470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2b4"/>
            </a:gs>
            <a:gs pos="100000">
              <a:srgbClr val="645e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关于课题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【小桥流水人家】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　　语出马致远的《天净沙</a:t>
            </a: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·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秋思》：“枯藤老树昏鸦，小桥流水人家，古道西风瘦马。夕阳西下，断肠人在天涯。”人们通常用它来指代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江南水乡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。本课指作者的家乡，有小桥，有流水，有人家，与诗句相吻合。另外，用诗句来做题目，更显得家乡美好可爱，富有诗情画意。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</a:rPr>
              <a:t>1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</a:rPr>
              <a:t>日出而作”“日入而息”“守望相助”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是什么样的一种生活？用几个词来概括一下。你能想象一下那种画面吗？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</a:rPr>
              <a:t>2.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</a:rPr>
              <a:t>那些美好的印象”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指哪些美好的事物？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指潺潺的流水，美丽的小桥，可爱的人家，还有那美好童年生活记忆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“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那段日子，深深地印在我的脑海中。那些美好的印象我一辈子也不会忘记”表达了作者对故乡绵绵不绝的怀恋和思念。 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5e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主题思想：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本文通过对故乡“小桥”“流水”“人家”美好的田园生活的回忆，表达了作者浓浓的思乡之情和对故乡的赞美、怀恋和热爱。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多音字：缝、扒、娜、和、钻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近义词：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干涸——干枯  点缀——装饰  充足——充分  舒服——舒适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悦耳——动听  浮现——出现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反义词：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潮湿——干燥  凉爽——炎热  清澈——浑浊  柔软——僵硬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矮小——高大  浮现——消失</a:t>
            </a:r>
            <a:br>
              <a:rPr sz="2400"/>
            </a:b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作者简介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谢冰莹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(1906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5- )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原名谢鸣岗，字风宝，湖南新化人。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小时随父读四书五经，后就读于湖南省立第一女校，未毕业即投笔从戎，于</a:t>
            </a: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1926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年冬考入武汉中央军事政治学校。次年参加北伐，著《从军日记》，发表于《中央日报》副刊。</a:t>
            </a: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1927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年军政学校女生队解散，先后人上海艺大、北平女师大学习。毕业后，于</a:t>
            </a: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1931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年及</a:t>
            </a: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1935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年两渡扶桑，就读于早稻田大学研究院。</a:t>
            </a: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1935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年曾因“抗日反满罪”在日本被捕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据不完全统计，她一生出版的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小说、散文、游记、书信等著作达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80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余种、近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400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部、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2000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多万字。代表作《女兵自传》，相继被译成英、日等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多种文字。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645e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生字词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婀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  <a:ea typeface="Arial"/>
              </a:rPr>
              <a:t>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ē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  <a:ea typeface="Arial"/>
              </a:rPr>
              <a:t>）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娜（ｎｕ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ó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  <a:ea typeface="Arial"/>
              </a:rPr>
              <a:t>）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舞姿（ｚ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ī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粼粼（ｌ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í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ｎ）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波（ｂ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ō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纹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干涸（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é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潺潺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ch 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á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 n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螃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p 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á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 ng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蟹           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xi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è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点缀（ｚ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h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ｕ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ì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涌（ｙ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ŏ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ｎｇ）现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潮湿（ｃ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á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ｏ）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流通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舒（ｓ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ū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服、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印象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灌溉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(gu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à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n)(g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à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i)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野菌（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j 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  <a:ea typeface="Arial"/>
              </a:rPr>
              <a:t>ū</a:t>
            </a: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 n</a:t>
            </a: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）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9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1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练一练：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1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粼粼波纹     依依多情         你能再说两个类似的词语吗？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----------      -----------    ---------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2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、读课文，填空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（     ）的印象   （   ）的柳枝   （   ）的小溪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（     ）的波纹   （   ）的流泉   （  ）的声音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（     ）的舞姿   （   ）的野花   （  ）的生活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（     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)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地环绕     （   ）地流淌   （  ）地印在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（     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)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地钻出     （    ）地跳舞   （  ）地摇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    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2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词语解释：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【潺潺】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　　象声词，表示溪水、泉水等流动的声音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【婀娜】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形容姿态柔软而美好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【粼粼】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　　形容水很清澈的样子。</a:t>
            </a:r>
            <a:br>
              <a:rPr sz="2000"/>
            </a:br>
            <a:r>
              <a:rPr b="1" lang="en-US" sz="2000" spc="-1" strike="noStrike">
                <a:solidFill>
                  <a:srgbClr val="8e7139"/>
                </a:solidFill>
                <a:latin typeface="幼圆"/>
              </a:rPr>
              <a:t> 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【干涸】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指河道、池塘等水干了。本课指小溪枯竭。</a:t>
            </a:r>
            <a:r>
              <a:rPr b="1" lang="zh-CN" sz="800" spc="-1" strike="noStrike">
                <a:solidFill>
                  <a:srgbClr val="8e7139"/>
                </a:solidFill>
                <a:latin typeface="幼圆"/>
              </a:rPr>
              <a:t>　</a:t>
            </a:r>
            <a:r>
              <a:rPr b="1" lang="zh-CN" sz="800" spc="-1" strike="noStrike">
                <a:solidFill>
                  <a:srgbClr val="8e7139"/>
                </a:solidFill>
                <a:latin typeface="幼圆"/>
              </a:rPr>
              <a:t>　</a:t>
            </a:r>
            <a:r>
              <a:rPr b="1" lang="zh-CN" sz="800" spc="-1" strike="noStrike">
                <a:solidFill>
                  <a:srgbClr val="8e7139"/>
                </a:solidFill>
                <a:latin typeface="幼圆"/>
              </a:rPr>
              <a:t>　　</a:t>
            </a:r>
            <a:br>
              <a:rPr sz="800"/>
            </a:br>
            <a:r>
              <a:rPr b="1" lang="zh-CN" sz="800" spc="-1" strike="noStrike">
                <a:solidFill>
                  <a:srgbClr val="8e7139"/>
                </a:solidFill>
                <a:latin typeface="幼圆"/>
              </a:rPr>
              <a:t>　</a:t>
            </a:r>
            <a:r>
              <a:rPr b="1" lang="zh-CN" sz="800" spc="-1" strike="noStrike">
                <a:solidFill>
                  <a:srgbClr val="8e7139"/>
                </a:solidFill>
                <a:latin typeface="幼圆"/>
              </a:rPr>
              <a:t>　</a:t>
            </a:r>
            <a:endParaRPr b="1" lang="en-US" sz="8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40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800" spc="-1" strike="noStrike">
                <a:solidFill>
                  <a:srgbClr val="8e7139"/>
                </a:solidFill>
                <a:latin typeface="幼圆"/>
              </a:rPr>
              <a:t>　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【点缀】</a:t>
            </a:r>
            <a:br>
              <a:rPr sz="2400"/>
            </a:b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衬托、装饰，使更好看。本课指小溪使家乡的风景更好看。</a:t>
            </a:r>
            <a:br>
              <a:rPr sz="2400"/>
            </a:b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【野菊】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野生的菌类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【守望相助】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为防备外来的侵害，相邻各处协同守卫瞭望，遇警互相通报支援。本课指家乡的人们互相帮助、和睦相处的生活情景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自读课文，思考：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课文围绕家乡的哪些方面来写的？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课文围绕家乡的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小桥、流水、人家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来写，紧扣题目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课文写小桥、流水、人家，分别在哪些自然段？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               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</a:rPr>
              <a:t>段：写流水；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               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</a:rPr>
              <a:t>段：写小桥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;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               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</a:rPr>
              <a:t>6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</a:rPr>
              <a:t>段：写人家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e71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踏溪图：感受流水之</a:t>
            </a:r>
            <a:r>
              <a:rPr b="1" lang="zh-CN" sz="3200" spc="-1" strike="noStrike">
                <a:solidFill>
                  <a:srgbClr val="d60093"/>
                </a:solidFill>
                <a:latin typeface="华文中宋"/>
              </a:rPr>
              <a:t>动美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一条</a:t>
            </a:r>
            <a:r>
              <a:rPr b="1" lang="zh-CN" sz="2400" spc="-1" strike="noStrike">
                <a:solidFill>
                  <a:srgbClr val="ff99ff"/>
                </a:solidFill>
                <a:latin typeface="幼圆"/>
              </a:rPr>
              <a:t>清澈见底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的小溪，终年</a:t>
            </a:r>
            <a:r>
              <a:rPr b="1" lang="zh-CN" sz="2400" spc="-1" strike="noStrike">
                <a:solidFill>
                  <a:srgbClr val="ff99ff"/>
                </a:solidFill>
                <a:latin typeface="幼圆"/>
              </a:rPr>
              <a:t>潺潺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地</a:t>
            </a:r>
            <a:r>
              <a:rPr b="1" lang="zh-CN" sz="2400" spc="-1" strike="noStrike">
                <a:solidFill>
                  <a:srgbClr val="ff99ff"/>
                </a:solidFill>
                <a:latin typeface="幼圆"/>
              </a:rPr>
              <a:t>环绕着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村庄。溪的两边，种着几棵垂柳，那长长的柔软的柳枝，随风飘动着。</a:t>
            </a:r>
            <a:r>
              <a:rPr b="1" lang="zh-CN" sz="2400" spc="-1" strike="noStrike">
                <a:solidFill>
                  <a:srgbClr val="afb2b4"/>
                </a:solidFill>
                <a:latin typeface="幼圆"/>
              </a:rPr>
              <a:t>婀娜的舞姿，是那么美，那么自然。</a:t>
            </a: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有两三枝特别长的，垂在水面上，画着粼粼的波纹。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当水鸟站在它的腰上歌唱时，流水也唱和着，发出悦耳的声音。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8e7139"/>
                </a:solidFill>
                <a:latin typeface="幼圆"/>
              </a:rPr>
              <a:t>这里写出了溪水什么特点？溪水周围的景物呢？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64000" y="1917720"/>
            <a:ext cx="32004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afb2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71520" y="1273320"/>
            <a:ext cx="41400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8e7139"/>
                </a:solidFill>
                <a:latin typeface="幼圆"/>
              </a:rPr>
              <a:t>是呀，溪水清澈见底，垂柳依依多情，水鸟甜甜吟唱，好一派乡村美景图。</a:t>
            </a:r>
            <a:endParaRPr b="1" lang="en-US" sz="20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6804" r="6562" b="0"/>
          <a:stretch/>
        </p:blipFill>
        <p:spPr>
          <a:xfrm>
            <a:off x="5076720" y="1701720"/>
            <a:ext cx="35244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2:45:05Z</dcterms:created>
  <dc:creator>Administrator</dc:creator>
  <dc:description/>
  <dc:language>en-US</dc:language>
  <cp:lastModifiedBy/>
  <dcterms:modified xsi:type="dcterms:W3CDTF">2015-08-19T03:02:21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