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760-BA12-46D6-A295-6DC2BDB6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69A-D343-4A3B-8055-D6BDECD3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330-9488-4CE2-AB69-B6F128C8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44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16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44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766-C899-4C2B-A716-3B106C71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C3D0-FA93-46CE-B700-85328E9D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9837-7A93-471A-908F-A291D33D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A629-CA01-4A43-BC06-D6B6F2DC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C238-C272-49FA-8CF2-CAF57390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443E-33B1-410B-A425-077E3BB8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71160" y="452160"/>
            <a:ext cx="8435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EA39-E771-4DF3-A279-2CB82ED8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7357-3CB8-42FE-BE1A-4F3A3A37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57B-B683-4B9E-B8B2-E30A70B4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980A-F230-4493-8428-FBBC42E2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A46B-C580-4040-B32E-87994872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2438-30D6-40E6-97FA-C268C84F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7C0A-0BC7-4032-9979-0D3B59C6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44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7116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44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8BB2-E193-42AA-8FEF-5A79462C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121DD-F87B-4F30-9E01-E0178ABA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169D-727F-4B1F-BBF4-2F78786E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45FDE-CD82-44B8-B875-866C16FE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E7150-A7E3-42B0-AE45-029CC920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BAE88-78C9-4FE8-9904-C174B0CD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5F2-3303-4138-8D1F-96473020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71160" y="452160"/>
            <a:ext cx="8435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8D20-A6C4-46AA-9E2E-A63DB6D1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0B1EA-35EF-4A87-8C9B-CEFCD7AE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27F76-55EC-4C1B-911E-EA2560C8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945AE-EFC7-4539-A767-EA075E04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71F4B-1A32-4216-9745-AEDF2D40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95534-CADA-4446-A12E-BEF6A863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344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08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7116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344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08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C0A03-E33E-47EB-B265-913A8D25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ACBE3-64A5-4755-8234-C50C2BF1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1107A-C06E-4894-ACF4-B24FDEA0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44375-3D13-4594-B120-1C49BC11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816-25A4-4B60-9644-C2B73B01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C603D-9274-4E0B-ABEF-3CCF0326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C38EF-7AD6-489B-B4C5-557E836F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71160" y="452160"/>
            <a:ext cx="8435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53C50-9624-49DE-B56E-A00D9BCA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B186E-709F-4C65-ACF2-0C86C9A5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1FAF0-7E62-47E0-BD37-52DC6FA3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AD2CC-59E2-4DC7-A815-6DD3F68B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EF7D7-1D92-477F-858C-2CBA3D5F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E6E6C-8C61-4629-B758-C640B224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2344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08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7116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2344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08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6BA98-FA7A-4585-91D2-E4FA0553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52B57-691C-40C7-B495-C6153388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587-D028-4C6A-936B-A1D49965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AB17E-A5D8-4C9D-99EF-F5380CED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32FED-623E-4FD4-9458-1A4550BF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48E0C-E59E-410B-997F-0514A8CF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EA997-2672-484F-8D58-02B709C7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71160" y="452160"/>
            <a:ext cx="8435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70F42-BD8E-454F-A179-A0EC8032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1279F-4254-4960-9F3F-7F7822E1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717BE-8EF7-4C5D-8E1D-16B9FEAF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51CAD-B4CA-4CE2-A58C-FC02346B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BFFAD-723F-46A8-8391-47762192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FFC41-4F20-4CFF-BB93-60F41D9C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1160" y="452160"/>
            <a:ext cx="8435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609-ED90-49B5-B634-EE4E6F84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2344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08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7116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2344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08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2A7AF-9861-4D6D-BF75-878FDA77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8DE-EB3F-498E-9EAD-A4D177EC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60F-1FDE-47AF-AEEA-E9C48345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79D-D002-4598-B40A-51DDDD64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92A8-0301-4819-B812-54CCA7A7D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60B5-36FF-4F77-8E09-453D40349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6C1E-6D79-40BA-AF68-EE922EB64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40840" cy="7010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628200" y="643680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029040" y="6478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457680" y="643680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9EE9-F3BD-4732-B531-F5E827B574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a49e9c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8e7139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40840" cy="70102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14"/>
          </p:nvPr>
        </p:nvSpPr>
        <p:spPr>
          <a:xfrm>
            <a:off x="3124080" y="6252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F2BC-CEB1-4194-AB8A-5D8AE238DF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title"/>
          </p:nvPr>
        </p:nvSpPr>
        <p:spPr>
          <a:xfrm>
            <a:off x="671400" y="283644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8e7139"/>
                </a:solidFill>
                <a:latin typeface="华文中宋"/>
              </a:rPr>
              <a:t>Click to edit the title text format</a:t>
            </a:r>
            <a:endParaRPr b="1" lang="en-US" sz="4400" spc="-1" strike="noStrike">
              <a:solidFill>
                <a:srgbClr val="8e7139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G:\&#21628;&#22768;\&#35838;&#20214;1\&#35753;&#19990;&#30028;&#20805;&#28385;&#29233; .mp3" TargetMode="External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26920" y="1989000"/>
            <a:ext cx="6769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黑体"/>
              </a:rPr>
              <a:t>一个中国孩子的呼声</a:t>
            </a:r>
            <a:endParaRPr b="1" lang="en-US" sz="24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736280" y="2289240"/>
            <a:ext cx="567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啊！我听见了，妈妈听见了，在场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叔叔阿姨听见了，全世界都听见了，他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唤的是：和平！和平！和平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736280" y="2289240"/>
            <a:ext cx="567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啊！我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听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了，妈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听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了，在场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叔叔阿姨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听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了，全世界都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听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了，他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唤的是：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和平！和平！和平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24000" y="2924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世界并不太平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不少地区还弥漫着战争的硝烟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罪恶的子弹还威胁着娇嫩的“和平之花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765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5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年前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全世界人民用生命和鲜血赢得了反法西斯战争的胜利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但是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5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年后的今天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和平之神并没有永驻人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042920" y="566100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伊拉克和伊朗爆发了长达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的战争。</a:t>
            </a: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20000" cy="5049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95280" y="5805360"/>
            <a:ext cx="520560" cy="5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0.0)">
                                      <p:cBhvr>
                                        <p:cTn id="76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403520" y="59500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阿富汗长期内乱，人们不得不远走他乡。</a:t>
            </a:r>
            <a:r>
              <a:rPr b="0" lang="en-US" sz="1800" spc="-1" strike="noStrike">
                <a:solidFill>
                  <a:srgbClr val="43454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KSO_BC1" descr=""/>
          <p:cNvPicPr/>
          <p:nvPr/>
        </p:nvPicPr>
        <p:blipFill>
          <a:blip r:embed="rId1"/>
          <a:stretch/>
        </p:blipFill>
        <p:spPr>
          <a:xfrm>
            <a:off x="539640" y="396720"/>
            <a:ext cx="8282160" cy="533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993080" cy="5589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542400" y="59500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战争让他永远地失去了双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9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KSO_BC1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7343640" cy="5904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8121960" y="1557360"/>
            <a:ext cx="455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172360" cy="56847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483360" y="5964120"/>
            <a:ext cx="307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妈——妈——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507760" y="587700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战争让大批儿童无家可归，无学可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42920" y="33577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4547"/>
                </a:solidFill>
                <a:latin typeface="宋体"/>
              </a:rPr>
              <a:t>zhēnɡ       w</a:t>
            </a:r>
            <a:r>
              <a:rPr b="1" lang="en-US" sz="3600" spc="-1" strike="noStrike">
                <a:solidFill>
                  <a:srgbClr val="434547"/>
                </a:solidFill>
                <a:latin typeface="宋体"/>
              </a:rPr>
              <a:t>à</a:t>
            </a:r>
            <a:r>
              <a:rPr b="1" lang="zh-CN" sz="3600" spc="-1" strike="noStrike">
                <a:solidFill>
                  <a:srgbClr val="434547"/>
                </a:solidFill>
                <a:latin typeface="宋体"/>
              </a:rPr>
              <a:t>n        nín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4149720"/>
            <a:ext cx="70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征</a:t>
            </a:r>
            <a:r>
              <a:rPr b="1" lang="zh-CN" sz="4000" spc="-1" strike="noStrike">
                <a:solidFill>
                  <a:srgbClr val="434547"/>
                </a:solidFill>
                <a:latin typeface="宋体"/>
              </a:rPr>
              <a:t>衣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腕</a:t>
            </a:r>
            <a:r>
              <a:rPr b="1" lang="zh-CN" sz="4000" spc="-1" strike="noStrike">
                <a:solidFill>
                  <a:srgbClr val="434547"/>
                </a:solidFill>
                <a:latin typeface="Times New Roman"/>
              </a:rPr>
              <a:t>上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凝</a:t>
            </a:r>
            <a:r>
              <a:rPr b="1" lang="zh-CN" sz="4000" spc="-1" strike="noStrike">
                <a:solidFill>
                  <a:srgbClr val="434547"/>
                </a:solidFill>
                <a:latin typeface="Times New Roman"/>
              </a:rPr>
              <a:t>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1268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34547"/>
                </a:solidFill>
                <a:latin typeface="宋体"/>
              </a:rPr>
              <a:t>xī shēnɡ</a:t>
            </a:r>
            <a:r>
              <a:rPr b="0" lang="en-US" sz="3600" spc="-1" strike="noStrike">
                <a:solidFill>
                  <a:srgbClr val="434547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434547"/>
                </a:solidFill>
                <a:latin typeface="宋体"/>
              </a:rPr>
              <a:t>jǐ</a:t>
            </a:r>
            <a:r>
              <a:rPr b="0" lang="en-US" sz="3600" spc="-1" strike="noStrike">
                <a:solidFill>
                  <a:srgbClr val="434547"/>
                </a:solidFill>
                <a:latin typeface="宋体"/>
              </a:rPr>
              <a:t>        </a:t>
            </a:r>
            <a:r>
              <a:rPr b="1" lang="en-US" sz="3600" spc="-1" strike="noStrike">
                <a:solidFill>
                  <a:srgbClr val="434547"/>
                </a:solidFill>
                <a:latin typeface="宋体"/>
              </a:rPr>
              <a:t>zhu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19890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牺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牲       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给</a:t>
            </a:r>
            <a:r>
              <a:rPr b="1" lang="zh-CN" sz="4000" spc="-1" strike="noStrike">
                <a:solidFill>
                  <a:srgbClr val="434547"/>
                </a:solidFill>
                <a:latin typeface="宋体"/>
              </a:rPr>
              <a:t>予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卓</a:t>
            </a:r>
            <a:r>
              <a:rPr b="1" lang="zh-CN" sz="4000" spc="-1" strike="noStrike">
                <a:solidFill>
                  <a:srgbClr val="434547"/>
                </a:solidFill>
                <a:latin typeface="宋体"/>
              </a:rPr>
              <a:t>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8360" y="549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547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阿富汗战争让无数的妇女、儿童无家可归；车臣恐怖分子绑架人质案，让三百多名人质死于非命；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美国纽约世贸大厦被飞机撞毁，死亡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00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多人；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长达八年的两伊战争双方死亡五十几万人，至今仍是硝烟弥漫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893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45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          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战争让无数人失去了生命。据不完全统计，第一次世界大战持续了</a:t>
            </a: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4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年</a:t>
            </a: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3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个月，有</a:t>
            </a:r>
            <a:r>
              <a:rPr b="1" lang="en-US" sz="2800" spc="-1" strike="noStrike">
                <a:solidFill>
                  <a:srgbClr val="ff3300"/>
                </a:solidFill>
                <a:latin typeface="幼圆"/>
              </a:rPr>
              <a:t>33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个国家参战，卷入战争人口达</a:t>
            </a:r>
            <a:r>
              <a:rPr b="1" lang="en-US" sz="2800" spc="-1" strike="noStrike">
                <a:solidFill>
                  <a:srgbClr val="ff3300"/>
                </a:solidFill>
                <a:latin typeface="幼圆"/>
              </a:rPr>
              <a:t>15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</a:rPr>
              <a:t>亿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以上，军民伤亡</a:t>
            </a:r>
            <a:r>
              <a:rPr b="1" lang="en-US" sz="2800" spc="-1" strike="noStrike">
                <a:solidFill>
                  <a:srgbClr val="ff3300"/>
                </a:solidFill>
                <a:latin typeface="幼圆"/>
              </a:rPr>
              <a:t>3000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</a:rPr>
              <a:t>多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人。第二次世界大战历时</a:t>
            </a: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6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年之久，先后有</a:t>
            </a:r>
            <a:r>
              <a:rPr b="1" lang="en-US" sz="2800" spc="-1" strike="noStrike">
                <a:solidFill>
                  <a:srgbClr val="ff3300"/>
                </a:solidFill>
                <a:latin typeface="幼圆"/>
              </a:rPr>
              <a:t>60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</a:rPr>
              <a:t>多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个国家和地区参战，</a:t>
            </a:r>
            <a:r>
              <a:rPr b="1" lang="en-US" sz="2800" spc="-1" strike="noStrike">
                <a:solidFill>
                  <a:srgbClr val="ff3300"/>
                </a:solidFill>
                <a:latin typeface="幼圆"/>
              </a:rPr>
              <a:t>20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</a:rPr>
              <a:t>多亿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人卷入战争，死亡</a:t>
            </a:r>
            <a:r>
              <a:rPr b="1" lang="en-US" sz="2800" spc="-1" strike="noStrike">
                <a:solidFill>
                  <a:srgbClr val="ff3300"/>
                </a:solidFill>
                <a:latin typeface="幼圆"/>
              </a:rPr>
              <a:t>7000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</a:rPr>
              <a:t>多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人。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145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          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现代战争给人类造成的破坏更巨大。联合国儿童基金会</a:t>
            </a: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2003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年报告，自</a:t>
            </a: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1990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年至</a:t>
            </a:r>
            <a:r>
              <a:rPr b="1" lang="en-US" sz="2800" spc="-1" strike="noStrike">
                <a:solidFill>
                  <a:srgbClr val="8e7139"/>
                </a:solidFill>
                <a:latin typeface="幼圆"/>
              </a:rPr>
              <a:t>2003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年，因为战争，世界有</a:t>
            </a:r>
            <a:r>
              <a:rPr b="1" lang="en-US" sz="2800" spc="-1" strike="noStrike">
                <a:solidFill>
                  <a:srgbClr val="ff3300"/>
                </a:solidFill>
                <a:latin typeface="幼圆"/>
              </a:rPr>
              <a:t>200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</a:rPr>
              <a:t>万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儿童死亡，</a:t>
            </a:r>
            <a:r>
              <a:rPr b="1" lang="en-US" sz="2800" spc="-1" strike="noStrike">
                <a:solidFill>
                  <a:srgbClr val="ff3300"/>
                </a:solidFill>
                <a:latin typeface="幼圆"/>
              </a:rPr>
              <a:t>600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</a:rPr>
              <a:t>万</a:t>
            </a:r>
            <a:r>
              <a:rPr b="1" lang="zh-CN" sz="2800" spc="-1" strike="noStrike">
                <a:solidFill>
                  <a:srgbClr val="8e7139"/>
                </a:solidFill>
                <a:latin typeface="幼圆"/>
              </a:rPr>
              <a:t>儿童受伤或残疾。</a:t>
            </a:r>
            <a:endParaRPr b="1" lang="en-US" sz="2800" spc="-1" strike="noStrike">
              <a:solidFill>
                <a:srgbClr val="8e7139"/>
              </a:solidFill>
              <a:latin typeface="幼圆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50920" y="335772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世界并不太平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不少地区还弥漫着战争的硝烟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罪恶的子弹还威胁着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娇嫩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“和平之花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1557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5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年后的今天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和平之神并没有永驻人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371680" y="177336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救救孩子们，要和平不要战争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9640" y="2852640"/>
            <a:ext cx="86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为了母亲不再失去儿子，为了妻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再失去丈夫，为了孩子不再失去父亲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全世界应该一致行动起来，维护和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制止战争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39640" y="2852640"/>
            <a:ext cx="86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母亲不再失去儿子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妻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再失去丈夫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孩子不再失去父亲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全世界应该一致行动起来，维护和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制止战争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71680" y="177336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救救孩子们，要和平不要战争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39760" y="4221000"/>
            <a:ext cx="178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9760" y="1628640"/>
            <a:ext cx="17807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母亲不再失去儿子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妻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再失去丈夫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孩子不再失去父亲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了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___________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了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_____________,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了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_____________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全世界应该一致行动起来，维护和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制止战争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62864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让那已经能够听到脚步声的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世纪，为战争敲响丧钟，让明天的世界真正成为充满阳光、鲜花和爱的人类家园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2"/>
          </p:cNvPr>
          <p:cNvSpPr/>
          <p:nvPr/>
        </p:nvSpPr>
        <p:spPr>
          <a:xfrm>
            <a:off x="7812000" y="5734080"/>
            <a:ext cx="647640" cy="431640"/>
          </a:xfrm>
          <a:custGeom>
            <a:avLst/>
            <a:gdLst>
              <a:gd name="textAreaLeft" fmla="*/ 27000 w 647640"/>
              <a:gd name="textAreaRight" fmla="*/ 621000 w 647640"/>
              <a:gd name="textAreaTop" fmla="*/ 27000 h 431640"/>
              <a:gd name="textAreaBottom" fmla="*/ 40500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50" y="1350"/>
                </a:lnTo>
                <a:lnTo>
                  <a:pt x="1350" y="135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50" y="20250"/>
                </a:lnTo>
                <a:lnTo>
                  <a:pt x="31050" y="135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50" y="2025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400" h="21600">
                <a:moveTo>
                  <a:pt x="9156" y="8394"/>
                </a:moveTo>
                <a:lnTo>
                  <a:pt x="13610" y="8394"/>
                </a:lnTo>
                <a:lnTo>
                  <a:pt x="18055" y="3756"/>
                </a:lnTo>
                <a:lnTo>
                  <a:pt x="18055" y="17844"/>
                </a:lnTo>
                <a:lnTo>
                  <a:pt x="13610" y="13206"/>
                </a:lnTo>
                <a:lnTo>
                  <a:pt x="9156" y="13206"/>
                </a:lnTo>
                <a:close/>
              </a:path>
              <a:path fill="darken" w="32400" h="21600">
                <a:moveTo>
                  <a:pt x="19718" y="10800"/>
                </a:moveTo>
                <a:lnTo>
                  <a:pt x="23244" y="10800"/>
                </a:lnTo>
              </a:path>
              <a:path fill="darken" w="32400" h="21600">
                <a:moveTo>
                  <a:pt x="19718" y="8394"/>
                </a:moveTo>
                <a:lnTo>
                  <a:pt x="23244" y="5611"/>
                </a:lnTo>
              </a:path>
              <a:path fill="darken" w="32400" h="21600">
                <a:moveTo>
                  <a:pt x="19718" y="13206"/>
                </a:moveTo>
                <a:lnTo>
                  <a:pt x="23244" y="15989"/>
                </a:lnTo>
              </a:path>
            </a:pathLst>
          </a:custGeom>
          <a:solidFill>
            <a:srgbClr val="8e71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8388360" y="558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0" y="333360"/>
            <a:ext cx="899964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和平日寄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国际和平日 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日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当我走过你的身边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愿带走你的笑脸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心中没有一点阴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阳光变得更加鲜艳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希望会有那么一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再也没有眼泪仇怨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再也没有流血离散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共有一个美丽家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太阳在不停地旋转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自古就从没有改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宇宙那无边的情怀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拥抱着我们的心愿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但愿会有那么一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大海将把沙漠染蓝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让和平的福音传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以微笑来面对祖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75785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826920" y="1628640"/>
            <a:ext cx="7632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牺牲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凯</a:t>
            </a:r>
            <a:r>
              <a:rPr b="1" lang="zh-CN" sz="4400" spc="-1" strike="noStrike">
                <a:solidFill>
                  <a:srgbClr val="434547"/>
                </a:solidFill>
                <a:latin typeface="Times New Roman"/>
              </a:rPr>
              <a:t>旋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征</a:t>
            </a:r>
            <a:r>
              <a:rPr b="1" lang="zh-CN" sz="4400" spc="-1" strike="noStrike">
                <a:solidFill>
                  <a:srgbClr val="434547"/>
                </a:solidFill>
                <a:latin typeface="Times New Roman"/>
              </a:rPr>
              <a:t>衣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阿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4547"/>
                </a:solidFill>
                <a:latin typeface="Times New Roman"/>
              </a:rPr>
              <a:t>经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济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贡</a:t>
            </a:r>
            <a:r>
              <a:rPr b="1" lang="zh-CN" sz="4400" spc="-1" strike="noStrike">
                <a:solidFill>
                  <a:srgbClr val="434547"/>
                </a:solidFill>
                <a:latin typeface="Times New Roman"/>
              </a:rPr>
              <a:t>献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圣</a:t>
            </a:r>
            <a:r>
              <a:rPr b="1" lang="zh-CN" sz="4400" spc="-1" strike="noStrike">
                <a:solidFill>
                  <a:srgbClr val="434547"/>
                </a:solidFill>
                <a:latin typeface="Times New Roman"/>
              </a:rPr>
              <a:t>坛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434547"/>
                </a:solidFill>
                <a:latin typeface="Times New Roman"/>
              </a:rPr>
              <a:t>永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罪恶       健康       </a:t>
            </a:r>
            <a:r>
              <a:rPr b="1" lang="zh-CN" sz="4400" spc="-1" strike="noStrike">
                <a:solidFill>
                  <a:srgbClr val="434547"/>
                </a:solidFill>
                <a:latin typeface="Times New Roman"/>
              </a:rPr>
              <a:t>卓越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434547"/>
                </a:solidFill>
                <a:latin typeface="Times New Roman"/>
              </a:rPr>
              <a:t>凝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55640" y="105264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434547"/>
                </a:solidFill>
                <a:latin typeface="宋体"/>
              </a:rPr>
              <a:t>鲜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血</a:t>
            </a:r>
            <a:r>
              <a:rPr b="1" lang="en-US" sz="4000" spc="-1" strike="noStrike">
                <a:solidFill>
                  <a:srgbClr val="434547"/>
                </a:solidFill>
                <a:latin typeface="宋体"/>
              </a:rPr>
              <a:t>(    )</a:t>
            </a:r>
            <a:r>
              <a:rPr b="1" lang="zh-CN" sz="4000" spc="-1" strike="noStrike">
                <a:solidFill>
                  <a:srgbClr val="434547"/>
                </a:solidFill>
                <a:latin typeface="宋体"/>
              </a:rPr>
              <a:t>染</a:t>
            </a:r>
            <a:r>
              <a:rPr b="1" lang="en-US" sz="4000" spc="-1" strike="noStrike">
                <a:solidFill>
                  <a:srgbClr val="434547"/>
                </a:solidFill>
                <a:latin typeface="宋体"/>
              </a:rPr>
              <a:t>(rǎn)</a:t>
            </a:r>
            <a:r>
              <a:rPr b="1" lang="zh-CN" sz="4000" spc="-1" strike="noStrike">
                <a:solidFill>
                  <a:srgbClr val="434547"/>
                </a:solidFill>
                <a:latin typeface="宋体"/>
              </a:rPr>
              <a:t>红了他的征衣，腕上的手表浸满了凝固的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血</a:t>
            </a:r>
            <a:r>
              <a:rPr b="1" lang="en-US" sz="4000" spc="-1" strike="noStrike">
                <a:solidFill>
                  <a:srgbClr val="434547"/>
                </a:solidFill>
                <a:latin typeface="宋体"/>
              </a:rPr>
              <a:t>(    )</a:t>
            </a:r>
            <a:r>
              <a:rPr b="1" lang="zh-CN" sz="4000" spc="-1" strike="noStrike">
                <a:solidFill>
                  <a:srgbClr val="434547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3645000"/>
            <a:ext cx="83167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黑体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黑体"/>
                <a:ea typeface="黑体"/>
              </a:rPr>
              <a:t>血：①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xu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è</a:t>
            </a:r>
            <a:r>
              <a:rPr b="1" lang="zh-CN" sz="2400" spc="-1" strike="noStrike">
                <a:solidFill>
                  <a:srgbClr val="434547"/>
                </a:solidFill>
                <a:latin typeface="黑体"/>
                <a:ea typeface="黑体"/>
              </a:rPr>
              <a:t>，用于复音词及成语，如“血液”、“呕心沥血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434547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xi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ě</a:t>
            </a:r>
            <a:r>
              <a:rPr b="1" lang="zh-CN" sz="2400" spc="-1" strike="noStrike">
                <a:solidFill>
                  <a:srgbClr val="434547"/>
                </a:solidFill>
                <a:latin typeface="黑体"/>
                <a:ea typeface="黑体"/>
              </a:rPr>
              <a:t>，多单用，如“流了点儿血”；也多用于口语，如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黑体"/>
                <a:ea typeface="黑体"/>
              </a:rPr>
              <a:t>    “</a:t>
            </a:r>
            <a:r>
              <a:rPr b="1" lang="zh-CN" sz="2400" spc="-1" strike="noStrike">
                <a:solidFill>
                  <a:srgbClr val="434547"/>
                </a:solidFill>
                <a:latin typeface="黑体"/>
                <a:ea typeface="黑体"/>
              </a:rPr>
              <a:t>鸡血”、“血块子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1125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xu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è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92360" y="227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xi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0920" y="44370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434547"/>
                </a:solidFill>
                <a:latin typeface="Times New Roman"/>
                <a:ea typeface="黑体"/>
              </a:rPr>
              <a:t>联合国维和部队是</a:t>
            </a:r>
            <a:r>
              <a:rPr b="1" lang="zh-CN" sz="3200" spc="-1" strike="noStrike">
                <a:solidFill>
                  <a:srgbClr val="434547"/>
                </a:solidFill>
                <a:latin typeface="宋体"/>
                <a:ea typeface="黑体"/>
              </a:rPr>
              <a:t>一支跨国界的特种部队，活跃于国际上有冲突的地区，</a:t>
            </a:r>
            <a:r>
              <a:rPr b="1" lang="zh-CN" sz="3200" spc="-1" strike="noStrike">
                <a:solidFill>
                  <a:srgbClr val="434547"/>
                </a:solidFill>
                <a:latin typeface="Times New Roman"/>
                <a:ea typeface="黑体"/>
              </a:rPr>
              <a:t>是联合国维和行动的使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5000" b="24541"/>
          <a:stretch/>
        </p:blipFill>
        <p:spPr>
          <a:xfrm>
            <a:off x="468360" y="549360"/>
            <a:ext cx="4343400" cy="2913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rcRect l="6025" t="6476" r="-106" b="18291"/>
          <a:stretch/>
        </p:blipFill>
        <p:spPr>
          <a:xfrm>
            <a:off x="4933800" y="582480"/>
            <a:ext cx="4233960" cy="29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746520" cy="3213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rcRect l="0" t="0" r="827" b="7597"/>
          <a:stretch/>
        </p:blipFill>
        <p:spPr>
          <a:xfrm>
            <a:off x="2340000" y="3718080"/>
            <a:ext cx="4570560" cy="2849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50920" y="587700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Arial"/>
              </a:rPr>
              <a:t>正在执勤的女军官林小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51640" y="3645000"/>
            <a:ext cx="14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Arial"/>
              </a:rPr>
              <a:t>周有义与战友外出巡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3716280"/>
            <a:ext cx="197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34547"/>
                </a:solidFill>
                <a:latin typeface="Arial"/>
              </a:rPr>
              <a:t>为当地妇女治溃烂的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34547"/>
                </a:solidFill>
                <a:latin typeface="Arial"/>
              </a:rPr>
              <a:t>（中为詹生科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697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8e7139"/>
                </a:solidFill>
                <a:latin typeface="华文中宋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</a:rPr>
              <a:t>你认为小作者的爸爸是怎样一个人？你是从哪些句子体会到的，在文中画出来。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2852640"/>
            <a:ext cx="3889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66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出色的经济学硕士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63640" y="3645000"/>
            <a:ext cx="2952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66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卓越的观察员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63640" y="4437000"/>
            <a:ext cx="511200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66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保卫世界和平的伟大战士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763640" y="522936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66ff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可亲可敬的父亲</a:t>
            </a:r>
            <a:endParaRPr b="1" lang="en-US" sz="2400" spc="1" strike="noStrike">
              <a:ln w="19080">
                <a:solidFill>
                  <a:srgbClr val="0066ff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4360" y="155736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两年多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我们全家沉浸在失去亲人的巨大悲痛中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我至今都忘不了，爸爸临上飞机前注视着我和妈妈那深情的目光。他说：“孩子，等爸爸回来，我一定送你一顶‘蓝盔’。”我们与爸爸相约，等爸爸凯旋的那一天，我们要带着最美的鲜花迎接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50920" y="4005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染红了他的征衣，腕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(w</a:t>
            </a:r>
            <a:r>
              <a:rPr b="1" lang="en-US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à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n)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上的手表浸满了凝固的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0" t="0" r="2476" b="13052"/>
          <a:stretch/>
        </p:blipFill>
        <p:spPr>
          <a:xfrm>
            <a:off x="252360" y="692280"/>
            <a:ext cx="4635720" cy="31305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076720" y="549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现在这顶蓝盔回来了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但它是钉在爸爸的灵柩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434547"/>
                </a:solidFill>
                <a:latin typeface="宋体"/>
              </a:rPr>
              <a:t>ji</a:t>
            </a:r>
            <a:r>
              <a:rPr b="1" lang="en-US" sz="3200" spc="-1" strike="noStrike">
                <a:solidFill>
                  <a:srgbClr val="434547"/>
                </a:solidFill>
                <a:latin typeface="宋体"/>
              </a:rPr>
              <a:t>ù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上回来的。我们如约捧着鲜花，接到的却是爸爸那覆盖着国旗的遗体。</a:t>
            </a:r>
            <a:r>
              <a:rPr b="1" lang="zh-CN" sz="32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鲜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7164360" y="6093000"/>
            <a:ext cx="503280" cy="50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215014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05:56:45Z</dcterms:created>
  <dc:creator>Administrator</dc:creator>
  <dc:description/>
  <dc:language>en-US</dc:language>
  <cp:lastModifiedBy/>
  <dcterms:modified xsi:type="dcterms:W3CDTF">2015-08-20T02:25:58Z</dcterms:modified>
  <cp:revision>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