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jpeg" ContentType="image/jpeg"/>
  <Override PartName="/ppt/media/image8.jpeg" ContentType="image/jpeg"/>
  <Override PartName="/ppt/media/chimes.wav" ContentType="audio/x-wav"/>
  <Override PartName="/ppt/media/image2.jpeg" ContentType="image/jpeg"/>
  <Override PartName="/ppt/media/image3.png" ContentType="image/png"/>
  <Override PartName="/ppt/media/laser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01B-7418-47A7-9900-B0617DD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899-183E-445C-A19C-3FC822F1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E91-804E-4125-871B-687C90A9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BF2-D6C5-42EC-88AA-1C77F8FC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3A1B-9410-4AE7-AFAF-EB692875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1740-71DB-4AC9-BB1A-FABD9511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E95A-E0AA-47DF-ADAC-098A84C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5FBF-C318-4387-B262-1752297C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7B15-6D29-4FAA-B046-A210136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39D7-7CB1-4732-A9DA-4612930E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299-37A6-486A-A87B-D1C4B8C8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5D8-241F-4DA0-B0FF-059F1226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DFE-1EC9-41B3-928C-89064C6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9A12-FF4F-4540-A3EE-1545FF1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172-D934-4A0C-8D72-A9FCB475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6134-C622-437A-9BE8-1DF9A04A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1958-FBFA-4BAF-9BAC-94FC6857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689-AE85-437E-AB65-0395E96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2F8-7350-4C84-998A-002C7D92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3DA-6B60-43A8-8361-28C9CF0E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5B7-BF1A-4B3B-9C70-24AE5E9C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6C09-924E-4274-B3C6-5348824E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1AB-B24F-4AFD-8BF4-216AFE1A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4EB-A389-430F-8E24-CDAE5AC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9FCE-09A8-478F-875E-2D18B9D7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5E28-4974-4C41-8DF9-2D8ED3B2D8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0%EE%CB&#313;%E2%B5%C4&#892;&#428;&amp;in=13064&amp;cl=2&amp;lm=-1&amp;pn=2&amp;rn=1&amp;di=185026650&amp;ln=2000&amp;fr=ala0&amp;fmq=&amp;ic=&amp;s=&amp;se=&amp;sme=0&amp;tab=&amp;width=&amp;height=&amp;face=&amp;is=&amp;istype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奇怪的大石头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09768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-856440" y="3045600"/>
            <a:ext cx="5562720" cy="99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一块特别的石头</a:t>
            </a:r>
            <a:endParaRPr b="0" i="1" lang="en-US" sz="6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028880" y="1950120"/>
            <a:ext cx="7372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第四纪冰川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约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250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万年前至今。在这个时期里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高纬度地区曾广泛发生了多次冰川作用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en-US" sz="2800" spc="-1" strike="noStrike">
                <a:solidFill>
                  <a:srgbClr val="ff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气候也异常寒冷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人们将处于这个时期的冰川称为第四纪冰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1864800" y="9144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什么是第四纪冰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1295280" y="5562720"/>
            <a:ext cx="41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四纪冰川遗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--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云龙冰臼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Administrator\Desktop\图片11--四纪冰川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941560" y="5486400"/>
            <a:ext cx="30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第四纪冰川遗迹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庐山奇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01300000098168128884733441278[1]"/>
          <p:cNvPicPr/>
          <p:nvPr/>
        </p:nvPicPr>
        <p:blipFill>
          <a:blip r:embed="rId1"/>
          <a:stretch/>
        </p:blipFill>
        <p:spPr>
          <a:xfrm>
            <a:off x="0" y="0"/>
            <a:ext cx="91440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学习生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066680" y="182880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哄  爹  砸   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缠  甚  迹   遗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李四光"/>
          <p:cNvPicPr/>
          <p:nvPr/>
        </p:nvPicPr>
        <p:blipFill>
          <a:blip r:embed="rId1"/>
          <a:stretch/>
        </p:blipFill>
        <p:spPr>
          <a:xfrm>
            <a:off x="514440" y="531720"/>
            <a:ext cx="5424480" cy="55659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6369120" y="914400"/>
            <a:ext cx="10335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学了课文，你想对李四光爷爷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657440" y="1722960"/>
            <a:ext cx="6743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生活中，你遇到过特别感兴趣而又不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事情吗？提出来和同学交流交流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pet_icon_moc"/>
          <p:cNvPicPr/>
          <p:nvPr/>
        </p:nvPicPr>
        <p:blipFill>
          <a:blip r:embed="rId1"/>
          <a:stretch/>
        </p:blipFill>
        <p:spPr>
          <a:xfrm>
            <a:off x="514440" y="1295280"/>
            <a:ext cx="2361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332100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4480" y="1676520"/>
            <a:ext cx="1331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1143000" y="304920"/>
            <a:ext cx="8001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点击图像满屏显示，按任意键还原到实际大小"/>
          <p:cNvPicPr/>
          <p:nvPr/>
        </p:nvPicPr>
        <p:blipFill>
          <a:blip r:embed="rId1"/>
          <a:stretch/>
        </p:blipFill>
        <p:spPr>
          <a:xfrm>
            <a:off x="0" y="1030320"/>
            <a:ext cx="914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57120" y="531360"/>
            <a:ext cx="655308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宋体"/>
              </a:rPr>
              <a:t>作业超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搜集有关科学家的成长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拟订一份奋斗计划，看自己怎样做，才能向伟大的人靠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4572000" y="762120"/>
            <a:ext cx="412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李四光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889-197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是我国著名的地质学家。曾先后留学日本和英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李四光为我国的地质学做出了卓越的贡献。他是我国第四纪冰川的发现者和研究的奠基人。他提出的地质力学理论，在寻找我国石油等矿产资源方面起了重要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u=2639415214,742794719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990720"/>
            <a:ext cx="3306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奇怪的大石头1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09480" y="16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块特别的石头“特别”在哪里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851400" y="838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1257480" y="1478880"/>
            <a:ext cx="68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李四光对这块石头产生什么疑问呢？他问了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人？结果怎样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57480" y="30632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李四光长大后是怎么做的？回国后，又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1257480" y="609480"/>
            <a:ext cx="19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组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1905120" y="9684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445480" y="571500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北极科学家拍摄到的海上冰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xinsrc_36b22d769d9a40789acdf58db312145a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唐古拉山冰川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3416040" y="5638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唐古拉山冰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457200"/>
            <a:ext cx="85154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冰川的发生是因为极地或高山地区沿地面运动的巨大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体，由降落在雪线以上的大量积雪，在重力和巨大压力下形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冰川从源头处得到大量的冰补给，而这些冰融化得很慢，冰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本身就发育得又宽又深，往下流到高温处，冰补给少了，冰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也愈来愈小，直到冰的融化量和上游的补给量互相抵消。一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冰川为舌状，冰川面往往高低不平，有的地方有深的裂口，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宋体"/>
              </a:rPr>
              <a:t>冰隙。冰川可分为大陆冰川和山岳冰川两大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3086280" y="57150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美丽的冰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20:17Z</dcterms:created>
  <dc:creator>island</dc:creator>
  <dc:description/>
  <dc:language>en-US</dc:language>
  <cp:lastModifiedBy>Administrator</cp:lastModifiedBy>
  <dcterms:modified xsi:type="dcterms:W3CDTF">2015-10-27T02:25:10Z</dcterms:modified>
  <cp:revision>56</cp:revision>
  <dc:subject/>
  <dc:title>幻灯片 1</dc:title>
</cp:coreProperties>
</file>