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5.png" ContentType="image/png"/>
  <Override PartName="/ppt/media/image10.png" ContentType="image/png"/>
  <Override PartName="/ppt/media/image32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3EE-BDC1-4098-9B5F-64162233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4E5-9E55-42F3-A776-76A2C01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183-1E1A-4EEA-BE17-A61FCCA4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8D7-681B-461C-B1EA-A4BDB0C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923-F044-439E-96C7-864878C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058-B3FD-4CAC-8B11-F14C27BE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0F0-FB07-4337-AC12-080D9A5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2F4-10D7-465F-8C30-D74D36EA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135-0112-4FC5-AB7F-E4D637A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A34-64DC-4E8E-848F-1520073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616-DEBC-4248-BDA5-3DE9F57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459-3273-464B-BF95-E812B2FA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D0E5-EF6E-421C-9306-F0A42177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3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4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3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4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1096920" cy="1714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00800" y="3733920"/>
            <a:ext cx="113364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6294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105520" y="297180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705720" y="4495680"/>
            <a:ext cx="960480" cy="99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248520" y="5105520"/>
            <a:ext cx="20239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869080" y="4292640"/>
            <a:ext cx="1581120" cy="20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105520" y="2514600"/>
            <a:ext cx="799920" cy="105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248520" y="29718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791320" y="2666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562720" y="39625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952880" y="27432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0866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438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705720" y="5715000"/>
            <a:ext cx="822240" cy="66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6858000" y="2743200"/>
            <a:ext cx="8096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924680" y="533412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943600" y="342900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696080" y="4191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769608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8229600" y="4952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7467480" y="3581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7467480" y="5867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8153280" y="58672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4508640"/>
            <a:ext cx="525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路花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3645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1125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03280" y="3645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1125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当他们上山时，那只破水罐看见太阳正照着路旁美丽的鲜花，这美好的景象使它感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76360" y="2060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到了小路的尽头，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仍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伤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因为它又漏掉了一半的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836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没有注意吗？刚才那些美丽花儿只长在你这一边。那是因为我早知道你的裂缝，并且利用了它。我在你这一边撒下了花种 ，于是每天我们从小溪边回来的时候，你就浇灌了它们。两年中，我常摘下这些美丽的花，插在我主人的花瓶里 。如果没有你，主人哪能每天欣赏到美丽的花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836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没有注意吗？刚才那些美丽花儿只长在你这一边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是因为我早知道你的裂缝，并且利用了它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你这一边撒下了花种 ，于是每天我们从小溪边回来的时候，你就浇灌了它们。两年中，我常摘下这些美丽的花，插在我主人的花瓶里 。如果没有你，主人哪能每天欣赏到美丽的花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836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没有注意吗？刚才那些美丽花儿只长在你这一边。那是因为我早知道你的裂缝，并且利用了它。我在你这一边撒下了花种 ，于是每天我们从小溪边回来的时候，你就浇灌了它们。两年中，我常摘下这些美丽的花，插在我主人的花瓶里 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没有你，主人哪能每天欣赏到美丽的花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35640" y="5661000"/>
            <a:ext cx="55224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72360" y="5661000"/>
            <a:ext cx="55224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164360" y="5661000"/>
            <a:ext cx="55260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885080" y="5661000"/>
            <a:ext cx="552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836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没有注意吗？刚才那些美丽花儿只长在你这一边。那是因为我早知道你的裂缝，并且利用了它。我在你这一边撒下了花种 ，于是每天我们从小溪边回来的时候，你就浇灌了它们。两年中，我常摘下这些美丽的花，插在我主人的花瓶里 。如果没有你，主人哪能每天欣赏到美丽的花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35640" y="5661000"/>
            <a:ext cx="55224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372360" y="5661000"/>
            <a:ext cx="552240" cy="533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164360" y="5661000"/>
            <a:ext cx="55260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885080" y="5661000"/>
            <a:ext cx="552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00" y="-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92360" y="4149720"/>
            <a:ext cx="431640" cy="24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773360"/>
            <a:ext cx="475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破水罐转忧为喜，对挑水工说 ：“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360" y="-2700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314172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上每一件东西  、 每一个人都有自身存在的价值，我们既不能骄傲自大  ， 也不能妄自菲薄，只要恰到好处地利用自身的特点，就能发挥自己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1197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寓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627" b="2869"/>
          <a:stretch/>
        </p:blipFill>
        <p:spPr>
          <a:xfrm>
            <a:off x="0" y="44280"/>
            <a:ext cx="9086760" cy="6661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15573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对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86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1096920" cy="1714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3733920"/>
            <a:ext cx="113364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6294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105520" y="297180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705720" y="4495680"/>
            <a:ext cx="9604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248520" y="5105520"/>
            <a:ext cx="2023920" cy="140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943600" y="4267080"/>
            <a:ext cx="1581120" cy="201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5105520" y="2514600"/>
            <a:ext cx="799920" cy="1057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6248520" y="29718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5791320" y="2666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5562720" y="39625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4952880" y="27432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70866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75438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6705720" y="5715000"/>
            <a:ext cx="822240" cy="66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6858000" y="2743200"/>
            <a:ext cx="809640" cy="73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7924680" y="533412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>
            <a:off x="5943600" y="342900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0"/>
          <a:stretch/>
        </p:blipFill>
        <p:spPr>
          <a:xfrm>
            <a:off x="7696080" y="4191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1"/>
          <a:stretch/>
        </p:blipFill>
        <p:spPr>
          <a:xfrm>
            <a:off x="769608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2"/>
          <a:stretch/>
        </p:blipFill>
        <p:spPr>
          <a:xfrm>
            <a:off x="8229600" y="4952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3"/>
          <a:stretch/>
        </p:blipFill>
        <p:spPr>
          <a:xfrm>
            <a:off x="7467480" y="3581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4"/>
          <a:stretch/>
        </p:blipFill>
        <p:spPr>
          <a:xfrm>
            <a:off x="7467480" y="5867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5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6"/>
          <a:stretch/>
        </p:blipFill>
        <p:spPr>
          <a:xfrm>
            <a:off x="8153280" y="58672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4508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在这条芳香四溢的小路上曾发生过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7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36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404640"/>
            <a:ext cx="817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欣赏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你想成为太阳，可你却只是一颗星辰；            也许你想成为大树，可你却只是一株小草；            也许你想成为大河，可你却只是一泓山溪；            于是，你很自卑，                                                     很自卑的你必定以为命运在捉弄自己。                    其实，人何必这样：                                                 欣赏别人的时候，一切都好；                                  审视自己的时候，却总是很糟。                               做不了太阳，就做星辰，在自己的星座发光发热；     做不了大树，就做小草，以自己的绿色装点希望； 不必总是欣赏别人，也欣赏欣赏自己，                    你会发现：天空一样高远，大地一样宽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1268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2781360"/>
            <a:ext cx="5905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这篇课文编成课本剧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白了这则寓言告诉我们的道理，换个角度，换个眼光，到实际生活中找找自己或别人的长处，找回自信，共同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04000" y="476280"/>
            <a:ext cx="324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好的水罐总能把水满满地运到主人的家，而那只破损的水罐到达目的地时 ，里面只剩下半罐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989000"/>
            <a:ext cx="648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十分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惭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989000"/>
            <a:ext cx="648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只完好的水罐不禁为自己的成就感到骄傲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而那只有裂缝的水罐却感到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十分惭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6840" cy="724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413000"/>
            <a:ext cx="74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去两年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你到主人家的路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从我的裂缝中渗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只能运半罐水。你尽了自己的全力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却没有得到应有的回报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55" b="2741"/>
          <a:stretch/>
        </p:blipFill>
        <p:spPr>
          <a:xfrm>
            <a:off x="0" y="0"/>
            <a:ext cx="9139320" cy="6670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76360" y="1700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一丝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-107" b="1816"/>
          <a:stretch/>
        </p:blipFill>
        <p:spPr>
          <a:xfrm>
            <a:off x="0" y="0"/>
            <a:ext cx="9153360" cy="6734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76360" y="1700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美好的景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它感到一丝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645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125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上山时，那只破水罐看见太阳正照着路旁美丽的鲜花，这美好的景象使它感到一丝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2:02:18Z</dcterms:created>
  <dc:creator>Administrator</dc:creator>
  <dc:description/>
  <dc:language>en-US</dc:language>
  <cp:lastModifiedBy/>
  <dcterms:modified xsi:type="dcterms:W3CDTF">2016-04-26T02:02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