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hammer.wav" ContentType="audio/x-wav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34D-AF20-49A8-ACAF-BF76A926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48B-D929-43EB-B5E5-7C16ECB9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1B1-0C29-49E8-8EB9-F4701534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B42-AC90-4AE9-AAB5-C99B3F0E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7E61-31B5-4AAF-911D-4F49D33D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C004-5342-4575-81A4-0879ADDA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6FAE-6B25-494B-B0B2-66514B9B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949C-0E5D-4A22-98F8-DA29B57D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193E-7825-4E4E-98DF-C7AAA6C2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790E-0D0E-4376-9103-18211909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3C53-E725-4FE6-B137-FA7143A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330-427F-4526-BC19-A21B6FC2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67A1-4A02-4FA4-BCAD-1AC3826E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741D-8CFF-41EA-A97B-0F068D13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11B2-FEFE-4C68-8467-F179C556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701C-35C5-4493-8BC0-4938226F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4AEE-69F5-416C-9C74-C5E263B4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AFB-DC05-404D-9667-03366A67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BBC-A388-463A-8A42-CE897A5A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60C-7171-4719-832E-D5732B20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5A8-4A36-4C48-912D-1327FDED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9BA-D719-43FA-9360-E3431061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FBA-D210-48F0-B135-DD1D02AF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65E-8494-47B5-A9DC-7917375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9CFF-221D-45A1-ABCC-7859701BA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DD5D-CC5F-4F65-8435-4DD8381BB4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audio" Target="file:///tmp/home/.config/libreoffice/4/user/gallery/breeze.wav" TargetMode="External"/><Relationship Id="rId7" Type="http://schemas.microsoft.com/office/2007/relationships/media" Target="file:///tmp/home/.config/libreoffice/4/user/gallery/breeze.wav" TargetMode="External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912000" cy="28195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>
            <a:hlinkClick r:id="" action="ppaction://hlinkshowjump?jump=nextslide"/>
          </p:cNvPr>
          <p:cNvSpPr/>
          <p:nvPr/>
        </p:nvSpPr>
        <p:spPr>
          <a:xfrm>
            <a:off x="8459640" y="6165720"/>
            <a:ext cx="287640" cy="360360"/>
          </a:xfrm>
          <a:custGeom>
            <a:avLst/>
            <a:gdLst>
              <a:gd name="textAreaLeft" fmla="*/ 18000 w 287640"/>
              <a:gd name="textAreaRight" fmla="*/ 270000 w 287640"/>
              <a:gd name="textAreaTop" fmla="*/ 1800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54">
                <a:moveTo>
                  <a:pt x="0" y="0"/>
                </a:moveTo>
                <a:lnTo>
                  <a:pt x="21600" y="0"/>
                </a:lnTo>
                <a:lnTo>
                  <a:pt x="21600" y="27054"/>
                </a:lnTo>
                <a:lnTo>
                  <a:pt x="0" y="27054"/>
                </a:lnTo>
                <a:close/>
              </a:path>
              <a:path fill="lightenLess" w="21600" h="2705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54">
                <a:moveTo>
                  <a:pt x="21600" y="0"/>
                </a:moveTo>
                <a:lnTo>
                  <a:pt x="21600" y="27054"/>
                </a:lnTo>
                <a:lnTo>
                  <a:pt x="20250" y="25704"/>
                </a:lnTo>
                <a:lnTo>
                  <a:pt x="20250" y="1350"/>
                </a:lnTo>
                <a:close/>
              </a:path>
              <a:path fill="darkenLess" w="21600" h="27054">
                <a:moveTo>
                  <a:pt x="21600" y="27054"/>
                </a:moveTo>
                <a:lnTo>
                  <a:pt x="0" y="27054"/>
                </a:lnTo>
                <a:lnTo>
                  <a:pt x="1350" y="25704"/>
                </a:lnTo>
                <a:lnTo>
                  <a:pt x="20250" y="25704"/>
                </a:lnTo>
                <a:close/>
              </a:path>
              <a:path fill="lighten" w="21600" h="27054">
                <a:moveTo>
                  <a:pt x="0" y="27054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04"/>
                </a:lnTo>
                <a:close/>
              </a:path>
              <a:path fill="darken" w="21600" h="27054">
                <a:moveTo>
                  <a:pt x="3756" y="6483"/>
                </a:moveTo>
                <a:lnTo>
                  <a:pt x="17844" y="13527"/>
                </a:lnTo>
                <a:lnTo>
                  <a:pt x="3756" y="205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盖房"/>
          <p:cNvPicPr/>
          <p:nvPr/>
        </p:nvPicPr>
        <p:blipFill>
          <a:blip r:embed="rId2"/>
          <a:srcRect l="0" t="0" r="1965" b="11220"/>
          <a:stretch/>
        </p:blipFill>
        <p:spPr>
          <a:xfrm>
            <a:off x="108000" y="189000"/>
            <a:ext cx="4341600" cy="3044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割稻谷"/>
          <p:cNvPicPr/>
          <p:nvPr/>
        </p:nvPicPr>
        <p:blipFill>
          <a:blip r:embed="rId3"/>
          <a:srcRect l="-426" t="6243" r="2923" b="4365"/>
          <a:stretch/>
        </p:blipFill>
        <p:spPr>
          <a:xfrm>
            <a:off x="4500720" y="130320"/>
            <a:ext cx="4527360" cy="327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午餐"/>
          <p:cNvPicPr/>
          <p:nvPr/>
        </p:nvPicPr>
        <p:blipFill>
          <a:blip r:embed="rId4"/>
          <a:srcRect l="4864" t="1886" r="428" b="9770"/>
          <a:stretch/>
        </p:blipFill>
        <p:spPr>
          <a:xfrm>
            <a:off x="179280" y="3568680"/>
            <a:ext cx="4195800" cy="315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睡觉"/>
          <p:cNvPicPr/>
          <p:nvPr/>
        </p:nvPicPr>
        <p:blipFill>
          <a:blip r:embed="rId5"/>
          <a:srcRect l="0" t="-392" r="6175" b="22776"/>
          <a:stretch/>
        </p:blipFill>
        <p:spPr>
          <a:xfrm>
            <a:off x="4500720" y="3632040"/>
            <a:ext cx="4662360" cy="273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25236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7173720"/>
            <a:ext cx="82296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630864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68360" y="62064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积累名言警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24000" y="177336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君子爱财，取之有道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《增广昔时贤文》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11280" y="3645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粥一饭，当思来之不易；半丝半缕，恒念物力维艰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清）朱柏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68360" y="3789360"/>
            <a:ext cx="90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95280" y="51181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hammer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55600" y="1905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俭入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易，由奢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ē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入俭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4840" y="32767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勤俭永不穷，坐食山也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4572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道之财方可取，无道之财莫强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1676520"/>
            <a:ext cx="45720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说一说、写一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717408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5280" y="292428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通过这节课的学习，你有什么收获呢？请说一说并写下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flipV="1">
            <a:off x="324000" y="7285320"/>
            <a:ext cx="71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55640" y="981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老人一辈子辛勤劳动，省吃俭用把儿子养大成人。到自己年老了，见儿子还是这样，再也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受不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 flipV="1">
            <a:off x="3780000" y="699624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受不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他躺在床上，把妻子叫来（    ）地说：“把我们的财产随便给谁都行，就是不要给儿子，这懒鬼什么都不干，一文钱也挣不来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6857640"/>
            <a:ext cx="82296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116000" y="4508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生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411280" y="4508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 flipH="1">
            <a:off x="4501440" y="4508640"/>
            <a:ext cx="180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失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372360" y="450864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痛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儿子听了妈妈的话，走了，真的干了整整一个星期活。他帮着这个收割庄稼，又帮着那个盖房子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够了一枚金币，带回来交给爸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656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556000" y="220500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整整一个星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979640" y="2852640"/>
            <a:ext cx="317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收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 flipH="1">
            <a:off x="11628360" y="2565360"/>
            <a:ext cx="23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 flipV="1">
            <a:off x="10476000" y="4149000"/>
            <a:ext cx="100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5440" y="2860560"/>
            <a:ext cx="80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                                               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盖房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儿子受不了了，忙跑到炉前，用手从熊熊大火里把金币抓出来，大声叫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461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443640" y="1125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2637000"/>
            <a:ext cx="13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924360" y="2565360"/>
            <a:ext cx="259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492360" y="191628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熊熊大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050b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儿子受不了啦，忙</a:t>
            </a:r>
            <a:r>
              <a:rPr b="1" lang="zh-CN" sz="4000" spc="-1" strike="noStrike">
                <a:solidFill>
                  <a:srgbClr val="ef050b"/>
                </a:solidFill>
                <a:latin typeface="Arial"/>
              </a:rPr>
              <a:t>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炉前，</a:t>
            </a:r>
            <a:r>
              <a:rPr b="1" lang="zh-CN" sz="4000" spc="-1" strike="noStrike">
                <a:solidFill>
                  <a:srgbClr val="ef050b"/>
                </a:solidFill>
                <a:latin typeface="Arial"/>
              </a:rPr>
              <a:t>用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熊熊大火里把金币</a:t>
            </a:r>
            <a:r>
              <a:rPr b="1" lang="zh-CN" sz="4000" spc="-1" strike="noStrike">
                <a:solidFill>
                  <a:srgbClr val="ef050b"/>
                </a:solidFill>
                <a:latin typeface="Arial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来，</a:t>
            </a:r>
            <a:r>
              <a:rPr b="1" lang="zh-CN" sz="4000" spc="-1" strike="noStrike">
                <a:solidFill>
                  <a:srgbClr val="ef050b"/>
                </a:solidFill>
                <a:latin typeface="Arial"/>
              </a:rPr>
              <a:t>大声叫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“爸爸，你疯了！我替人家当牛做马，整整干了一个星期的苦差事，才挣来这枚金币！而你，却把它扔进火炉里去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8305920" y="6019920"/>
            <a:ext cx="433440" cy="433440"/>
          </a:xfrm>
          <a:custGeom>
            <a:avLst/>
            <a:gdLst>
              <a:gd name="textAreaLeft" fmla="*/ 27000 w 433440"/>
              <a:gd name="textAreaRight" fmla="*/ 406440 w 433440"/>
              <a:gd name="textAreaTop" fmla="*/ 27000 h 433440"/>
              <a:gd name="textAreaBottom" fmla="*/ 406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1332000" y="4402080"/>
            <a:ext cx="5544720" cy="2455560"/>
            <a:chOff x="1332000" y="4402080"/>
            <a:chExt cx="5544720" cy="2455560"/>
          </a:xfrm>
        </p:grpSpPr>
        <p:sp>
          <p:nvSpPr>
            <p:cNvPr id="160" name="AutoShape 5"/>
            <p:cNvSpPr/>
            <p:nvPr/>
          </p:nvSpPr>
          <p:spPr>
            <a:xfrm>
              <a:off x="1651680" y="4402080"/>
              <a:ext cx="5011200" cy="2455560"/>
            </a:xfrm>
            <a:custGeom>
              <a:avLst/>
              <a:gdLst>
                <a:gd name="textAreaLeft" fmla="*/ 0 w 5011200"/>
                <a:gd name="textAreaRight" fmla="*/ 5011560 w 5011200"/>
                <a:gd name="textAreaTop" fmla="*/ 638640 h 2455560"/>
                <a:gd name="textAreaBottom" fmla="*/ 1816920 h 245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"/>
            <p:cNvSpPr/>
            <p:nvPr/>
          </p:nvSpPr>
          <p:spPr>
            <a:xfrm>
              <a:off x="1332000" y="4789440"/>
              <a:ext cx="55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f050b"/>
                  </a:solidFill>
                  <a:latin typeface="Times New Roman"/>
                </a:rPr>
                <a:t>你认为怎样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f050b"/>
                  </a:solidFill>
                  <a:latin typeface="Times New Roman"/>
                </a:rPr>
                <a:t>最能体现儿子的受不了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7"/>
          <p:cNvSpPr/>
          <p:nvPr/>
        </p:nvSpPr>
        <p:spPr>
          <a:xfrm>
            <a:off x="2411280" y="5661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气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3851280" y="5661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委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92720" y="5661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指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时老人（   ）地说：“现在，我相信这是你自己挣来的钱了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6125760"/>
            <a:ext cx="822960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 flipH="1">
            <a:off x="1271520" y="3860640"/>
            <a:ext cx="16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高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276720" y="3860640"/>
            <a:ext cx="15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欣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364000" y="3860640"/>
            <a:ext cx="173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激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24000" y="476280"/>
            <a:ext cx="856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懒惰  辛勤  省吃俭用  辩解  筋疲力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头大汗  当牛做马   苦差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826920" y="1484280"/>
            <a:ext cx="80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围绕一枚金币写了一件什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24000" y="47628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记叙了一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儿子通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终于懂得金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故事，告诉人们要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挣钱，不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要珍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4365720"/>
            <a:ext cx="3888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71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原来是一个好吃懒做、不劳而获的人，后来变成了一个热爱劳动、自食其力的人。我相信，你一定会获得许多高强的劳动技能，为社会创造更多的劳动价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24000" y="765000"/>
          <a:ext cx="8496000" cy="5240160"/>
        </p:xfrm>
        <a:graphic>
          <a:graphicData uri="http://schemas.openxmlformats.org/drawingml/2006/table">
            <a:tbl>
              <a:tblPr/>
              <a:tblGrid>
                <a:gridCol w="622080"/>
                <a:gridCol w="2041560"/>
                <a:gridCol w="3816000"/>
                <a:gridCol w="201636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币的来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人怎样做，怎么说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儿子的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30"/>
          <p:cNvSpPr/>
          <p:nvPr/>
        </p:nvSpPr>
        <p:spPr>
          <a:xfrm>
            <a:off x="144360" y="155520"/>
            <a:ext cx="2195640" cy="393840"/>
          </a:xfrm>
          <a:custGeom>
            <a:avLst/>
            <a:gdLst>
              <a:gd name="textAreaLeft" fmla="*/ 548640 w 2195640"/>
              <a:gd name="textAreaRight" fmla="*/ 1647000 w 2195640"/>
              <a:gd name="textAreaTop" fmla="*/ 0 h 393840"/>
              <a:gd name="textAreaBottom" fmla="*/ 344880 h 393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2987640" y="2276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2"/>
          <p:cNvSpPr/>
          <p:nvPr/>
        </p:nvSpPr>
        <p:spPr>
          <a:xfrm>
            <a:off x="2987640" y="335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3"/>
          <p:cNvSpPr/>
          <p:nvPr/>
        </p:nvSpPr>
        <p:spPr>
          <a:xfrm>
            <a:off x="2987640" y="4508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24000" y="765000"/>
          <a:ext cx="8496000" cy="5240160"/>
        </p:xfrm>
        <a:graphic>
          <a:graphicData uri="http://schemas.openxmlformats.org/drawingml/2006/table">
            <a:tbl>
              <a:tblPr/>
              <a:tblGrid>
                <a:gridCol w="622080"/>
                <a:gridCol w="2041560"/>
                <a:gridCol w="3816000"/>
                <a:gridCol w="201636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币的来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人怎样做，怎么说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儿子的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妈妈给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扔进火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这不是你挣来的。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笑，走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妈妈给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扔进火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”</a:t>
                      </a: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这也不是你挣来的。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又笑、走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儿子自己挣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扔进火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这也不是你挣来的。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我相信这是你挣来的钱了。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跑、抓、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受不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30"/>
          <p:cNvSpPr/>
          <p:nvPr/>
        </p:nvSpPr>
        <p:spPr>
          <a:xfrm>
            <a:off x="144360" y="155520"/>
            <a:ext cx="2195640" cy="393840"/>
          </a:xfrm>
          <a:custGeom>
            <a:avLst/>
            <a:gdLst>
              <a:gd name="textAreaLeft" fmla="*/ 548640 w 2195640"/>
              <a:gd name="textAreaRight" fmla="*/ 1647000 w 2195640"/>
              <a:gd name="textAreaTop" fmla="*/ 0 h 393840"/>
              <a:gd name="textAreaBottom" fmla="*/ 344880 h 393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2987640" y="2276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2987640" y="335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2987640" y="4508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468360" y="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文中的儿子是一个什么的人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700280"/>
            <a:ext cx="8425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懒惰成性  花钱如流水 一事无成  不知道珍惜别人的劳动成果 被母亲娇惯成性 骗人 依赖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珍惜自己劳动成果  自食其力  爱劳动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9144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对文中的儿子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4600" y="256536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对那位老父亲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" y="4114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对那位母亲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5229360"/>
            <a:ext cx="597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16000" y="19890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儿子帮着这个收割庄稼，又帮着那个盖房子，还做了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WordArt 3" descr=""/>
          <p:cNvPicPr/>
          <p:nvPr/>
        </p:nvPicPr>
        <p:blipFill>
          <a:blip r:embed="rId2"/>
          <a:stretch/>
        </p:blipFill>
        <p:spPr>
          <a:xfrm>
            <a:off x="603360" y="139680"/>
            <a:ext cx="2584440" cy="1951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-1473120" y="3933720"/>
            <a:ext cx="964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干活时，儿子可能受了什么罪？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22:11Z</dcterms:created>
  <dc:creator>Administrator</dc:creator>
  <dc:description/>
  <dc:language>en-US</dc:language>
  <cp:lastModifiedBy/>
  <dcterms:modified xsi:type="dcterms:W3CDTF">2015-08-11T02:17:16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