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gif" ContentType="image/gif"/>
  <Override PartName="/ppt/media/image7.gif" ContentType="image/gif"/>
  <Override PartName="/ppt/media/image17.png" ContentType="image/png"/>
  <Override PartName="/ppt/media/image4.jpeg" ContentType="image/jpeg"/>
  <Override PartName="/ppt/media/image8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TYPE.WAV" ContentType="audio/x-wav"/>
  <Override PartName="/ppt/media/image6.jpeg" ContentType="image/jpeg"/>
  <Override PartName="/ppt/media/image11.jpeg" ContentType="image/jpeg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15C-B895-492E-85C1-FE4F8FCE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4BE-D2F2-4605-B907-80F6C3EE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1E9-0930-419A-ABFE-484D8A5D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4E7-8799-4B0D-8997-013ED3AD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9738-3114-4FDE-A6B9-5068C808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C1CA-AEC6-4DE6-9EB4-4ED257C3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2FEE-C3F9-43D2-99F5-48099BFE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7DE6-22A7-45EC-BFB0-38094D42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5057-86AE-4392-8694-4445B898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00CF-A821-4632-AD8D-CAEE0A3D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4C6F-EA19-4B60-A167-C5E063E1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7E6-0FCE-4BFA-98DC-0049AFD8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F481-0EDE-409C-AE48-1EE230EA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11DE-77D1-4AB4-B4CA-CE568F10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39C1-D39F-481E-9363-86C97DC8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7FD8-C849-45FE-9398-C6E67FE1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F736-1868-4CC2-B84F-896E5D1D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A7A-26D9-4D41-B631-BA1A25CA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9FD-B043-4266-B337-E829E624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092-67B1-40B5-B857-01D164E9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027-A38D-405F-9F84-6670FA8A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570-2585-4460-AFCB-C88EAF6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A09-E8B3-4770-8A82-5C2AC464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6A6-3DA8-4EB5-913F-F10C851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58F4-A2B0-45BF-8B01-4FF51821776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57E1-237E-4D69-A3FB-484AD66BD2E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19484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76520" y="1600200"/>
            <a:ext cx="57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月光曲</a:t>
            </a:r>
            <a:endParaRPr b="0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9640" y="836640"/>
            <a:ext cx="373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主要内容：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213372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课文主要写贝多芬在散步时听到盲姑娘兄妹的谈话，就给盲姑娘弹了一首钢琴曲，盲姑娘猜出他就是贝多芬，他又即兴为盲姑娘弹了一曲，并飞奔回客店连夜记录了下来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206856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                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一天夜晚，他在幽静的小路上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散步，听到断断续续的钢琴声从一所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茅屋里传出来，弹的正是他的曲子。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609480"/>
            <a:ext cx="914400" cy="8384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4191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。   。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。   。 。   。 。   。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9480" y="1600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29528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这首曲子多难弹啊！我只听别人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弹过几遍，总是记不住该怎样弹。要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是能听一听贝多芬自己是怎样弹的，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那有多好啊！”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2743200"/>
            <a:ext cx="7238880" cy="1676520"/>
            <a:chOff x="838080" y="2743200"/>
            <a:chExt cx="7238880" cy="1676520"/>
          </a:xfrm>
        </p:grpSpPr>
        <p:sp>
          <p:nvSpPr>
            <p:cNvPr id="199" name=""/>
            <p:cNvSpPr/>
            <p:nvPr/>
          </p:nvSpPr>
          <p:spPr>
            <a:xfrm>
              <a:off x="7543800" y="2743200"/>
              <a:ext cx="533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8080" y="3581280"/>
              <a:ext cx="7238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8080" y="4419720"/>
              <a:ext cx="2590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914400" y="533520"/>
            <a:ext cx="914400" cy="8380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4524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哥哥，你别难过，我不过随便说说罢了。”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4952880"/>
            <a:ext cx="7467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                                                        ————————————————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80880"/>
            <a:ext cx="853452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8   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一阵风把蜡烛吹灭了。月光照进窗子来，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茅屋里的一切好像披上了银纱，显得格外清幽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贝多芬望了望站在他身旁的穷兄妹俩，借着清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幽的月光，按起琴键来。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6324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4495680"/>
            <a:ext cx="81532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思考：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当时的环境怎样 ？ 用“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———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” 划出来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380880"/>
            <a:ext cx="853452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8   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一阵风把蜡烛吹灭了。月光照进窗子来，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茅屋里的一切好像披上了银纱，显得格外清幽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贝多芬望了望站在他身旁的穷兄妹俩，借着清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幽的月光，按起琴键来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6324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4197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思考：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当时的环境怎样？用              划出来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4724280"/>
            <a:ext cx="990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1676520"/>
            <a:ext cx="7010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438280"/>
            <a:ext cx="8153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5105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1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贝多芬还看到了什么？也用               划出来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486400"/>
            <a:ext cx="1143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80880"/>
            <a:ext cx="853452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8   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一阵风把蜡烛吹灭了。月光照进窗子来，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茅屋里的一切好像披上了银纱，显得格外清幽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贝多芬望了望站在他身旁的穷兄妹俩，借着清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幽的月光，按起琴键来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6324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44197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思考：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当时的环境怎样？用                划出来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4724280"/>
            <a:ext cx="990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1676520"/>
            <a:ext cx="7010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438280"/>
            <a:ext cx="8153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5105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51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贝多芬看到了什么？用                    划出来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5486400"/>
            <a:ext cx="12193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3124080"/>
            <a:ext cx="4114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3124080"/>
            <a:ext cx="3045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3886200"/>
            <a:ext cx="19047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783440" y="549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为什么贝多芬要给盲姑娘弹钢琴曲？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77336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答：贝多芬听到盲姑娘在弹他的曲子，十分渴望能听到他的演奏，可是家境贫苦，买不起音乐会的入场券，但她很懂事，体谅哥哥的难处。</a:t>
            </a:r>
            <a:r>
              <a:rPr b="1" lang="zh-CN" sz="4000" spc="-1" strike="noStrike" u="sng">
                <a:solidFill>
                  <a:srgbClr val="ffff66"/>
                </a:solidFill>
                <a:uFillTx/>
                <a:latin typeface="Times New Roman"/>
                <a:ea typeface="楷体_GB2312"/>
              </a:rPr>
              <a:t>他为这样贫苦的人在困苦的生活中仍然喜爱音乐、追求艺术所感动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，所以贝多芬决定亲自给盲姑娘弹钢琴曲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09480" y="1600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609480"/>
            <a:ext cx="914400" cy="8384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1693800"/>
            <a:ext cx="35812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弹得多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纯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啊！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感情多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哪！</a:t>
            </a:r>
            <a:r>
              <a:rPr b="1" lang="zh-CN" sz="2800" spc="-1" strike="noStrike" u="sng">
                <a:solidFill>
                  <a:srgbClr val="cc3399"/>
                </a:solidFill>
                <a:uFillTx/>
                <a:latin typeface="Times New Roman"/>
              </a:rPr>
              <a:t>您，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是贝多芬先生吧？”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352680" cy="5181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1773360"/>
            <a:ext cx="961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贝多芬弹完一首，为什么又弹一曲？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33577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答：贝多芬弹完一首，盲姑娘竟猜出他就是贝多芬。他见盲姑娘不仅爱音乐而且懂音乐，自己遇到了知音，于是即兴再为盲姑娘弹了一曲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80880"/>
            <a:ext cx="8534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一阵风把蜡烛吹灭了。月光照进窗子来，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茅屋里的一切好像披上了银纱，显得格外清幽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贝多芬望了望站在他身旁的穷兄妹俩，借着清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幽的月光，按起琴键来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324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733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思考：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当时的环境怎样？用                划出来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1676520"/>
            <a:ext cx="7010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5105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4495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贝多芬看到了什么？用                  划出来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800600"/>
            <a:ext cx="12193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518148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、贝多芬按起琴键来弹的是什么？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他弹的和他看到的有什么联系？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914400"/>
            <a:ext cx="6933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67652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2362320"/>
            <a:ext cx="3962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77320" y="2438280"/>
            <a:ext cx="3045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3200400"/>
            <a:ext cx="15242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038480"/>
            <a:ext cx="10670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52480" y="1143000"/>
            <a:ext cx="556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教学程序：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一）创设情境氛围，激发学生情感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1676520" y="990720"/>
            <a:ext cx="6248160" cy="3888720"/>
            <a:chOff x="1676520" y="990720"/>
            <a:chExt cx="6248160" cy="388872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3276360" y="990720"/>
              <a:ext cx="27633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676520" y="4419720"/>
              <a:ext cx="62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贝多芬（</a:t>
              </a:r>
              <a:r>
                <a:rPr b="1" lang="en-US" sz="24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1770——1827</a:t>
              </a:r>
              <a:r>
                <a:rPr b="1" lang="zh-CN" sz="2400" spc="-1" strike="noStrike">
                  <a:solidFill>
                    <a:srgbClr val="663300"/>
                  </a:solidFill>
                  <a:latin typeface="黑体"/>
                  <a:ea typeface="黑体"/>
                </a:rPr>
                <a:t>）德国伟大的音乐家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380880"/>
            <a:ext cx="8534160" cy="602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9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皮鞋匠静静地听着。他好像面对着大海，月光正从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水天相接的地方升起来。微波粼粼的海面上，霎时间洒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遍了银光。月亮越升越高，穿过一缕一缕轻纱似的微云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忽然，海面上刮起了大风，卷起了巨浪。被月光照得雪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亮的的浪花，一个连一个朝着岸边涌过来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······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皮鞋匠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看看妹妹，月光正照在她那恬静的脸上，照着她睁得大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大的眼睛。她仿佛也看到了，看到了她从来没有看到过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的景象，在月光照耀下的波涛汹涌的大海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380880"/>
            <a:ext cx="8534160" cy="5988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皮鞋匠静静地听着。他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好像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面对着大海，月光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正从水天相接的地方升起来。微波粼粼的海面上，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霎时间洒遍了银光。月亮越升越高，穿过一缕一缕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轻纱似的微云。忽然，海面上刮起了大风，卷起了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巨浪。被月光照得雪亮的的浪花，一个连一个朝着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岸边涌过来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······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4495680"/>
            <a:ext cx="8381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思考：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皮鞋匠听着琴声，好像看到了什么？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用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      划出来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他为什么会有这样的感觉？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181480"/>
            <a:ext cx="1068480" cy="150840"/>
          </a:xfrm>
          <a:custGeom>
            <a:avLst/>
            <a:gdLst/>
            <a:ahLst/>
            <a:rect l="l" t="t" r="r" b="b"/>
            <a:pathLst>
              <a:path w="673" h="95">
                <a:moveTo>
                  <a:pt x="0" y="32"/>
                </a:moveTo>
                <a:cubicBezTo>
                  <a:pt x="68" y="45"/>
                  <a:pt x="83" y="52"/>
                  <a:pt x="156" y="42"/>
                </a:cubicBezTo>
                <a:cubicBezTo>
                  <a:pt x="163" y="32"/>
                  <a:pt x="165" y="16"/>
                  <a:pt x="176" y="11"/>
                </a:cubicBezTo>
                <a:cubicBezTo>
                  <a:pt x="202" y="0"/>
                  <a:pt x="220" y="40"/>
                  <a:pt x="228" y="52"/>
                </a:cubicBezTo>
                <a:cubicBezTo>
                  <a:pt x="231" y="62"/>
                  <a:pt x="228" y="80"/>
                  <a:pt x="238" y="83"/>
                </a:cubicBezTo>
                <a:cubicBezTo>
                  <a:pt x="278" y="95"/>
                  <a:pt x="303" y="71"/>
                  <a:pt x="331" y="52"/>
                </a:cubicBezTo>
                <a:cubicBezTo>
                  <a:pt x="338" y="42"/>
                  <a:pt x="340" y="25"/>
                  <a:pt x="352" y="21"/>
                </a:cubicBezTo>
                <a:cubicBezTo>
                  <a:pt x="408" y="3"/>
                  <a:pt x="387" y="42"/>
                  <a:pt x="404" y="63"/>
                </a:cubicBezTo>
                <a:cubicBezTo>
                  <a:pt x="412" y="73"/>
                  <a:pt x="425" y="76"/>
                  <a:pt x="435" y="83"/>
                </a:cubicBezTo>
                <a:cubicBezTo>
                  <a:pt x="482" y="72"/>
                  <a:pt x="502" y="67"/>
                  <a:pt x="518" y="21"/>
                </a:cubicBezTo>
                <a:cubicBezTo>
                  <a:pt x="580" y="38"/>
                  <a:pt x="560" y="50"/>
                  <a:pt x="611" y="83"/>
                </a:cubicBezTo>
                <a:cubicBezTo>
                  <a:pt x="628" y="80"/>
                  <a:pt x="648" y="83"/>
                  <a:pt x="662" y="73"/>
                </a:cubicBezTo>
                <a:cubicBezTo>
                  <a:pt x="671" y="67"/>
                  <a:pt x="673" y="42"/>
                  <a:pt x="673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380880"/>
            <a:ext cx="8534160" cy="5988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皮鞋匠静静地听着。他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好像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面对着大海，月光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正从水天相接的地方升起来。微波粼粼的海面上，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霎时间洒遍了银光。月亮越升越高，穿过一缕一缕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轻纱似的微云。忽然，海面上刮起了大风，卷起了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巨浪。被月光照得雪亮的的浪花，一个连一个朝着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岸边涌过来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······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4495680"/>
            <a:ext cx="8381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思考：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皮鞋匠听着琴声，好像看到了什么？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用                      划出来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他为什么会有这样的感觉？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5181480"/>
            <a:ext cx="1068120" cy="130320"/>
          </a:xfrm>
          <a:custGeom>
            <a:avLst/>
            <a:gdLst/>
            <a:ahLst/>
            <a:rect l="l" t="t" r="r" b="b"/>
            <a:pathLst>
              <a:path w="673" h="95">
                <a:moveTo>
                  <a:pt x="0" y="32"/>
                </a:moveTo>
                <a:cubicBezTo>
                  <a:pt x="68" y="45"/>
                  <a:pt x="83" y="52"/>
                  <a:pt x="156" y="42"/>
                </a:cubicBezTo>
                <a:cubicBezTo>
                  <a:pt x="163" y="32"/>
                  <a:pt x="165" y="16"/>
                  <a:pt x="176" y="11"/>
                </a:cubicBezTo>
                <a:cubicBezTo>
                  <a:pt x="202" y="0"/>
                  <a:pt x="220" y="40"/>
                  <a:pt x="228" y="52"/>
                </a:cubicBezTo>
                <a:cubicBezTo>
                  <a:pt x="231" y="62"/>
                  <a:pt x="228" y="80"/>
                  <a:pt x="238" y="83"/>
                </a:cubicBezTo>
                <a:cubicBezTo>
                  <a:pt x="278" y="95"/>
                  <a:pt x="303" y="71"/>
                  <a:pt x="331" y="52"/>
                </a:cubicBezTo>
                <a:cubicBezTo>
                  <a:pt x="338" y="42"/>
                  <a:pt x="340" y="25"/>
                  <a:pt x="352" y="21"/>
                </a:cubicBezTo>
                <a:cubicBezTo>
                  <a:pt x="408" y="3"/>
                  <a:pt x="387" y="42"/>
                  <a:pt x="404" y="63"/>
                </a:cubicBezTo>
                <a:cubicBezTo>
                  <a:pt x="412" y="73"/>
                  <a:pt x="425" y="76"/>
                  <a:pt x="435" y="83"/>
                </a:cubicBezTo>
                <a:cubicBezTo>
                  <a:pt x="482" y="72"/>
                  <a:pt x="502" y="67"/>
                  <a:pt x="518" y="21"/>
                </a:cubicBezTo>
                <a:cubicBezTo>
                  <a:pt x="580" y="38"/>
                  <a:pt x="560" y="50"/>
                  <a:pt x="611" y="83"/>
                </a:cubicBezTo>
                <a:cubicBezTo>
                  <a:pt x="628" y="80"/>
                  <a:pt x="648" y="83"/>
                  <a:pt x="662" y="73"/>
                </a:cubicBezTo>
                <a:cubicBezTo>
                  <a:pt x="671" y="67"/>
                  <a:pt x="673" y="42"/>
                  <a:pt x="673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2560" y="870120"/>
            <a:ext cx="2792160" cy="239400"/>
          </a:xfrm>
          <a:custGeom>
            <a:avLst/>
            <a:gdLst/>
            <a:ahLst/>
            <a:rect l="l" t="t" r="r" b="b"/>
            <a:pathLst>
              <a:path w="1759" h="151">
                <a:moveTo>
                  <a:pt x="0" y="11"/>
                </a:moveTo>
                <a:cubicBezTo>
                  <a:pt x="21" y="77"/>
                  <a:pt x="12" y="77"/>
                  <a:pt x="83" y="62"/>
                </a:cubicBezTo>
                <a:cubicBezTo>
                  <a:pt x="118" y="40"/>
                  <a:pt x="127" y="14"/>
                  <a:pt x="166" y="0"/>
                </a:cubicBezTo>
                <a:cubicBezTo>
                  <a:pt x="173" y="10"/>
                  <a:pt x="181" y="20"/>
                  <a:pt x="186" y="31"/>
                </a:cubicBezTo>
                <a:cubicBezTo>
                  <a:pt x="191" y="41"/>
                  <a:pt x="188" y="55"/>
                  <a:pt x="197" y="62"/>
                </a:cubicBezTo>
                <a:cubicBezTo>
                  <a:pt x="216" y="78"/>
                  <a:pt x="245" y="75"/>
                  <a:pt x="269" y="83"/>
                </a:cubicBezTo>
                <a:cubicBezTo>
                  <a:pt x="333" y="62"/>
                  <a:pt x="309" y="23"/>
                  <a:pt x="372" y="0"/>
                </a:cubicBezTo>
                <a:cubicBezTo>
                  <a:pt x="430" y="85"/>
                  <a:pt x="389" y="59"/>
                  <a:pt x="497" y="73"/>
                </a:cubicBezTo>
                <a:cubicBezTo>
                  <a:pt x="511" y="69"/>
                  <a:pt x="527" y="71"/>
                  <a:pt x="538" y="62"/>
                </a:cubicBezTo>
                <a:cubicBezTo>
                  <a:pt x="557" y="46"/>
                  <a:pt x="579" y="0"/>
                  <a:pt x="579" y="0"/>
                </a:cubicBezTo>
                <a:cubicBezTo>
                  <a:pt x="606" y="40"/>
                  <a:pt x="599" y="55"/>
                  <a:pt x="641" y="83"/>
                </a:cubicBezTo>
                <a:cubicBezTo>
                  <a:pt x="655" y="80"/>
                  <a:pt x="671" y="81"/>
                  <a:pt x="683" y="73"/>
                </a:cubicBezTo>
                <a:cubicBezTo>
                  <a:pt x="693" y="66"/>
                  <a:pt x="694" y="51"/>
                  <a:pt x="703" y="42"/>
                </a:cubicBezTo>
                <a:cubicBezTo>
                  <a:pt x="723" y="22"/>
                  <a:pt x="741" y="19"/>
                  <a:pt x="766" y="11"/>
                </a:cubicBezTo>
                <a:cubicBezTo>
                  <a:pt x="773" y="21"/>
                  <a:pt x="777" y="34"/>
                  <a:pt x="786" y="42"/>
                </a:cubicBezTo>
                <a:cubicBezTo>
                  <a:pt x="805" y="58"/>
                  <a:pt x="848" y="83"/>
                  <a:pt x="848" y="83"/>
                </a:cubicBezTo>
                <a:cubicBezTo>
                  <a:pt x="865" y="80"/>
                  <a:pt x="885" y="82"/>
                  <a:pt x="900" y="73"/>
                </a:cubicBezTo>
                <a:cubicBezTo>
                  <a:pt x="911" y="67"/>
                  <a:pt x="912" y="51"/>
                  <a:pt x="921" y="42"/>
                </a:cubicBezTo>
                <a:cubicBezTo>
                  <a:pt x="930" y="33"/>
                  <a:pt x="942" y="28"/>
                  <a:pt x="952" y="21"/>
                </a:cubicBezTo>
                <a:cubicBezTo>
                  <a:pt x="996" y="35"/>
                  <a:pt x="995" y="57"/>
                  <a:pt x="1034" y="83"/>
                </a:cubicBezTo>
                <a:cubicBezTo>
                  <a:pt x="1087" y="73"/>
                  <a:pt x="1110" y="72"/>
                  <a:pt x="1128" y="21"/>
                </a:cubicBezTo>
                <a:cubicBezTo>
                  <a:pt x="1138" y="24"/>
                  <a:pt x="1151" y="23"/>
                  <a:pt x="1159" y="31"/>
                </a:cubicBezTo>
                <a:cubicBezTo>
                  <a:pt x="1177" y="49"/>
                  <a:pt x="1200" y="93"/>
                  <a:pt x="1200" y="93"/>
                </a:cubicBezTo>
                <a:cubicBezTo>
                  <a:pt x="1272" y="79"/>
                  <a:pt x="1258" y="69"/>
                  <a:pt x="1314" y="31"/>
                </a:cubicBezTo>
                <a:cubicBezTo>
                  <a:pt x="1365" y="108"/>
                  <a:pt x="1331" y="98"/>
                  <a:pt x="1407" y="83"/>
                </a:cubicBezTo>
                <a:cubicBezTo>
                  <a:pt x="1431" y="47"/>
                  <a:pt x="1449" y="34"/>
                  <a:pt x="1490" y="21"/>
                </a:cubicBezTo>
                <a:cubicBezTo>
                  <a:pt x="1514" y="95"/>
                  <a:pt x="1492" y="71"/>
                  <a:pt x="1541" y="104"/>
                </a:cubicBezTo>
                <a:cubicBezTo>
                  <a:pt x="1605" y="72"/>
                  <a:pt x="1575" y="70"/>
                  <a:pt x="1624" y="21"/>
                </a:cubicBezTo>
                <a:cubicBezTo>
                  <a:pt x="1634" y="24"/>
                  <a:pt x="1647" y="23"/>
                  <a:pt x="1655" y="31"/>
                </a:cubicBezTo>
                <a:cubicBezTo>
                  <a:pt x="1663" y="39"/>
                  <a:pt x="1660" y="52"/>
                  <a:pt x="1665" y="62"/>
                </a:cubicBezTo>
                <a:cubicBezTo>
                  <a:pt x="1710" y="151"/>
                  <a:pt x="1667" y="38"/>
                  <a:pt x="1697" y="124"/>
                </a:cubicBezTo>
                <a:cubicBezTo>
                  <a:pt x="1735" y="112"/>
                  <a:pt x="1741" y="96"/>
                  <a:pt x="1759" y="6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494000"/>
            <a:ext cx="7767720" cy="269640"/>
          </a:xfrm>
          <a:custGeom>
            <a:avLst/>
            <a:gdLst/>
            <a:ahLst/>
            <a:rect l="l" t="t" r="r" b="b"/>
            <a:pathLst>
              <a:path w="4893" h="170">
                <a:moveTo>
                  <a:pt x="0" y="42"/>
                </a:moveTo>
                <a:cubicBezTo>
                  <a:pt x="37" y="66"/>
                  <a:pt x="50" y="77"/>
                  <a:pt x="93" y="62"/>
                </a:cubicBezTo>
                <a:cubicBezTo>
                  <a:pt x="100" y="52"/>
                  <a:pt x="104" y="39"/>
                  <a:pt x="114" y="31"/>
                </a:cubicBezTo>
                <a:cubicBezTo>
                  <a:pt x="145" y="7"/>
                  <a:pt x="156" y="27"/>
                  <a:pt x="176" y="52"/>
                </a:cubicBezTo>
                <a:cubicBezTo>
                  <a:pt x="234" y="127"/>
                  <a:pt x="189" y="105"/>
                  <a:pt x="248" y="124"/>
                </a:cubicBezTo>
                <a:cubicBezTo>
                  <a:pt x="318" y="107"/>
                  <a:pt x="317" y="77"/>
                  <a:pt x="372" y="42"/>
                </a:cubicBezTo>
                <a:cubicBezTo>
                  <a:pt x="398" y="50"/>
                  <a:pt x="413" y="52"/>
                  <a:pt x="434" y="73"/>
                </a:cubicBezTo>
                <a:cubicBezTo>
                  <a:pt x="443" y="82"/>
                  <a:pt x="444" y="97"/>
                  <a:pt x="455" y="104"/>
                </a:cubicBezTo>
                <a:cubicBezTo>
                  <a:pt x="474" y="115"/>
                  <a:pt x="517" y="124"/>
                  <a:pt x="517" y="124"/>
                </a:cubicBezTo>
                <a:cubicBezTo>
                  <a:pt x="543" y="118"/>
                  <a:pt x="570" y="116"/>
                  <a:pt x="589" y="93"/>
                </a:cubicBezTo>
                <a:cubicBezTo>
                  <a:pt x="644" y="24"/>
                  <a:pt x="546" y="97"/>
                  <a:pt x="631" y="42"/>
                </a:cubicBezTo>
                <a:cubicBezTo>
                  <a:pt x="675" y="56"/>
                  <a:pt x="674" y="78"/>
                  <a:pt x="713" y="104"/>
                </a:cubicBezTo>
                <a:cubicBezTo>
                  <a:pt x="788" y="94"/>
                  <a:pt x="808" y="100"/>
                  <a:pt x="848" y="42"/>
                </a:cubicBezTo>
                <a:cubicBezTo>
                  <a:pt x="920" y="56"/>
                  <a:pt x="972" y="110"/>
                  <a:pt x="1045" y="135"/>
                </a:cubicBezTo>
                <a:cubicBezTo>
                  <a:pt x="1098" y="116"/>
                  <a:pt x="1101" y="73"/>
                  <a:pt x="1148" y="42"/>
                </a:cubicBezTo>
                <a:cubicBezTo>
                  <a:pt x="1187" y="55"/>
                  <a:pt x="1197" y="81"/>
                  <a:pt x="1231" y="104"/>
                </a:cubicBezTo>
                <a:cubicBezTo>
                  <a:pt x="1255" y="100"/>
                  <a:pt x="1283" y="106"/>
                  <a:pt x="1303" y="93"/>
                </a:cubicBezTo>
                <a:cubicBezTo>
                  <a:pt x="1324" y="80"/>
                  <a:pt x="1344" y="31"/>
                  <a:pt x="1344" y="31"/>
                </a:cubicBezTo>
                <a:cubicBezTo>
                  <a:pt x="1354" y="33"/>
                  <a:pt x="1411" y="43"/>
                  <a:pt x="1427" y="52"/>
                </a:cubicBezTo>
                <a:cubicBezTo>
                  <a:pt x="1540" y="114"/>
                  <a:pt x="1447" y="78"/>
                  <a:pt x="1520" y="104"/>
                </a:cubicBezTo>
                <a:cubicBezTo>
                  <a:pt x="1541" y="100"/>
                  <a:pt x="1563" y="102"/>
                  <a:pt x="1582" y="93"/>
                </a:cubicBezTo>
                <a:cubicBezTo>
                  <a:pt x="1593" y="87"/>
                  <a:pt x="1594" y="71"/>
                  <a:pt x="1603" y="62"/>
                </a:cubicBezTo>
                <a:cubicBezTo>
                  <a:pt x="1622" y="44"/>
                  <a:pt x="1642" y="39"/>
                  <a:pt x="1665" y="31"/>
                </a:cubicBezTo>
                <a:cubicBezTo>
                  <a:pt x="1727" y="123"/>
                  <a:pt x="1854" y="112"/>
                  <a:pt x="1955" y="124"/>
                </a:cubicBezTo>
                <a:cubicBezTo>
                  <a:pt x="1965" y="117"/>
                  <a:pt x="1979" y="114"/>
                  <a:pt x="1986" y="104"/>
                </a:cubicBezTo>
                <a:cubicBezTo>
                  <a:pt x="1998" y="86"/>
                  <a:pt x="2007" y="42"/>
                  <a:pt x="2007" y="42"/>
                </a:cubicBezTo>
                <a:cubicBezTo>
                  <a:pt x="2069" y="54"/>
                  <a:pt x="2086" y="62"/>
                  <a:pt x="2151" y="52"/>
                </a:cubicBezTo>
                <a:cubicBezTo>
                  <a:pt x="2161" y="45"/>
                  <a:pt x="2171" y="25"/>
                  <a:pt x="2182" y="31"/>
                </a:cubicBezTo>
                <a:cubicBezTo>
                  <a:pt x="2204" y="43"/>
                  <a:pt x="2224" y="93"/>
                  <a:pt x="2224" y="93"/>
                </a:cubicBezTo>
                <a:cubicBezTo>
                  <a:pt x="2241" y="90"/>
                  <a:pt x="2261" y="93"/>
                  <a:pt x="2275" y="83"/>
                </a:cubicBezTo>
                <a:cubicBezTo>
                  <a:pt x="2284" y="77"/>
                  <a:pt x="2279" y="61"/>
                  <a:pt x="2286" y="52"/>
                </a:cubicBezTo>
                <a:cubicBezTo>
                  <a:pt x="2294" y="42"/>
                  <a:pt x="2307" y="38"/>
                  <a:pt x="2317" y="31"/>
                </a:cubicBezTo>
                <a:cubicBezTo>
                  <a:pt x="2320" y="45"/>
                  <a:pt x="2323" y="59"/>
                  <a:pt x="2327" y="73"/>
                </a:cubicBezTo>
                <a:cubicBezTo>
                  <a:pt x="2330" y="84"/>
                  <a:pt x="2328" y="101"/>
                  <a:pt x="2338" y="104"/>
                </a:cubicBezTo>
                <a:cubicBezTo>
                  <a:pt x="2355" y="109"/>
                  <a:pt x="2372" y="97"/>
                  <a:pt x="2389" y="93"/>
                </a:cubicBezTo>
                <a:cubicBezTo>
                  <a:pt x="2460" y="46"/>
                  <a:pt x="2427" y="44"/>
                  <a:pt x="2482" y="62"/>
                </a:cubicBezTo>
                <a:cubicBezTo>
                  <a:pt x="2492" y="72"/>
                  <a:pt x="2504" y="82"/>
                  <a:pt x="2513" y="93"/>
                </a:cubicBezTo>
                <a:cubicBezTo>
                  <a:pt x="2521" y="103"/>
                  <a:pt x="2522" y="121"/>
                  <a:pt x="2534" y="124"/>
                </a:cubicBezTo>
                <a:cubicBezTo>
                  <a:pt x="2558" y="129"/>
                  <a:pt x="2582" y="117"/>
                  <a:pt x="2606" y="114"/>
                </a:cubicBezTo>
                <a:cubicBezTo>
                  <a:pt x="2651" y="71"/>
                  <a:pt x="2648" y="56"/>
                  <a:pt x="2710" y="73"/>
                </a:cubicBezTo>
                <a:cubicBezTo>
                  <a:pt x="2784" y="122"/>
                  <a:pt x="2748" y="120"/>
                  <a:pt x="2813" y="104"/>
                </a:cubicBezTo>
                <a:cubicBezTo>
                  <a:pt x="2855" y="75"/>
                  <a:pt x="2866" y="71"/>
                  <a:pt x="2917" y="83"/>
                </a:cubicBezTo>
                <a:cubicBezTo>
                  <a:pt x="2927" y="90"/>
                  <a:pt x="2939" y="95"/>
                  <a:pt x="2948" y="104"/>
                </a:cubicBezTo>
                <a:cubicBezTo>
                  <a:pt x="2957" y="113"/>
                  <a:pt x="2957" y="131"/>
                  <a:pt x="2969" y="135"/>
                </a:cubicBezTo>
                <a:cubicBezTo>
                  <a:pt x="2982" y="139"/>
                  <a:pt x="2996" y="128"/>
                  <a:pt x="3010" y="124"/>
                </a:cubicBezTo>
                <a:cubicBezTo>
                  <a:pt x="3034" y="88"/>
                  <a:pt x="3052" y="76"/>
                  <a:pt x="3093" y="62"/>
                </a:cubicBezTo>
                <a:cubicBezTo>
                  <a:pt x="3103" y="69"/>
                  <a:pt x="3113" y="77"/>
                  <a:pt x="3124" y="83"/>
                </a:cubicBezTo>
                <a:cubicBezTo>
                  <a:pt x="3134" y="88"/>
                  <a:pt x="3146" y="87"/>
                  <a:pt x="3155" y="93"/>
                </a:cubicBezTo>
                <a:cubicBezTo>
                  <a:pt x="3191" y="117"/>
                  <a:pt x="3204" y="141"/>
                  <a:pt x="3248" y="155"/>
                </a:cubicBezTo>
                <a:cubicBezTo>
                  <a:pt x="3292" y="126"/>
                  <a:pt x="3307" y="82"/>
                  <a:pt x="3351" y="52"/>
                </a:cubicBezTo>
                <a:cubicBezTo>
                  <a:pt x="3365" y="55"/>
                  <a:pt x="3382" y="53"/>
                  <a:pt x="3393" y="62"/>
                </a:cubicBezTo>
                <a:cubicBezTo>
                  <a:pt x="3412" y="78"/>
                  <a:pt x="3434" y="124"/>
                  <a:pt x="3434" y="124"/>
                </a:cubicBezTo>
                <a:cubicBezTo>
                  <a:pt x="3458" y="121"/>
                  <a:pt x="3483" y="121"/>
                  <a:pt x="3506" y="114"/>
                </a:cubicBezTo>
                <a:cubicBezTo>
                  <a:pt x="3551" y="101"/>
                  <a:pt x="3535" y="69"/>
                  <a:pt x="3589" y="52"/>
                </a:cubicBezTo>
                <a:cubicBezTo>
                  <a:pt x="3648" y="71"/>
                  <a:pt x="3595" y="47"/>
                  <a:pt x="3641" y="93"/>
                </a:cubicBezTo>
                <a:cubicBezTo>
                  <a:pt x="3718" y="170"/>
                  <a:pt x="3653" y="82"/>
                  <a:pt x="3703" y="155"/>
                </a:cubicBezTo>
                <a:cubicBezTo>
                  <a:pt x="3720" y="152"/>
                  <a:pt x="3740" y="154"/>
                  <a:pt x="3755" y="145"/>
                </a:cubicBezTo>
                <a:cubicBezTo>
                  <a:pt x="3810" y="110"/>
                  <a:pt x="3820" y="61"/>
                  <a:pt x="3879" y="42"/>
                </a:cubicBezTo>
                <a:cubicBezTo>
                  <a:pt x="3893" y="49"/>
                  <a:pt x="3908" y="53"/>
                  <a:pt x="3920" y="62"/>
                </a:cubicBezTo>
                <a:cubicBezTo>
                  <a:pt x="3932" y="70"/>
                  <a:pt x="3938" y="86"/>
                  <a:pt x="3951" y="93"/>
                </a:cubicBezTo>
                <a:cubicBezTo>
                  <a:pt x="3970" y="104"/>
                  <a:pt x="4013" y="114"/>
                  <a:pt x="4013" y="114"/>
                </a:cubicBezTo>
                <a:cubicBezTo>
                  <a:pt x="4044" y="111"/>
                  <a:pt x="4076" y="112"/>
                  <a:pt x="4106" y="104"/>
                </a:cubicBezTo>
                <a:cubicBezTo>
                  <a:pt x="4139" y="96"/>
                  <a:pt x="4161" y="50"/>
                  <a:pt x="4189" y="31"/>
                </a:cubicBezTo>
                <a:cubicBezTo>
                  <a:pt x="4247" y="52"/>
                  <a:pt x="4249" y="97"/>
                  <a:pt x="4303" y="114"/>
                </a:cubicBezTo>
                <a:cubicBezTo>
                  <a:pt x="4320" y="111"/>
                  <a:pt x="4338" y="110"/>
                  <a:pt x="4355" y="104"/>
                </a:cubicBezTo>
                <a:cubicBezTo>
                  <a:pt x="4390" y="91"/>
                  <a:pt x="4404" y="53"/>
                  <a:pt x="4437" y="31"/>
                </a:cubicBezTo>
                <a:cubicBezTo>
                  <a:pt x="4494" y="43"/>
                  <a:pt x="4515" y="48"/>
                  <a:pt x="4562" y="83"/>
                </a:cubicBezTo>
                <a:cubicBezTo>
                  <a:pt x="4662" y="63"/>
                  <a:pt x="4576" y="93"/>
                  <a:pt x="4634" y="42"/>
                </a:cubicBezTo>
                <a:cubicBezTo>
                  <a:pt x="4653" y="26"/>
                  <a:pt x="4696" y="0"/>
                  <a:pt x="4696" y="0"/>
                </a:cubicBezTo>
                <a:cubicBezTo>
                  <a:pt x="4717" y="14"/>
                  <a:pt x="4737" y="28"/>
                  <a:pt x="4758" y="42"/>
                </a:cubicBezTo>
                <a:cubicBezTo>
                  <a:pt x="4768" y="49"/>
                  <a:pt x="4779" y="55"/>
                  <a:pt x="4789" y="62"/>
                </a:cubicBezTo>
                <a:cubicBezTo>
                  <a:pt x="4799" y="69"/>
                  <a:pt x="4820" y="83"/>
                  <a:pt x="4820" y="83"/>
                </a:cubicBezTo>
                <a:cubicBezTo>
                  <a:pt x="4841" y="78"/>
                  <a:pt x="4893" y="74"/>
                  <a:pt x="4893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2133720"/>
            <a:ext cx="7767720" cy="269640"/>
          </a:xfrm>
          <a:custGeom>
            <a:avLst/>
            <a:gdLst/>
            <a:ahLst/>
            <a:rect l="l" t="t" r="r" b="b"/>
            <a:pathLst>
              <a:path w="4893" h="170">
                <a:moveTo>
                  <a:pt x="0" y="56"/>
                </a:moveTo>
                <a:cubicBezTo>
                  <a:pt x="41" y="97"/>
                  <a:pt x="42" y="111"/>
                  <a:pt x="93" y="77"/>
                </a:cubicBezTo>
                <a:cubicBezTo>
                  <a:pt x="110" y="28"/>
                  <a:pt x="119" y="31"/>
                  <a:pt x="166" y="46"/>
                </a:cubicBezTo>
                <a:cubicBezTo>
                  <a:pt x="201" y="98"/>
                  <a:pt x="217" y="87"/>
                  <a:pt x="280" y="77"/>
                </a:cubicBezTo>
                <a:cubicBezTo>
                  <a:pt x="286" y="68"/>
                  <a:pt x="311" y="20"/>
                  <a:pt x="331" y="25"/>
                </a:cubicBezTo>
                <a:cubicBezTo>
                  <a:pt x="373" y="35"/>
                  <a:pt x="420" y="95"/>
                  <a:pt x="456" y="118"/>
                </a:cubicBezTo>
                <a:cubicBezTo>
                  <a:pt x="470" y="115"/>
                  <a:pt x="486" y="117"/>
                  <a:pt x="497" y="108"/>
                </a:cubicBezTo>
                <a:cubicBezTo>
                  <a:pt x="516" y="92"/>
                  <a:pt x="517" y="60"/>
                  <a:pt x="538" y="46"/>
                </a:cubicBezTo>
                <a:cubicBezTo>
                  <a:pt x="548" y="39"/>
                  <a:pt x="559" y="32"/>
                  <a:pt x="569" y="25"/>
                </a:cubicBezTo>
                <a:cubicBezTo>
                  <a:pt x="631" y="47"/>
                  <a:pt x="572" y="19"/>
                  <a:pt x="621" y="67"/>
                </a:cubicBezTo>
                <a:cubicBezTo>
                  <a:pt x="640" y="85"/>
                  <a:pt x="660" y="90"/>
                  <a:pt x="683" y="98"/>
                </a:cubicBezTo>
                <a:cubicBezTo>
                  <a:pt x="724" y="84"/>
                  <a:pt x="742" y="72"/>
                  <a:pt x="766" y="36"/>
                </a:cubicBezTo>
                <a:cubicBezTo>
                  <a:pt x="838" y="54"/>
                  <a:pt x="817" y="77"/>
                  <a:pt x="869" y="118"/>
                </a:cubicBezTo>
                <a:cubicBezTo>
                  <a:pt x="889" y="133"/>
                  <a:pt x="931" y="160"/>
                  <a:pt x="931" y="160"/>
                </a:cubicBezTo>
                <a:cubicBezTo>
                  <a:pt x="970" y="146"/>
                  <a:pt x="979" y="120"/>
                  <a:pt x="1014" y="98"/>
                </a:cubicBezTo>
                <a:cubicBezTo>
                  <a:pt x="1030" y="48"/>
                  <a:pt x="1039" y="51"/>
                  <a:pt x="1087" y="67"/>
                </a:cubicBezTo>
                <a:cubicBezTo>
                  <a:pt x="1108" y="88"/>
                  <a:pt x="1121" y="120"/>
                  <a:pt x="1149" y="129"/>
                </a:cubicBezTo>
                <a:cubicBezTo>
                  <a:pt x="1170" y="136"/>
                  <a:pt x="1211" y="149"/>
                  <a:pt x="1211" y="149"/>
                </a:cubicBezTo>
                <a:cubicBezTo>
                  <a:pt x="1228" y="146"/>
                  <a:pt x="1247" y="147"/>
                  <a:pt x="1262" y="139"/>
                </a:cubicBezTo>
                <a:cubicBezTo>
                  <a:pt x="1289" y="125"/>
                  <a:pt x="1312" y="79"/>
                  <a:pt x="1345" y="56"/>
                </a:cubicBezTo>
                <a:cubicBezTo>
                  <a:pt x="1391" y="72"/>
                  <a:pt x="1382" y="93"/>
                  <a:pt x="1428" y="108"/>
                </a:cubicBezTo>
                <a:cubicBezTo>
                  <a:pt x="1488" y="168"/>
                  <a:pt x="1545" y="160"/>
                  <a:pt x="1624" y="149"/>
                </a:cubicBezTo>
                <a:cubicBezTo>
                  <a:pt x="1673" y="77"/>
                  <a:pt x="1645" y="101"/>
                  <a:pt x="1697" y="67"/>
                </a:cubicBezTo>
                <a:cubicBezTo>
                  <a:pt x="1750" y="80"/>
                  <a:pt x="1757" y="100"/>
                  <a:pt x="1800" y="129"/>
                </a:cubicBezTo>
                <a:cubicBezTo>
                  <a:pt x="1824" y="125"/>
                  <a:pt x="1851" y="128"/>
                  <a:pt x="1873" y="118"/>
                </a:cubicBezTo>
                <a:cubicBezTo>
                  <a:pt x="1884" y="113"/>
                  <a:pt x="1884" y="96"/>
                  <a:pt x="1893" y="87"/>
                </a:cubicBezTo>
                <a:cubicBezTo>
                  <a:pt x="1902" y="78"/>
                  <a:pt x="1914" y="74"/>
                  <a:pt x="1924" y="67"/>
                </a:cubicBezTo>
                <a:cubicBezTo>
                  <a:pt x="1959" y="74"/>
                  <a:pt x="1994" y="77"/>
                  <a:pt x="2028" y="87"/>
                </a:cubicBezTo>
                <a:cubicBezTo>
                  <a:pt x="2066" y="99"/>
                  <a:pt x="2082" y="136"/>
                  <a:pt x="2121" y="149"/>
                </a:cubicBezTo>
                <a:cubicBezTo>
                  <a:pt x="2197" y="137"/>
                  <a:pt x="2194" y="138"/>
                  <a:pt x="2235" y="77"/>
                </a:cubicBezTo>
                <a:cubicBezTo>
                  <a:pt x="2241" y="78"/>
                  <a:pt x="2298" y="91"/>
                  <a:pt x="2307" y="98"/>
                </a:cubicBezTo>
                <a:cubicBezTo>
                  <a:pt x="2317" y="106"/>
                  <a:pt x="2319" y="120"/>
                  <a:pt x="2328" y="129"/>
                </a:cubicBezTo>
                <a:cubicBezTo>
                  <a:pt x="2347" y="147"/>
                  <a:pt x="2367" y="152"/>
                  <a:pt x="2390" y="160"/>
                </a:cubicBezTo>
                <a:cubicBezTo>
                  <a:pt x="2407" y="156"/>
                  <a:pt x="2427" y="159"/>
                  <a:pt x="2442" y="149"/>
                </a:cubicBezTo>
                <a:cubicBezTo>
                  <a:pt x="2477" y="127"/>
                  <a:pt x="2500" y="89"/>
                  <a:pt x="2535" y="67"/>
                </a:cubicBezTo>
                <a:cubicBezTo>
                  <a:pt x="2552" y="70"/>
                  <a:pt x="2570" y="70"/>
                  <a:pt x="2586" y="77"/>
                </a:cubicBezTo>
                <a:cubicBezTo>
                  <a:pt x="2609" y="87"/>
                  <a:pt x="2625" y="110"/>
                  <a:pt x="2648" y="118"/>
                </a:cubicBezTo>
                <a:cubicBezTo>
                  <a:pt x="2659" y="122"/>
                  <a:pt x="2669" y="125"/>
                  <a:pt x="2680" y="129"/>
                </a:cubicBezTo>
                <a:cubicBezTo>
                  <a:pt x="2776" y="112"/>
                  <a:pt x="2762" y="95"/>
                  <a:pt x="2835" y="46"/>
                </a:cubicBezTo>
                <a:cubicBezTo>
                  <a:pt x="2904" y="63"/>
                  <a:pt x="2912" y="102"/>
                  <a:pt x="2959" y="149"/>
                </a:cubicBezTo>
                <a:cubicBezTo>
                  <a:pt x="2980" y="146"/>
                  <a:pt x="3001" y="146"/>
                  <a:pt x="3021" y="139"/>
                </a:cubicBezTo>
                <a:cubicBezTo>
                  <a:pt x="3067" y="124"/>
                  <a:pt x="3050" y="94"/>
                  <a:pt x="3104" y="77"/>
                </a:cubicBezTo>
                <a:cubicBezTo>
                  <a:pt x="3162" y="91"/>
                  <a:pt x="3204" y="120"/>
                  <a:pt x="3238" y="170"/>
                </a:cubicBezTo>
                <a:cubicBezTo>
                  <a:pt x="3255" y="167"/>
                  <a:pt x="3273" y="166"/>
                  <a:pt x="3290" y="160"/>
                </a:cubicBezTo>
                <a:cubicBezTo>
                  <a:pt x="3343" y="140"/>
                  <a:pt x="3300" y="137"/>
                  <a:pt x="3352" y="108"/>
                </a:cubicBezTo>
                <a:cubicBezTo>
                  <a:pt x="3371" y="97"/>
                  <a:pt x="3414" y="87"/>
                  <a:pt x="3414" y="87"/>
                </a:cubicBezTo>
                <a:cubicBezTo>
                  <a:pt x="3485" y="135"/>
                  <a:pt x="3452" y="121"/>
                  <a:pt x="3507" y="139"/>
                </a:cubicBezTo>
                <a:cubicBezTo>
                  <a:pt x="3584" y="130"/>
                  <a:pt x="3602" y="136"/>
                  <a:pt x="3642" y="77"/>
                </a:cubicBezTo>
                <a:cubicBezTo>
                  <a:pt x="3663" y="80"/>
                  <a:pt x="3685" y="78"/>
                  <a:pt x="3704" y="87"/>
                </a:cubicBezTo>
                <a:cubicBezTo>
                  <a:pt x="3715" y="92"/>
                  <a:pt x="3714" y="111"/>
                  <a:pt x="3724" y="118"/>
                </a:cubicBezTo>
                <a:cubicBezTo>
                  <a:pt x="3742" y="130"/>
                  <a:pt x="3786" y="139"/>
                  <a:pt x="3786" y="139"/>
                </a:cubicBezTo>
                <a:cubicBezTo>
                  <a:pt x="3912" y="116"/>
                  <a:pt x="3868" y="139"/>
                  <a:pt x="3931" y="98"/>
                </a:cubicBezTo>
                <a:cubicBezTo>
                  <a:pt x="3937" y="89"/>
                  <a:pt x="3963" y="42"/>
                  <a:pt x="3983" y="46"/>
                </a:cubicBezTo>
                <a:cubicBezTo>
                  <a:pt x="4074" y="66"/>
                  <a:pt x="4015" y="87"/>
                  <a:pt x="4076" y="108"/>
                </a:cubicBezTo>
                <a:cubicBezTo>
                  <a:pt x="4097" y="115"/>
                  <a:pt x="4138" y="129"/>
                  <a:pt x="4138" y="129"/>
                </a:cubicBezTo>
                <a:cubicBezTo>
                  <a:pt x="4155" y="125"/>
                  <a:pt x="4173" y="124"/>
                  <a:pt x="4190" y="118"/>
                </a:cubicBezTo>
                <a:cubicBezTo>
                  <a:pt x="4226" y="105"/>
                  <a:pt x="4239" y="68"/>
                  <a:pt x="4273" y="46"/>
                </a:cubicBezTo>
                <a:cubicBezTo>
                  <a:pt x="4365" y="68"/>
                  <a:pt x="4272" y="36"/>
                  <a:pt x="4335" y="87"/>
                </a:cubicBezTo>
                <a:cubicBezTo>
                  <a:pt x="4353" y="102"/>
                  <a:pt x="4378" y="105"/>
                  <a:pt x="4397" y="118"/>
                </a:cubicBezTo>
                <a:cubicBezTo>
                  <a:pt x="4418" y="115"/>
                  <a:pt x="4440" y="116"/>
                  <a:pt x="4459" y="108"/>
                </a:cubicBezTo>
                <a:cubicBezTo>
                  <a:pt x="4482" y="99"/>
                  <a:pt x="4521" y="67"/>
                  <a:pt x="4521" y="67"/>
                </a:cubicBezTo>
                <a:cubicBezTo>
                  <a:pt x="4528" y="57"/>
                  <a:pt x="4532" y="44"/>
                  <a:pt x="4541" y="36"/>
                </a:cubicBezTo>
                <a:cubicBezTo>
                  <a:pt x="4584" y="0"/>
                  <a:pt x="4605" y="60"/>
                  <a:pt x="4635" y="77"/>
                </a:cubicBezTo>
                <a:cubicBezTo>
                  <a:pt x="4654" y="88"/>
                  <a:pt x="4697" y="98"/>
                  <a:pt x="4697" y="98"/>
                </a:cubicBezTo>
                <a:cubicBezTo>
                  <a:pt x="4769" y="85"/>
                  <a:pt x="4780" y="87"/>
                  <a:pt x="4831" y="36"/>
                </a:cubicBezTo>
                <a:cubicBezTo>
                  <a:pt x="4852" y="43"/>
                  <a:pt x="4893" y="49"/>
                  <a:pt x="4893" y="7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8040" y="2774880"/>
            <a:ext cx="7647120" cy="246240"/>
          </a:xfrm>
          <a:custGeom>
            <a:avLst/>
            <a:gdLst/>
            <a:ahLst/>
            <a:rect l="l" t="t" r="r" b="b"/>
            <a:pathLst>
              <a:path w="4817" h="155">
                <a:moveTo>
                  <a:pt x="0" y="31"/>
                </a:moveTo>
                <a:cubicBezTo>
                  <a:pt x="39" y="44"/>
                  <a:pt x="65" y="69"/>
                  <a:pt x="103" y="83"/>
                </a:cubicBezTo>
                <a:cubicBezTo>
                  <a:pt x="179" y="56"/>
                  <a:pt x="90" y="95"/>
                  <a:pt x="155" y="41"/>
                </a:cubicBezTo>
                <a:cubicBezTo>
                  <a:pt x="167" y="31"/>
                  <a:pt x="182" y="28"/>
                  <a:pt x="196" y="21"/>
                </a:cubicBezTo>
                <a:cubicBezTo>
                  <a:pt x="346" y="50"/>
                  <a:pt x="263" y="29"/>
                  <a:pt x="424" y="83"/>
                </a:cubicBezTo>
                <a:cubicBezTo>
                  <a:pt x="445" y="90"/>
                  <a:pt x="486" y="103"/>
                  <a:pt x="486" y="103"/>
                </a:cubicBezTo>
                <a:cubicBezTo>
                  <a:pt x="496" y="93"/>
                  <a:pt x="509" y="84"/>
                  <a:pt x="517" y="72"/>
                </a:cubicBezTo>
                <a:cubicBezTo>
                  <a:pt x="523" y="63"/>
                  <a:pt x="517" y="45"/>
                  <a:pt x="527" y="41"/>
                </a:cubicBezTo>
                <a:cubicBezTo>
                  <a:pt x="541" y="36"/>
                  <a:pt x="555" y="48"/>
                  <a:pt x="569" y="52"/>
                </a:cubicBezTo>
                <a:cubicBezTo>
                  <a:pt x="640" y="99"/>
                  <a:pt x="607" y="85"/>
                  <a:pt x="662" y="103"/>
                </a:cubicBezTo>
                <a:cubicBezTo>
                  <a:pt x="672" y="93"/>
                  <a:pt x="681" y="81"/>
                  <a:pt x="693" y="72"/>
                </a:cubicBezTo>
                <a:cubicBezTo>
                  <a:pt x="713" y="57"/>
                  <a:pt x="755" y="31"/>
                  <a:pt x="755" y="31"/>
                </a:cubicBezTo>
                <a:cubicBezTo>
                  <a:pt x="796" y="45"/>
                  <a:pt x="843" y="48"/>
                  <a:pt x="879" y="72"/>
                </a:cubicBezTo>
                <a:cubicBezTo>
                  <a:pt x="919" y="99"/>
                  <a:pt x="898" y="89"/>
                  <a:pt x="941" y="103"/>
                </a:cubicBezTo>
                <a:cubicBezTo>
                  <a:pt x="991" y="87"/>
                  <a:pt x="1027" y="44"/>
                  <a:pt x="1076" y="21"/>
                </a:cubicBezTo>
                <a:cubicBezTo>
                  <a:pt x="1109" y="64"/>
                  <a:pt x="1099" y="63"/>
                  <a:pt x="1148" y="83"/>
                </a:cubicBezTo>
                <a:cubicBezTo>
                  <a:pt x="1168" y="91"/>
                  <a:pt x="1210" y="103"/>
                  <a:pt x="1210" y="103"/>
                </a:cubicBezTo>
                <a:cubicBezTo>
                  <a:pt x="1231" y="100"/>
                  <a:pt x="1253" y="102"/>
                  <a:pt x="1272" y="93"/>
                </a:cubicBezTo>
                <a:cubicBezTo>
                  <a:pt x="1283" y="87"/>
                  <a:pt x="1283" y="70"/>
                  <a:pt x="1293" y="62"/>
                </a:cubicBezTo>
                <a:cubicBezTo>
                  <a:pt x="1302" y="55"/>
                  <a:pt x="1314" y="55"/>
                  <a:pt x="1324" y="52"/>
                </a:cubicBezTo>
                <a:cubicBezTo>
                  <a:pt x="1447" y="82"/>
                  <a:pt x="1273" y="34"/>
                  <a:pt x="1407" y="93"/>
                </a:cubicBezTo>
                <a:cubicBezTo>
                  <a:pt x="1433" y="104"/>
                  <a:pt x="1462" y="105"/>
                  <a:pt x="1489" y="114"/>
                </a:cubicBezTo>
                <a:cubicBezTo>
                  <a:pt x="1541" y="95"/>
                  <a:pt x="1546" y="51"/>
                  <a:pt x="1593" y="21"/>
                </a:cubicBezTo>
                <a:cubicBezTo>
                  <a:pt x="1698" y="56"/>
                  <a:pt x="1659" y="34"/>
                  <a:pt x="1717" y="72"/>
                </a:cubicBezTo>
                <a:cubicBezTo>
                  <a:pt x="1812" y="49"/>
                  <a:pt x="1805" y="32"/>
                  <a:pt x="1893" y="62"/>
                </a:cubicBezTo>
                <a:cubicBezTo>
                  <a:pt x="1923" y="154"/>
                  <a:pt x="1915" y="155"/>
                  <a:pt x="2007" y="124"/>
                </a:cubicBezTo>
                <a:cubicBezTo>
                  <a:pt x="2058" y="47"/>
                  <a:pt x="2024" y="57"/>
                  <a:pt x="2100" y="72"/>
                </a:cubicBezTo>
                <a:cubicBezTo>
                  <a:pt x="2135" y="96"/>
                  <a:pt x="2163" y="121"/>
                  <a:pt x="2203" y="134"/>
                </a:cubicBezTo>
                <a:cubicBezTo>
                  <a:pt x="2213" y="131"/>
                  <a:pt x="2226" y="132"/>
                  <a:pt x="2234" y="124"/>
                </a:cubicBezTo>
                <a:cubicBezTo>
                  <a:pt x="2252" y="106"/>
                  <a:pt x="2275" y="62"/>
                  <a:pt x="2275" y="62"/>
                </a:cubicBezTo>
                <a:cubicBezTo>
                  <a:pt x="2310" y="65"/>
                  <a:pt x="2346" y="62"/>
                  <a:pt x="2379" y="72"/>
                </a:cubicBezTo>
                <a:cubicBezTo>
                  <a:pt x="2393" y="76"/>
                  <a:pt x="2397" y="96"/>
                  <a:pt x="2410" y="103"/>
                </a:cubicBezTo>
                <a:cubicBezTo>
                  <a:pt x="2429" y="114"/>
                  <a:pt x="2472" y="124"/>
                  <a:pt x="2472" y="124"/>
                </a:cubicBezTo>
                <a:cubicBezTo>
                  <a:pt x="2486" y="121"/>
                  <a:pt x="2502" y="123"/>
                  <a:pt x="2513" y="114"/>
                </a:cubicBezTo>
                <a:cubicBezTo>
                  <a:pt x="2532" y="98"/>
                  <a:pt x="2555" y="52"/>
                  <a:pt x="2555" y="52"/>
                </a:cubicBezTo>
                <a:cubicBezTo>
                  <a:pt x="2600" y="70"/>
                  <a:pt x="2639" y="87"/>
                  <a:pt x="2679" y="114"/>
                </a:cubicBezTo>
                <a:cubicBezTo>
                  <a:pt x="2693" y="110"/>
                  <a:pt x="2708" y="111"/>
                  <a:pt x="2720" y="103"/>
                </a:cubicBezTo>
                <a:cubicBezTo>
                  <a:pt x="2808" y="43"/>
                  <a:pt x="2676" y="93"/>
                  <a:pt x="2772" y="62"/>
                </a:cubicBezTo>
                <a:cubicBezTo>
                  <a:pt x="2844" y="110"/>
                  <a:pt x="2813" y="89"/>
                  <a:pt x="2865" y="124"/>
                </a:cubicBezTo>
                <a:cubicBezTo>
                  <a:pt x="2875" y="131"/>
                  <a:pt x="2896" y="145"/>
                  <a:pt x="2896" y="145"/>
                </a:cubicBezTo>
                <a:cubicBezTo>
                  <a:pt x="2906" y="141"/>
                  <a:pt x="2919" y="142"/>
                  <a:pt x="2927" y="134"/>
                </a:cubicBezTo>
                <a:cubicBezTo>
                  <a:pt x="2945" y="116"/>
                  <a:pt x="2969" y="72"/>
                  <a:pt x="2969" y="72"/>
                </a:cubicBezTo>
                <a:cubicBezTo>
                  <a:pt x="2990" y="8"/>
                  <a:pt x="2963" y="57"/>
                  <a:pt x="3041" y="83"/>
                </a:cubicBezTo>
                <a:cubicBezTo>
                  <a:pt x="3072" y="93"/>
                  <a:pt x="3103" y="104"/>
                  <a:pt x="3134" y="114"/>
                </a:cubicBezTo>
                <a:cubicBezTo>
                  <a:pt x="3144" y="117"/>
                  <a:pt x="3165" y="124"/>
                  <a:pt x="3165" y="124"/>
                </a:cubicBezTo>
                <a:cubicBezTo>
                  <a:pt x="3182" y="121"/>
                  <a:pt x="3202" y="123"/>
                  <a:pt x="3217" y="114"/>
                </a:cubicBezTo>
                <a:cubicBezTo>
                  <a:pt x="3228" y="108"/>
                  <a:pt x="3227" y="90"/>
                  <a:pt x="3237" y="83"/>
                </a:cubicBezTo>
                <a:cubicBezTo>
                  <a:pt x="3256" y="71"/>
                  <a:pt x="3300" y="62"/>
                  <a:pt x="3300" y="62"/>
                </a:cubicBezTo>
                <a:cubicBezTo>
                  <a:pt x="3333" y="84"/>
                  <a:pt x="3365" y="101"/>
                  <a:pt x="3403" y="114"/>
                </a:cubicBezTo>
                <a:cubicBezTo>
                  <a:pt x="3480" y="93"/>
                  <a:pt x="3469" y="70"/>
                  <a:pt x="3527" y="31"/>
                </a:cubicBezTo>
                <a:cubicBezTo>
                  <a:pt x="3587" y="50"/>
                  <a:pt x="3630" y="109"/>
                  <a:pt x="3682" y="145"/>
                </a:cubicBezTo>
                <a:cubicBezTo>
                  <a:pt x="3708" y="140"/>
                  <a:pt x="3746" y="138"/>
                  <a:pt x="3765" y="114"/>
                </a:cubicBezTo>
                <a:cubicBezTo>
                  <a:pt x="3772" y="106"/>
                  <a:pt x="3769" y="92"/>
                  <a:pt x="3775" y="83"/>
                </a:cubicBezTo>
                <a:cubicBezTo>
                  <a:pt x="3795" y="52"/>
                  <a:pt x="3824" y="22"/>
                  <a:pt x="3858" y="10"/>
                </a:cubicBezTo>
                <a:cubicBezTo>
                  <a:pt x="3898" y="26"/>
                  <a:pt x="3931" y="49"/>
                  <a:pt x="3972" y="62"/>
                </a:cubicBezTo>
                <a:cubicBezTo>
                  <a:pt x="3982" y="69"/>
                  <a:pt x="3991" y="82"/>
                  <a:pt x="4003" y="83"/>
                </a:cubicBezTo>
                <a:cubicBezTo>
                  <a:pt x="4069" y="90"/>
                  <a:pt x="4078" y="49"/>
                  <a:pt x="4117" y="10"/>
                </a:cubicBezTo>
                <a:cubicBezTo>
                  <a:pt x="4220" y="32"/>
                  <a:pt x="4130" y="0"/>
                  <a:pt x="4189" y="52"/>
                </a:cubicBezTo>
                <a:cubicBezTo>
                  <a:pt x="4208" y="68"/>
                  <a:pt x="4251" y="93"/>
                  <a:pt x="4251" y="93"/>
                </a:cubicBezTo>
                <a:cubicBezTo>
                  <a:pt x="4268" y="90"/>
                  <a:pt x="4288" y="92"/>
                  <a:pt x="4303" y="83"/>
                </a:cubicBezTo>
                <a:cubicBezTo>
                  <a:pt x="4314" y="77"/>
                  <a:pt x="4314" y="60"/>
                  <a:pt x="4324" y="52"/>
                </a:cubicBezTo>
                <a:cubicBezTo>
                  <a:pt x="4333" y="45"/>
                  <a:pt x="4345" y="45"/>
                  <a:pt x="4355" y="41"/>
                </a:cubicBezTo>
                <a:cubicBezTo>
                  <a:pt x="4388" y="64"/>
                  <a:pt x="4415" y="91"/>
                  <a:pt x="4448" y="114"/>
                </a:cubicBezTo>
                <a:cubicBezTo>
                  <a:pt x="4513" y="97"/>
                  <a:pt x="4481" y="115"/>
                  <a:pt x="4530" y="41"/>
                </a:cubicBezTo>
                <a:cubicBezTo>
                  <a:pt x="4540" y="26"/>
                  <a:pt x="4578" y="15"/>
                  <a:pt x="4593" y="10"/>
                </a:cubicBezTo>
                <a:cubicBezTo>
                  <a:pt x="4659" y="28"/>
                  <a:pt x="4702" y="82"/>
                  <a:pt x="4768" y="103"/>
                </a:cubicBezTo>
                <a:cubicBezTo>
                  <a:pt x="4817" y="91"/>
                  <a:pt x="4810" y="107"/>
                  <a:pt x="4810" y="7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4560" y="3513240"/>
            <a:ext cx="1165320" cy="164880"/>
          </a:xfrm>
          <a:custGeom>
            <a:avLst/>
            <a:gdLst/>
            <a:ahLst/>
            <a:rect l="l" t="t" r="r" b="b"/>
            <a:pathLst>
              <a:path w="734" h="104">
                <a:moveTo>
                  <a:pt x="0" y="31"/>
                </a:moveTo>
                <a:cubicBezTo>
                  <a:pt x="25" y="69"/>
                  <a:pt x="56" y="79"/>
                  <a:pt x="93" y="104"/>
                </a:cubicBezTo>
                <a:cubicBezTo>
                  <a:pt x="148" y="86"/>
                  <a:pt x="131" y="57"/>
                  <a:pt x="176" y="31"/>
                </a:cubicBezTo>
                <a:cubicBezTo>
                  <a:pt x="188" y="24"/>
                  <a:pt x="203" y="24"/>
                  <a:pt x="217" y="21"/>
                </a:cubicBezTo>
                <a:cubicBezTo>
                  <a:pt x="319" y="71"/>
                  <a:pt x="270" y="57"/>
                  <a:pt x="362" y="73"/>
                </a:cubicBezTo>
                <a:cubicBezTo>
                  <a:pt x="383" y="69"/>
                  <a:pt x="407" y="74"/>
                  <a:pt x="424" y="62"/>
                </a:cubicBezTo>
                <a:cubicBezTo>
                  <a:pt x="444" y="48"/>
                  <a:pt x="466" y="0"/>
                  <a:pt x="466" y="0"/>
                </a:cubicBezTo>
                <a:lnTo>
                  <a:pt x="590" y="52"/>
                </a:lnTo>
                <a:cubicBezTo>
                  <a:pt x="590" y="52"/>
                  <a:pt x="590" y="52"/>
                  <a:pt x="590" y="52"/>
                </a:cubicBezTo>
                <a:cubicBezTo>
                  <a:pt x="611" y="59"/>
                  <a:pt x="652" y="73"/>
                  <a:pt x="652" y="73"/>
                </a:cubicBezTo>
                <a:cubicBezTo>
                  <a:pt x="675" y="65"/>
                  <a:pt x="696" y="60"/>
                  <a:pt x="714" y="42"/>
                </a:cubicBezTo>
                <a:cubicBezTo>
                  <a:pt x="723" y="33"/>
                  <a:pt x="734" y="11"/>
                  <a:pt x="734" y="1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39880" y="3446640"/>
            <a:ext cx="6553080" cy="215640"/>
          </a:xfrm>
          <a:custGeom>
            <a:avLst/>
            <a:gdLst/>
            <a:ahLst/>
            <a:rect l="l" t="t" r="r" b="b"/>
            <a:pathLst>
              <a:path w="4128" h="136">
                <a:moveTo>
                  <a:pt x="0" y="73"/>
                </a:moveTo>
                <a:cubicBezTo>
                  <a:pt x="38" y="70"/>
                  <a:pt x="77" y="71"/>
                  <a:pt x="114" y="63"/>
                </a:cubicBezTo>
                <a:cubicBezTo>
                  <a:pt x="126" y="60"/>
                  <a:pt x="133" y="42"/>
                  <a:pt x="145" y="42"/>
                </a:cubicBezTo>
                <a:cubicBezTo>
                  <a:pt x="198" y="42"/>
                  <a:pt x="248" y="65"/>
                  <a:pt x="300" y="73"/>
                </a:cubicBezTo>
                <a:cubicBezTo>
                  <a:pt x="329" y="92"/>
                  <a:pt x="334" y="110"/>
                  <a:pt x="363" y="73"/>
                </a:cubicBezTo>
                <a:cubicBezTo>
                  <a:pt x="370" y="64"/>
                  <a:pt x="365" y="49"/>
                  <a:pt x="373" y="42"/>
                </a:cubicBezTo>
                <a:cubicBezTo>
                  <a:pt x="384" y="33"/>
                  <a:pt x="400" y="35"/>
                  <a:pt x="414" y="32"/>
                </a:cubicBezTo>
                <a:cubicBezTo>
                  <a:pt x="485" y="79"/>
                  <a:pt x="453" y="65"/>
                  <a:pt x="507" y="84"/>
                </a:cubicBezTo>
                <a:cubicBezTo>
                  <a:pt x="509" y="82"/>
                  <a:pt x="558" y="29"/>
                  <a:pt x="569" y="32"/>
                </a:cubicBezTo>
                <a:cubicBezTo>
                  <a:pt x="588" y="37"/>
                  <a:pt x="595" y="62"/>
                  <a:pt x="611" y="73"/>
                </a:cubicBezTo>
                <a:cubicBezTo>
                  <a:pt x="620" y="79"/>
                  <a:pt x="632" y="80"/>
                  <a:pt x="642" y="84"/>
                </a:cubicBezTo>
                <a:cubicBezTo>
                  <a:pt x="692" y="50"/>
                  <a:pt x="688" y="45"/>
                  <a:pt x="745" y="73"/>
                </a:cubicBezTo>
                <a:cubicBezTo>
                  <a:pt x="791" y="119"/>
                  <a:pt x="803" y="118"/>
                  <a:pt x="838" y="63"/>
                </a:cubicBezTo>
                <a:cubicBezTo>
                  <a:pt x="1014" y="76"/>
                  <a:pt x="928" y="70"/>
                  <a:pt x="1035" y="104"/>
                </a:cubicBezTo>
                <a:cubicBezTo>
                  <a:pt x="1054" y="44"/>
                  <a:pt x="1036" y="66"/>
                  <a:pt x="1138" y="94"/>
                </a:cubicBezTo>
                <a:cubicBezTo>
                  <a:pt x="1159" y="100"/>
                  <a:pt x="1200" y="115"/>
                  <a:pt x="1200" y="115"/>
                </a:cubicBezTo>
                <a:cubicBezTo>
                  <a:pt x="1210" y="111"/>
                  <a:pt x="1223" y="112"/>
                  <a:pt x="1231" y="104"/>
                </a:cubicBezTo>
                <a:cubicBezTo>
                  <a:pt x="1239" y="96"/>
                  <a:pt x="1231" y="75"/>
                  <a:pt x="1242" y="73"/>
                </a:cubicBezTo>
                <a:cubicBezTo>
                  <a:pt x="1273" y="67"/>
                  <a:pt x="1304" y="80"/>
                  <a:pt x="1335" y="84"/>
                </a:cubicBezTo>
                <a:cubicBezTo>
                  <a:pt x="1389" y="119"/>
                  <a:pt x="1437" y="100"/>
                  <a:pt x="1490" y="73"/>
                </a:cubicBezTo>
                <a:cubicBezTo>
                  <a:pt x="1565" y="99"/>
                  <a:pt x="1531" y="99"/>
                  <a:pt x="1593" y="84"/>
                </a:cubicBezTo>
                <a:cubicBezTo>
                  <a:pt x="1629" y="60"/>
                  <a:pt x="1634" y="47"/>
                  <a:pt x="1687" y="73"/>
                </a:cubicBezTo>
                <a:cubicBezTo>
                  <a:pt x="1698" y="78"/>
                  <a:pt x="1698" y="96"/>
                  <a:pt x="1707" y="104"/>
                </a:cubicBezTo>
                <a:cubicBezTo>
                  <a:pt x="1725" y="119"/>
                  <a:pt x="1750" y="123"/>
                  <a:pt x="1769" y="136"/>
                </a:cubicBezTo>
                <a:cubicBezTo>
                  <a:pt x="1779" y="129"/>
                  <a:pt x="1793" y="126"/>
                  <a:pt x="1800" y="115"/>
                </a:cubicBezTo>
                <a:cubicBezTo>
                  <a:pt x="1812" y="97"/>
                  <a:pt x="1800" y="59"/>
                  <a:pt x="1821" y="53"/>
                </a:cubicBezTo>
                <a:cubicBezTo>
                  <a:pt x="1835" y="49"/>
                  <a:pt x="1848" y="46"/>
                  <a:pt x="1862" y="42"/>
                </a:cubicBezTo>
                <a:cubicBezTo>
                  <a:pt x="1872" y="49"/>
                  <a:pt x="1884" y="54"/>
                  <a:pt x="1893" y="63"/>
                </a:cubicBezTo>
                <a:cubicBezTo>
                  <a:pt x="1902" y="72"/>
                  <a:pt x="1902" y="91"/>
                  <a:pt x="1914" y="94"/>
                </a:cubicBezTo>
                <a:cubicBezTo>
                  <a:pt x="1934" y="99"/>
                  <a:pt x="1955" y="87"/>
                  <a:pt x="1976" y="84"/>
                </a:cubicBezTo>
                <a:cubicBezTo>
                  <a:pt x="1983" y="74"/>
                  <a:pt x="1987" y="61"/>
                  <a:pt x="1997" y="53"/>
                </a:cubicBezTo>
                <a:cubicBezTo>
                  <a:pt x="2060" y="0"/>
                  <a:pt x="2082" y="85"/>
                  <a:pt x="2142" y="104"/>
                </a:cubicBezTo>
                <a:cubicBezTo>
                  <a:pt x="2152" y="111"/>
                  <a:pt x="2161" y="123"/>
                  <a:pt x="2173" y="125"/>
                </a:cubicBezTo>
                <a:cubicBezTo>
                  <a:pt x="2224" y="134"/>
                  <a:pt x="2206" y="63"/>
                  <a:pt x="2245" y="53"/>
                </a:cubicBezTo>
                <a:cubicBezTo>
                  <a:pt x="2259" y="49"/>
                  <a:pt x="2273" y="46"/>
                  <a:pt x="2287" y="42"/>
                </a:cubicBezTo>
                <a:cubicBezTo>
                  <a:pt x="2330" y="71"/>
                  <a:pt x="2364" y="98"/>
                  <a:pt x="2411" y="115"/>
                </a:cubicBezTo>
                <a:cubicBezTo>
                  <a:pt x="2443" y="65"/>
                  <a:pt x="2426" y="61"/>
                  <a:pt x="2483" y="32"/>
                </a:cubicBezTo>
                <a:cubicBezTo>
                  <a:pt x="2504" y="46"/>
                  <a:pt x="2524" y="59"/>
                  <a:pt x="2545" y="73"/>
                </a:cubicBezTo>
                <a:cubicBezTo>
                  <a:pt x="2555" y="80"/>
                  <a:pt x="2576" y="94"/>
                  <a:pt x="2576" y="94"/>
                </a:cubicBezTo>
                <a:cubicBezTo>
                  <a:pt x="2632" y="83"/>
                  <a:pt x="2649" y="78"/>
                  <a:pt x="2680" y="32"/>
                </a:cubicBezTo>
                <a:cubicBezTo>
                  <a:pt x="2704" y="39"/>
                  <a:pt x="2729" y="43"/>
                  <a:pt x="2752" y="53"/>
                </a:cubicBezTo>
                <a:cubicBezTo>
                  <a:pt x="2774" y="63"/>
                  <a:pt x="2814" y="94"/>
                  <a:pt x="2814" y="94"/>
                </a:cubicBezTo>
                <a:cubicBezTo>
                  <a:pt x="2824" y="91"/>
                  <a:pt x="2839" y="93"/>
                  <a:pt x="2845" y="84"/>
                </a:cubicBezTo>
                <a:cubicBezTo>
                  <a:pt x="2858" y="66"/>
                  <a:pt x="2845" y="29"/>
                  <a:pt x="2866" y="22"/>
                </a:cubicBezTo>
                <a:cubicBezTo>
                  <a:pt x="2876" y="18"/>
                  <a:pt x="2887" y="15"/>
                  <a:pt x="2897" y="11"/>
                </a:cubicBezTo>
                <a:cubicBezTo>
                  <a:pt x="2949" y="38"/>
                  <a:pt x="2975" y="86"/>
                  <a:pt x="3031" y="104"/>
                </a:cubicBezTo>
                <a:cubicBezTo>
                  <a:pt x="3078" y="89"/>
                  <a:pt x="3067" y="73"/>
                  <a:pt x="3093" y="32"/>
                </a:cubicBezTo>
                <a:cubicBezTo>
                  <a:pt x="3110" y="35"/>
                  <a:pt x="3130" y="33"/>
                  <a:pt x="3145" y="42"/>
                </a:cubicBezTo>
                <a:cubicBezTo>
                  <a:pt x="3156" y="48"/>
                  <a:pt x="3157" y="64"/>
                  <a:pt x="3166" y="73"/>
                </a:cubicBezTo>
                <a:cubicBezTo>
                  <a:pt x="3178" y="85"/>
                  <a:pt x="3221" y="113"/>
                  <a:pt x="3238" y="125"/>
                </a:cubicBezTo>
                <a:cubicBezTo>
                  <a:pt x="3248" y="122"/>
                  <a:pt x="3263" y="124"/>
                  <a:pt x="3269" y="115"/>
                </a:cubicBezTo>
                <a:cubicBezTo>
                  <a:pt x="3282" y="97"/>
                  <a:pt x="3290" y="53"/>
                  <a:pt x="3290" y="53"/>
                </a:cubicBezTo>
                <a:cubicBezTo>
                  <a:pt x="3307" y="56"/>
                  <a:pt x="3326" y="55"/>
                  <a:pt x="3342" y="63"/>
                </a:cubicBezTo>
                <a:cubicBezTo>
                  <a:pt x="3355" y="69"/>
                  <a:pt x="3361" y="86"/>
                  <a:pt x="3373" y="94"/>
                </a:cubicBezTo>
                <a:cubicBezTo>
                  <a:pt x="3382" y="100"/>
                  <a:pt x="3394" y="101"/>
                  <a:pt x="3404" y="104"/>
                </a:cubicBezTo>
                <a:cubicBezTo>
                  <a:pt x="3446" y="90"/>
                  <a:pt x="3452" y="72"/>
                  <a:pt x="3466" y="32"/>
                </a:cubicBezTo>
                <a:cubicBezTo>
                  <a:pt x="3480" y="35"/>
                  <a:pt x="3495" y="34"/>
                  <a:pt x="3507" y="42"/>
                </a:cubicBezTo>
                <a:cubicBezTo>
                  <a:pt x="3517" y="49"/>
                  <a:pt x="3519" y="64"/>
                  <a:pt x="3528" y="73"/>
                </a:cubicBezTo>
                <a:cubicBezTo>
                  <a:pt x="3549" y="94"/>
                  <a:pt x="3564" y="96"/>
                  <a:pt x="3590" y="104"/>
                </a:cubicBezTo>
                <a:cubicBezTo>
                  <a:pt x="3619" y="18"/>
                  <a:pt x="3590" y="36"/>
                  <a:pt x="3683" y="63"/>
                </a:cubicBezTo>
                <a:cubicBezTo>
                  <a:pt x="3714" y="94"/>
                  <a:pt x="3735" y="112"/>
                  <a:pt x="3776" y="125"/>
                </a:cubicBezTo>
                <a:cubicBezTo>
                  <a:pt x="3779" y="108"/>
                  <a:pt x="3777" y="88"/>
                  <a:pt x="3786" y="73"/>
                </a:cubicBezTo>
                <a:cubicBezTo>
                  <a:pt x="3817" y="18"/>
                  <a:pt x="3890" y="115"/>
                  <a:pt x="3921" y="136"/>
                </a:cubicBezTo>
                <a:cubicBezTo>
                  <a:pt x="3957" y="99"/>
                  <a:pt x="3951" y="80"/>
                  <a:pt x="3993" y="53"/>
                </a:cubicBezTo>
                <a:cubicBezTo>
                  <a:pt x="4043" y="69"/>
                  <a:pt x="4069" y="109"/>
                  <a:pt x="4117" y="125"/>
                </a:cubicBezTo>
                <a:cubicBezTo>
                  <a:pt x="4121" y="115"/>
                  <a:pt x="4128" y="94"/>
                  <a:pt x="4128" y="94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3880" y="4006800"/>
            <a:ext cx="2725920" cy="262080"/>
          </a:xfrm>
          <a:custGeom>
            <a:avLst/>
            <a:gdLst/>
            <a:ahLst/>
            <a:rect l="l" t="t" r="r" b="b"/>
            <a:pathLst>
              <a:path w="1717" h="165">
                <a:moveTo>
                  <a:pt x="0" y="41"/>
                </a:moveTo>
                <a:cubicBezTo>
                  <a:pt x="7" y="55"/>
                  <a:pt x="13" y="69"/>
                  <a:pt x="21" y="82"/>
                </a:cubicBezTo>
                <a:cubicBezTo>
                  <a:pt x="27" y="93"/>
                  <a:pt x="31" y="121"/>
                  <a:pt x="41" y="114"/>
                </a:cubicBezTo>
                <a:cubicBezTo>
                  <a:pt x="74" y="92"/>
                  <a:pt x="81" y="42"/>
                  <a:pt x="114" y="20"/>
                </a:cubicBezTo>
                <a:cubicBezTo>
                  <a:pt x="124" y="13"/>
                  <a:pt x="135" y="7"/>
                  <a:pt x="145" y="0"/>
                </a:cubicBezTo>
                <a:cubicBezTo>
                  <a:pt x="213" y="16"/>
                  <a:pt x="245" y="70"/>
                  <a:pt x="310" y="93"/>
                </a:cubicBezTo>
                <a:cubicBezTo>
                  <a:pt x="390" y="66"/>
                  <a:pt x="370" y="64"/>
                  <a:pt x="424" y="10"/>
                </a:cubicBezTo>
                <a:cubicBezTo>
                  <a:pt x="452" y="31"/>
                  <a:pt x="481" y="49"/>
                  <a:pt x="507" y="72"/>
                </a:cubicBezTo>
                <a:cubicBezTo>
                  <a:pt x="609" y="165"/>
                  <a:pt x="479" y="76"/>
                  <a:pt x="569" y="134"/>
                </a:cubicBezTo>
                <a:cubicBezTo>
                  <a:pt x="645" y="116"/>
                  <a:pt x="635" y="88"/>
                  <a:pt x="672" y="31"/>
                </a:cubicBezTo>
                <a:cubicBezTo>
                  <a:pt x="712" y="50"/>
                  <a:pt x="744" y="78"/>
                  <a:pt x="786" y="93"/>
                </a:cubicBezTo>
                <a:cubicBezTo>
                  <a:pt x="851" y="76"/>
                  <a:pt x="827" y="65"/>
                  <a:pt x="879" y="31"/>
                </a:cubicBezTo>
                <a:cubicBezTo>
                  <a:pt x="931" y="51"/>
                  <a:pt x="971" y="86"/>
                  <a:pt x="1024" y="103"/>
                </a:cubicBezTo>
                <a:cubicBezTo>
                  <a:pt x="1038" y="100"/>
                  <a:pt x="1055" y="102"/>
                  <a:pt x="1066" y="93"/>
                </a:cubicBezTo>
                <a:cubicBezTo>
                  <a:pt x="1085" y="77"/>
                  <a:pt x="1107" y="31"/>
                  <a:pt x="1107" y="31"/>
                </a:cubicBezTo>
                <a:cubicBezTo>
                  <a:pt x="1128" y="38"/>
                  <a:pt x="1150" y="41"/>
                  <a:pt x="1169" y="51"/>
                </a:cubicBezTo>
                <a:cubicBezTo>
                  <a:pt x="1311" y="122"/>
                  <a:pt x="1176" y="75"/>
                  <a:pt x="1262" y="103"/>
                </a:cubicBezTo>
                <a:cubicBezTo>
                  <a:pt x="1283" y="100"/>
                  <a:pt x="1306" y="103"/>
                  <a:pt x="1324" y="93"/>
                </a:cubicBezTo>
                <a:cubicBezTo>
                  <a:pt x="1339" y="85"/>
                  <a:pt x="1343" y="63"/>
                  <a:pt x="1355" y="51"/>
                </a:cubicBezTo>
                <a:cubicBezTo>
                  <a:pt x="1364" y="42"/>
                  <a:pt x="1376" y="38"/>
                  <a:pt x="1386" y="31"/>
                </a:cubicBezTo>
                <a:cubicBezTo>
                  <a:pt x="1433" y="54"/>
                  <a:pt x="1471" y="87"/>
                  <a:pt x="1521" y="103"/>
                </a:cubicBezTo>
                <a:cubicBezTo>
                  <a:pt x="1576" y="85"/>
                  <a:pt x="1587" y="30"/>
                  <a:pt x="1634" y="0"/>
                </a:cubicBezTo>
                <a:cubicBezTo>
                  <a:pt x="1665" y="10"/>
                  <a:pt x="1688" y="27"/>
                  <a:pt x="1717" y="4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847880"/>
            <a:ext cx="76960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黑体"/>
              </a:rPr>
              <a:t>他好像面对着大海，月亮正从水天相接的地方升起来。微波粼粼的海面上，霎时间洒满了银光。   月亮越升越高，穿过一缕一缕轻纱似的微云。   忽然，海面上刮起了大风，卷起了巨浪。被月光照得雪亮的浪花，一个连一个朝着岸边涌过来……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||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76520" y="39765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||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||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609480"/>
            <a:ext cx="914400" cy="8384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0" y="2244600"/>
            <a:ext cx="4500720" cy="2251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62560" cy="2286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0" y="4495680"/>
            <a:ext cx="4500720" cy="2362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508720" y="404640"/>
            <a:ext cx="316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月亮升起   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微波粼粼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03640" y="2492280"/>
            <a:ext cx="295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亮升高   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穿过微云 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75280" y="4581360"/>
            <a:ext cx="316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月光照耀  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波涛汹涌 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770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80880" y="6172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617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685800"/>
            <a:ext cx="7772400" cy="506160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10000"/>
                </a:solidFill>
                <a:latin typeface="Times New Roman"/>
              </a:rPr>
              <a:t>他好像面对着大海，月光正从水天相接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10000"/>
                </a:solidFill>
                <a:latin typeface="Times New Roman"/>
              </a:rPr>
              <a:t>的地方升起来。微波粼粼的海面上，霎时间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10000"/>
                </a:solidFill>
                <a:latin typeface="Times New Roman"/>
              </a:rPr>
              <a:t>洒遍了银光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1828800"/>
            <a:ext cx="1295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243828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243828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01160" cy="6805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8686800" y="640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句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66680" y="762120"/>
            <a:ext cx="7315200" cy="503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月亮越升越高，穿过一缕一缕轻纱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似的微云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054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80880" y="6477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5 6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05920" y="6248520"/>
            <a:ext cx="6094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515440" y="59436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9880" y="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0066"/>
                </a:solidFill>
                <a:uFillTx/>
                <a:latin typeface="Times New Roman"/>
                <a:ea typeface="楷体_GB2312"/>
              </a:rPr>
              <a:t>贝多芬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6560" y="765000"/>
            <a:ext cx="867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贝多芬（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770—1827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），德国波恩人。从小跟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父亲学习音乐，表现了非凡的音乐才华，十岁举行公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开演奏会，十二岁开始作曲。他生活在奥地利封建统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最黑暗的时代，家境贫寒，受尽磨难，对劳动人民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分同情，对专制暴政无比憎恨。他一生创作了大量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举世闻名的音乐作品，他的主要作品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《月光》奏鸣曲、《命运交响曲》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。贝多芬的晚年十分凄凉，在贫病交加中死去。但是，人民忘不了他，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827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日，贝多芬在奥地利维也纳逝世，终年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7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岁。终年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7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岁。贝多芬的葬礼举行时，有二千多人参加护灵。贝多芬对音乐的最重要贡献是交响曲，因此他被誉为“交响乐之王”。他的成功完全来之自身的艰苦奋斗，直到今日还被人们视为奋斗的楷模。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38080" y="762120"/>
            <a:ext cx="7543800" cy="503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忽然，海面上刮起了大风，卷起了巨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浪。被月光照得雪亮的浪花，一个连一个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朝着岸边涌过来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······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380880"/>
            <a:ext cx="8534160" cy="543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皮鞋匠静静地听着。他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好像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面对着大海，月光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正从水天相接的地方升起来。微波粼粼的海面上，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霎时间洒遍了银光。月亮越升越高，穿过一缕一缕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轻纱似的微云。忽然，海面上刮起了大风，卷起了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巨浪。被月光照得雪亮的的浪花，一个连一个朝着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岸边涌过来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······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2560" y="870120"/>
            <a:ext cx="2792160" cy="239400"/>
          </a:xfrm>
          <a:custGeom>
            <a:avLst/>
            <a:gdLst/>
            <a:ahLst/>
            <a:rect l="l" t="t" r="r" b="b"/>
            <a:pathLst>
              <a:path w="1759" h="151">
                <a:moveTo>
                  <a:pt x="0" y="11"/>
                </a:moveTo>
                <a:cubicBezTo>
                  <a:pt x="21" y="77"/>
                  <a:pt x="12" y="77"/>
                  <a:pt x="83" y="62"/>
                </a:cubicBezTo>
                <a:cubicBezTo>
                  <a:pt x="118" y="40"/>
                  <a:pt x="127" y="14"/>
                  <a:pt x="166" y="0"/>
                </a:cubicBezTo>
                <a:cubicBezTo>
                  <a:pt x="173" y="10"/>
                  <a:pt x="181" y="20"/>
                  <a:pt x="186" y="31"/>
                </a:cubicBezTo>
                <a:cubicBezTo>
                  <a:pt x="191" y="41"/>
                  <a:pt x="188" y="55"/>
                  <a:pt x="197" y="62"/>
                </a:cubicBezTo>
                <a:cubicBezTo>
                  <a:pt x="216" y="78"/>
                  <a:pt x="245" y="75"/>
                  <a:pt x="269" y="83"/>
                </a:cubicBezTo>
                <a:cubicBezTo>
                  <a:pt x="333" y="62"/>
                  <a:pt x="309" y="23"/>
                  <a:pt x="372" y="0"/>
                </a:cubicBezTo>
                <a:cubicBezTo>
                  <a:pt x="430" y="85"/>
                  <a:pt x="389" y="59"/>
                  <a:pt x="497" y="73"/>
                </a:cubicBezTo>
                <a:cubicBezTo>
                  <a:pt x="511" y="69"/>
                  <a:pt x="527" y="71"/>
                  <a:pt x="538" y="62"/>
                </a:cubicBezTo>
                <a:cubicBezTo>
                  <a:pt x="557" y="46"/>
                  <a:pt x="579" y="0"/>
                  <a:pt x="579" y="0"/>
                </a:cubicBezTo>
                <a:cubicBezTo>
                  <a:pt x="606" y="40"/>
                  <a:pt x="599" y="55"/>
                  <a:pt x="641" y="83"/>
                </a:cubicBezTo>
                <a:cubicBezTo>
                  <a:pt x="655" y="80"/>
                  <a:pt x="671" y="81"/>
                  <a:pt x="683" y="73"/>
                </a:cubicBezTo>
                <a:cubicBezTo>
                  <a:pt x="693" y="66"/>
                  <a:pt x="694" y="51"/>
                  <a:pt x="703" y="42"/>
                </a:cubicBezTo>
                <a:cubicBezTo>
                  <a:pt x="723" y="22"/>
                  <a:pt x="741" y="19"/>
                  <a:pt x="766" y="11"/>
                </a:cubicBezTo>
                <a:cubicBezTo>
                  <a:pt x="773" y="21"/>
                  <a:pt x="777" y="34"/>
                  <a:pt x="786" y="42"/>
                </a:cubicBezTo>
                <a:cubicBezTo>
                  <a:pt x="805" y="58"/>
                  <a:pt x="848" y="83"/>
                  <a:pt x="848" y="83"/>
                </a:cubicBezTo>
                <a:cubicBezTo>
                  <a:pt x="865" y="80"/>
                  <a:pt x="885" y="82"/>
                  <a:pt x="900" y="73"/>
                </a:cubicBezTo>
                <a:cubicBezTo>
                  <a:pt x="911" y="67"/>
                  <a:pt x="912" y="51"/>
                  <a:pt x="921" y="42"/>
                </a:cubicBezTo>
                <a:cubicBezTo>
                  <a:pt x="930" y="33"/>
                  <a:pt x="942" y="28"/>
                  <a:pt x="952" y="21"/>
                </a:cubicBezTo>
                <a:cubicBezTo>
                  <a:pt x="996" y="35"/>
                  <a:pt x="995" y="57"/>
                  <a:pt x="1034" y="83"/>
                </a:cubicBezTo>
                <a:cubicBezTo>
                  <a:pt x="1087" y="73"/>
                  <a:pt x="1110" y="72"/>
                  <a:pt x="1128" y="21"/>
                </a:cubicBezTo>
                <a:cubicBezTo>
                  <a:pt x="1138" y="24"/>
                  <a:pt x="1151" y="23"/>
                  <a:pt x="1159" y="31"/>
                </a:cubicBezTo>
                <a:cubicBezTo>
                  <a:pt x="1177" y="49"/>
                  <a:pt x="1200" y="93"/>
                  <a:pt x="1200" y="93"/>
                </a:cubicBezTo>
                <a:cubicBezTo>
                  <a:pt x="1272" y="79"/>
                  <a:pt x="1258" y="69"/>
                  <a:pt x="1314" y="31"/>
                </a:cubicBezTo>
                <a:cubicBezTo>
                  <a:pt x="1365" y="108"/>
                  <a:pt x="1331" y="98"/>
                  <a:pt x="1407" y="83"/>
                </a:cubicBezTo>
                <a:cubicBezTo>
                  <a:pt x="1431" y="47"/>
                  <a:pt x="1449" y="34"/>
                  <a:pt x="1490" y="21"/>
                </a:cubicBezTo>
                <a:cubicBezTo>
                  <a:pt x="1514" y="95"/>
                  <a:pt x="1492" y="71"/>
                  <a:pt x="1541" y="104"/>
                </a:cubicBezTo>
                <a:cubicBezTo>
                  <a:pt x="1605" y="72"/>
                  <a:pt x="1575" y="70"/>
                  <a:pt x="1624" y="21"/>
                </a:cubicBezTo>
                <a:cubicBezTo>
                  <a:pt x="1634" y="24"/>
                  <a:pt x="1647" y="23"/>
                  <a:pt x="1655" y="31"/>
                </a:cubicBezTo>
                <a:cubicBezTo>
                  <a:pt x="1663" y="39"/>
                  <a:pt x="1660" y="52"/>
                  <a:pt x="1665" y="62"/>
                </a:cubicBezTo>
                <a:cubicBezTo>
                  <a:pt x="1710" y="151"/>
                  <a:pt x="1667" y="38"/>
                  <a:pt x="1697" y="124"/>
                </a:cubicBezTo>
                <a:cubicBezTo>
                  <a:pt x="1735" y="112"/>
                  <a:pt x="1741" y="96"/>
                  <a:pt x="1759" y="6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8040" y="1494000"/>
            <a:ext cx="7767720" cy="269640"/>
          </a:xfrm>
          <a:custGeom>
            <a:avLst/>
            <a:gdLst/>
            <a:ahLst/>
            <a:rect l="l" t="t" r="r" b="b"/>
            <a:pathLst>
              <a:path w="4893" h="170">
                <a:moveTo>
                  <a:pt x="0" y="42"/>
                </a:moveTo>
                <a:cubicBezTo>
                  <a:pt x="37" y="66"/>
                  <a:pt x="50" y="77"/>
                  <a:pt x="93" y="62"/>
                </a:cubicBezTo>
                <a:cubicBezTo>
                  <a:pt x="100" y="52"/>
                  <a:pt x="104" y="39"/>
                  <a:pt x="114" y="31"/>
                </a:cubicBezTo>
                <a:cubicBezTo>
                  <a:pt x="145" y="7"/>
                  <a:pt x="156" y="27"/>
                  <a:pt x="176" y="52"/>
                </a:cubicBezTo>
                <a:cubicBezTo>
                  <a:pt x="234" y="127"/>
                  <a:pt x="189" y="105"/>
                  <a:pt x="248" y="124"/>
                </a:cubicBezTo>
                <a:cubicBezTo>
                  <a:pt x="318" y="107"/>
                  <a:pt x="317" y="77"/>
                  <a:pt x="372" y="42"/>
                </a:cubicBezTo>
                <a:cubicBezTo>
                  <a:pt x="398" y="50"/>
                  <a:pt x="413" y="52"/>
                  <a:pt x="434" y="73"/>
                </a:cubicBezTo>
                <a:cubicBezTo>
                  <a:pt x="443" y="82"/>
                  <a:pt x="444" y="97"/>
                  <a:pt x="455" y="104"/>
                </a:cubicBezTo>
                <a:cubicBezTo>
                  <a:pt x="474" y="115"/>
                  <a:pt x="517" y="124"/>
                  <a:pt x="517" y="124"/>
                </a:cubicBezTo>
                <a:cubicBezTo>
                  <a:pt x="543" y="118"/>
                  <a:pt x="570" y="116"/>
                  <a:pt x="589" y="93"/>
                </a:cubicBezTo>
                <a:cubicBezTo>
                  <a:pt x="644" y="24"/>
                  <a:pt x="546" y="97"/>
                  <a:pt x="631" y="42"/>
                </a:cubicBezTo>
                <a:cubicBezTo>
                  <a:pt x="675" y="56"/>
                  <a:pt x="674" y="78"/>
                  <a:pt x="713" y="104"/>
                </a:cubicBezTo>
                <a:cubicBezTo>
                  <a:pt x="788" y="94"/>
                  <a:pt x="808" y="100"/>
                  <a:pt x="848" y="42"/>
                </a:cubicBezTo>
                <a:cubicBezTo>
                  <a:pt x="920" y="56"/>
                  <a:pt x="972" y="110"/>
                  <a:pt x="1045" y="135"/>
                </a:cubicBezTo>
                <a:cubicBezTo>
                  <a:pt x="1098" y="116"/>
                  <a:pt x="1101" y="73"/>
                  <a:pt x="1148" y="42"/>
                </a:cubicBezTo>
                <a:cubicBezTo>
                  <a:pt x="1187" y="55"/>
                  <a:pt x="1197" y="81"/>
                  <a:pt x="1231" y="104"/>
                </a:cubicBezTo>
                <a:cubicBezTo>
                  <a:pt x="1255" y="100"/>
                  <a:pt x="1283" y="106"/>
                  <a:pt x="1303" y="93"/>
                </a:cubicBezTo>
                <a:cubicBezTo>
                  <a:pt x="1324" y="80"/>
                  <a:pt x="1344" y="31"/>
                  <a:pt x="1344" y="31"/>
                </a:cubicBezTo>
                <a:cubicBezTo>
                  <a:pt x="1354" y="33"/>
                  <a:pt x="1411" y="43"/>
                  <a:pt x="1427" y="52"/>
                </a:cubicBezTo>
                <a:cubicBezTo>
                  <a:pt x="1540" y="114"/>
                  <a:pt x="1447" y="78"/>
                  <a:pt x="1520" y="104"/>
                </a:cubicBezTo>
                <a:cubicBezTo>
                  <a:pt x="1541" y="100"/>
                  <a:pt x="1563" y="102"/>
                  <a:pt x="1582" y="93"/>
                </a:cubicBezTo>
                <a:cubicBezTo>
                  <a:pt x="1593" y="87"/>
                  <a:pt x="1594" y="71"/>
                  <a:pt x="1603" y="62"/>
                </a:cubicBezTo>
                <a:cubicBezTo>
                  <a:pt x="1622" y="44"/>
                  <a:pt x="1642" y="39"/>
                  <a:pt x="1665" y="31"/>
                </a:cubicBezTo>
                <a:cubicBezTo>
                  <a:pt x="1727" y="123"/>
                  <a:pt x="1854" y="112"/>
                  <a:pt x="1955" y="124"/>
                </a:cubicBezTo>
                <a:cubicBezTo>
                  <a:pt x="1965" y="117"/>
                  <a:pt x="1979" y="114"/>
                  <a:pt x="1986" y="104"/>
                </a:cubicBezTo>
                <a:cubicBezTo>
                  <a:pt x="1998" y="86"/>
                  <a:pt x="2007" y="42"/>
                  <a:pt x="2007" y="42"/>
                </a:cubicBezTo>
                <a:cubicBezTo>
                  <a:pt x="2069" y="54"/>
                  <a:pt x="2086" y="62"/>
                  <a:pt x="2151" y="52"/>
                </a:cubicBezTo>
                <a:cubicBezTo>
                  <a:pt x="2161" y="45"/>
                  <a:pt x="2171" y="25"/>
                  <a:pt x="2182" y="31"/>
                </a:cubicBezTo>
                <a:cubicBezTo>
                  <a:pt x="2204" y="43"/>
                  <a:pt x="2224" y="93"/>
                  <a:pt x="2224" y="93"/>
                </a:cubicBezTo>
                <a:cubicBezTo>
                  <a:pt x="2241" y="90"/>
                  <a:pt x="2261" y="93"/>
                  <a:pt x="2275" y="83"/>
                </a:cubicBezTo>
                <a:cubicBezTo>
                  <a:pt x="2284" y="77"/>
                  <a:pt x="2279" y="61"/>
                  <a:pt x="2286" y="52"/>
                </a:cubicBezTo>
                <a:cubicBezTo>
                  <a:pt x="2294" y="42"/>
                  <a:pt x="2307" y="38"/>
                  <a:pt x="2317" y="31"/>
                </a:cubicBezTo>
                <a:cubicBezTo>
                  <a:pt x="2320" y="45"/>
                  <a:pt x="2323" y="59"/>
                  <a:pt x="2327" y="73"/>
                </a:cubicBezTo>
                <a:cubicBezTo>
                  <a:pt x="2330" y="84"/>
                  <a:pt x="2328" y="101"/>
                  <a:pt x="2338" y="104"/>
                </a:cubicBezTo>
                <a:cubicBezTo>
                  <a:pt x="2355" y="109"/>
                  <a:pt x="2372" y="97"/>
                  <a:pt x="2389" y="93"/>
                </a:cubicBezTo>
                <a:cubicBezTo>
                  <a:pt x="2460" y="46"/>
                  <a:pt x="2427" y="44"/>
                  <a:pt x="2482" y="62"/>
                </a:cubicBezTo>
                <a:cubicBezTo>
                  <a:pt x="2492" y="72"/>
                  <a:pt x="2504" y="82"/>
                  <a:pt x="2513" y="93"/>
                </a:cubicBezTo>
                <a:cubicBezTo>
                  <a:pt x="2521" y="103"/>
                  <a:pt x="2522" y="121"/>
                  <a:pt x="2534" y="124"/>
                </a:cubicBezTo>
                <a:cubicBezTo>
                  <a:pt x="2558" y="129"/>
                  <a:pt x="2582" y="117"/>
                  <a:pt x="2606" y="114"/>
                </a:cubicBezTo>
                <a:cubicBezTo>
                  <a:pt x="2651" y="71"/>
                  <a:pt x="2648" y="56"/>
                  <a:pt x="2710" y="73"/>
                </a:cubicBezTo>
                <a:cubicBezTo>
                  <a:pt x="2784" y="122"/>
                  <a:pt x="2748" y="120"/>
                  <a:pt x="2813" y="104"/>
                </a:cubicBezTo>
                <a:cubicBezTo>
                  <a:pt x="2855" y="75"/>
                  <a:pt x="2866" y="71"/>
                  <a:pt x="2917" y="83"/>
                </a:cubicBezTo>
                <a:cubicBezTo>
                  <a:pt x="2927" y="90"/>
                  <a:pt x="2939" y="95"/>
                  <a:pt x="2948" y="104"/>
                </a:cubicBezTo>
                <a:cubicBezTo>
                  <a:pt x="2957" y="113"/>
                  <a:pt x="2957" y="131"/>
                  <a:pt x="2969" y="135"/>
                </a:cubicBezTo>
                <a:cubicBezTo>
                  <a:pt x="2982" y="139"/>
                  <a:pt x="2996" y="128"/>
                  <a:pt x="3010" y="124"/>
                </a:cubicBezTo>
                <a:cubicBezTo>
                  <a:pt x="3034" y="88"/>
                  <a:pt x="3052" y="76"/>
                  <a:pt x="3093" y="62"/>
                </a:cubicBezTo>
                <a:cubicBezTo>
                  <a:pt x="3103" y="69"/>
                  <a:pt x="3113" y="77"/>
                  <a:pt x="3124" y="83"/>
                </a:cubicBezTo>
                <a:cubicBezTo>
                  <a:pt x="3134" y="88"/>
                  <a:pt x="3146" y="87"/>
                  <a:pt x="3155" y="93"/>
                </a:cubicBezTo>
                <a:cubicBezTo>
                  <a:pt x="3191" y="117"/>
                  <a:pt x="3204" y="141"/>
                  <a:pt x="3248" y="155"/>
                </a:cubicBezTo>
                <a:cubicBezTo>
                  <a:pt x="3292" y="126"/>
                  <a:pt x="3307" y="82"/>
                  <a:pt x="3351" y="52"/>
                </a:cubicBezTo>
                <a:cubicBezTo>
                  <a:pt x="3365" y="55"/>
                  <a:pt x="3382" y="53"/>
                  <a:pt x="3393" y="62"/>
                </a:cubicBezTo>
                <a:cubicBezTo>
                  <a:pt x="3412" y="78"/>
                  <a:pt x="3434" y="124"/>
                  <a:pt x="3434" y="124"/>
                </a:cubicBezTo>
                <a:cubicBezTo>
                  <a:pt x="3458" y="121"/>
                  <a:pt x="3483" y="121"/>
                  <a:pt x="3506" y="114"/>
                </a:cubicBezTo>
                <a:cubicBezTo>
                  <a:pt x="3551" y="101"/>
                  <a:pt x="3535" y="69"/>
                  <a:pt x="3589" y="52"/>
                </a:cubicBezTo>
                <a:cubicBezTo>
                  <a:pt x="3648" y="71"/>
                  <a:pt x="3595" y="47"/>
                  <a:pt x="3641" y="93"/>
                </a:cubicBezTo>
                <a:cubicBezTo>
                  <a:pt x="3718" y="170"/>
                  <a:pt x="3653" y="82"/>
                  <a:pt x="3703" y="155"/>
                </a:cubicBezTo>
                <a:cubicBezTo>
                  <a:pt x="3720" y="152"/>
                  <a:pt x="3740" y="154"/>
                  <a:pt x="3755" y="145"/>
                </a:cubicBezTo>
                <a:cubicBezTo>
                  <a:pt x="3810" y="110"/>
                  <a:pt x="3820" y="61"/>
                  <a:pt x="3879" y="42"/>
                </a:cubicBezTo>
                <a:cubicBezTo>
                  <a:pt x="3893" y="49"/>
                  <a:pt x="3908" y="53"/>
                  <a:pt x="3920" y="62"/>
                </a:cubicBezTo>
                <a:cubicBezTo>
                  <a:pt x="3932" y="70"/>
                  <a:pt x="3938" y="86"/>
                  <a:pt x="3951" y="93"/>
                </a:cubicBezTo>
                <a:cubicBezTo>
                  <a:pt x="3970" y="104"/>
                  <a:pt x="4013" y="114"/>
                  <a:pt x="4013" y="114"/>
                </a:cubicBezTo>
                <a:cubicBezTo>
                  <a:pt x="4044" y="111"/>
                  <a:pt x="4076" y="112"/>
                  <a:pt x="4106" y="104"/>
                </a:cubicBezTo>
                <a:cubicBezTo>
                  <a:pt x="4139" y="96"/>
                  <a:pt x="4161" y="50"/>
                  <a:pt x="4189" y="31"/>
                </a:cubicBezTo>
                <a:cubicBezTo>
                  <a:pt x="4247" y="52"/>
                  <a:pt x="4249" y="97"/>
                  <a:pt x="4303" y="114"/>
                </a:cubicBezTo>
                <a:cubicBezTo>
                  <a:pt x="4320" y="111"/>
                  <a:pt x="4338" y="110"/>
                  <a:pt x="4355" y="104"/>
                </a:cubicBezTo>
                <a:cubicBezTo>
                  <a:pt x="4390" y="91"/>
                  <a:pt x="4404" y="53"/>
                  <a:pt x="4437" y="31"/>
                </a:cubicBezTo>
                <a:cubicBezTo>
                  <a:pt x="4494" y="43"/>
                  <a:pt x="4515" y="48"/>
                  <a:pt x="4562" y="83"/>
                </a:cubicBezTo>
                <a:cubicBezTo>
                  <a:pt x="4662" y="63"/>
                  <a:pt x="4576" y="93"/>
                  <a:pt x="4634" y="42"/>
                </a:cubicBezTo>
                <a:cubicBezTo>
                  <a:pt x="4653" y="26"/>
                  <a:pt x="4696" y="0"/>
                  <a:pt x="4696" y="0"/>
                </a:cubicBezTo>
                <a:cubicBezTo>
                  <a:pt x="4717" y="14"/>
                  <a:pt x="4737" y="28"/>
                  <a:pt x="4758" y="42"/>
                </a:cubicBezTo>
                <a:cubicBezTo>
                  <a:pt x="4768" y="49"/>
                  <a:pt x="4779" y="55"/>
                  <a:pt x="4789" y="62"/>
                </a:cubicBezTo>
                <a:cubicBezTo>
                  <a:pt x="4799" y="69"/>
                  <a:pt x="4820" y="83"/>
                  <a:pt x="4820" y="83"/>
                </a:cubicBezTo>
                <a:cubicBezTo>
                  <a:pt x="4841" y="78"/>
                  <a:pt x="4893" y="74"/>
                  <a:pt x="4893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2133720"/>
            <a:ext cx="7767720" cy="269640"/>
          </a:xfrm>
          <a:custGeom>
            <a:avLst/>
            <a:gdLst/>
            <a:ahLst/>
            <a:rect l="l" t="t" r="r" b="b"/>
            <a:pathLst>
              <a:path w="4893" h="170">
                <a:moveTo>
                  <a:pt x="0" y="56"/>
                </a:moveTo>
                <a:cubicBezTo>
                  <a:pt x="41" y="97"/>
                  <a:pt x="42" y="111"/>
                  <a:pt x="93" y="77"/>
                </a:cubicBezTo>
                <a:cubicBezTo>
                  <a:pt x="110" y="28"/>
                  <a:pt x="119" y="31"/>
                  <a:pt x="166" y="46"/>
                </a:cubicBezTo>
                <a:cubicBezTo>
                  <a:pt x="201" y="98"/>
                  <a:pt x="217" y="87"/>
                  <a:pt x="280" y="77"/>
                </a:cubicBezTo>
                <a:cubicBezTo>
                  <a:pt x="286" y="68"/>
                  <a:pt x="311" y="20"/>
                  <a:pt x="331" y="25"/>
                </a:cubicBezTo>
                <a:cubicBezTo>
                  <a:pt x="373" y="35"/>
                  <a:pt x="420" y="95"/>
                  <a:pt x="456" y="118"/>
                </a:cubicBezTo>
                <a:cubicBezTo>
                  <a:pt x="470" y="115"/>
                  <a:pt x="486" y="117"/>
                  <a:pt x="497" y="108"/>
                </a:cubicBezTo>
                <a:cubicBezTo>
                  <a:pt x="516" y="92"/>
                  <a:pt x="517" y="60"/>
                  <a:pt x="538" y="46"/>
                </a:cubicBezTo>
                <a:cubicBezTo>
                  <a:pt x="548" y="39"/>
                  <a:pt x="559" y="32"/>
                  <a:pt x="569" y="25"/>
                </a:cubicBezTo>
                <a:cubicBezTo>
                  <a:pt x="631" y="47"/>
                  <a:pt x="572" y="19"/>
                  <a:pt x="621" y="67"/>
                </a:cubicBezTo>
                <a:cubicBezTo>
                  <a:pt x="640" y="85"/>
                  <a:pt x="660" y="90"/>
                  <a:pt x="683" y="98"/>
                </a:cubicBezTo>
                <a:cubicBezTo>
                  <a:pt x="724" y="84"/>
                  <a:pt x="742" y="72"/>
                  <a:pt x="766" y="36"/>
                </a:cubicBezTo>
                <a:cubicBezTo>
                  <a:pt x="838" y="54"/>
                  <a:pt x="817" y="77"/>
                  <a:pt x="869" y="118"/>
                </a:cubicBezTo>
                <a:cubicBezTo>
                  <a:pt x="889" y="133"/>
                  <a:pt x="931" y="160"/>
                  <a:pt x="931" y="160"/>
                </a:cubicBezTo>
                <a:cubicBezTo>
                  <a:pt x="970" y="146"/>
                  <a:pt x="979" y="120"/>
                  <a:pt x="1014" y="98"/>
                </a:cubicBezTo>
                <a:cubicBezTo>
                  <a:pt x="1030" y="48"/>
                  <a:pt x="1039" y="51"/>
                  <a:pt x="1087" y="67"/>
                </a:cubicBezTo>
                <a:cubicBezTo>
                  <a:pt x="1108" y="88"/>
                  <a:pt x="1121" y="120"/>
                  <a:pt x="1149" y="129"/>
                </a:cubicBezTo>
                <a:cubicBezTo>
                  <a:pt x="1170" y="136"/>
                  <a:pt x="1211" y="149"/>
                  <a:pt x="1211" y="149"/>
                </a:cubicBezTo>
                <a:cubicBezTo>
                  <a:pt x="1228" y="146"/>
                  <a:pt x="1247" y="147"/>
                  <a:pt x="1262" y="139"/>
                </a:cubicBezTo>
                <a:cubicBezTo>
                  <a:pt x="1289" y="125"/>
                  <a:pt x="1312" y="79"/>
                  <a:pt x="1345" y="56"/>
                </a:cubicBezTo>
                <a:cubicBezTo>
                  <a:pt x="1391" y="72"/>
                  <a:pt x="1382" y="93"/>
                  <a:pt x="1428" y="108"/>
                </a:cubicBezTo>
                <a:cubicBezTo>
                  <a:pt x="1488" y="168"/>
                  <a:pt x="1545" y="160"/>
                  <a:pt x="1624" y="149"/>
                </a:cubicBezTo>
                <a:cubicBezTo>
                  <a:pt x="1673" y="77"/>
                  <a:pt x="1645" y="101"/>
                  <a:pt x="1697" y="67"/>
                </a:cubicBezTo>
                <a:cubicBezTo>
                  <a:pt x="1750" y="80"/>
                  <a:pt x="1757" y="100"/>
                  <a:pt x="1800" y="129"/>
                </a:cubicBezTo>
                <a:cubicBezTo>
                  <a:pt x="1824" y="125"/>
                  <a:pt x="1851" y="128"/>
                  <a:pt x="1873" y="118"/>
                </a:cubicBezTo>
                <a:cubicBezTo>
                  <a:pt x="1884" y="113"/>
                  <a:pt x="1884" y="96"/>
                  <a:pt x="1893" y="87"/>
                </a:cubicBezTo>
                <a:cubicBezTo>
                  <a:pt x="1902" y="78"/>
                  <a:pt x="1914" y="74"/>
                  <a:pt x="1924" y="67"/>
                </a:cubicBezTo>
                <a:cubicBezTo>
                  <a:pt x="1959" y="74"/>
                  <a:pt x="1994" y="77"/>
                  <a:pt x="2028" y="87"/>
                </a:cubicBezTo>
                <a:cubicBezTo>
                  <a:pt x="2066" y="99"/>
                  <a:pt x="2082" y="136"/>
                  <a:pt x="2121" y="149"/>
                </a:cubicBezTo>
                <a:cubicBezTo>
                  <a:pt x="2197" y="137"/>
                  <a:pt x="2194" y="138"/>
                  <a:pt x="2235" y="77"/>
                </a:cubicBezTo>
                <a:cubicBezTo>
                  <a:pt x="2241" y="78"/>
                  <a:pt x="2298" y="91"/>
                  <a:pt x="2307" y="98"/>
                </a:cubicBezTo>
                <a:cubicBezTo>
                  <a:pt x="2317" y="106"/>
                  <a:pt x="2319" y="120"/>
                  <a:pt x="2328" y="129"/>
                </a:cubicBezTo>
                <a:cubicBezTo>
                  <a:pt x="2347" y="147"/>
                  <a:pt x="2367" y="152"/>
                  <a:pt x="2390" y="160"/>
                </a:cubicBezTo>
                <a:cubicBezTo>
                  <a:pt x="2407" y="156"/>
                  <a:pt x="2427" y="159"/>
                  <a:pt x="2442" y="149"/>
                </a:cubicBezTo>
                <a:cubicBezTo>
                  <a:pt x="2477" y="127"/>
                  <a:pt x="2500" y="89"/>
                  <a:pt x="2535" y="67"/>
                </a:cubicBezTo>
                <a:cubicBezTo>
                  <a:pt x="2552" y="70"/>
                  <a:pt x="2570" y="70"/>
                  <a:pt x="2586" y="77"/>
                </a:cubicBezTo>
                <a:cubicBezTo>
                  <a:pt x="2609" y="87"/>
                  <a:pt x="2625" y="110"/>
                  <a:pt x="2648" y="118"/>
                </a:cubicBezTo>
                <a:cubicBezTo>
                  <a:pt x="2659" y="122"/>
                  <a:pt x="2669" y="125"/>
                  <a:pt x="2680" y="129"/>
                </a:cubicBezTo>
                <a:cubicBezTo>
                  <a:pt x="2776" y="112"/>
                  <a:pt x="2762" y="95"/>
                  <a:pt x="2835" y="46"/>
                </a:cubicBezTo>
                <a:cubicBezTo>
                  <a:pt x="2904" y="63"/>
                  <a:pt x="2912" y="102"/>
                  <a:pt x="2959" y="149"/>
                </a:cubicBezTo>
                <a:cubicBezTo>
                  <a:pt x="2980" y="146"/>
                  <a:pt x="3001" y="146"/>
                  <a:pt x="3021" y="139"/>
                </a:cubicBezTo>
                <a:cubicBezTo>
                  <a:pt x="3067" y="124"/>
                  <a:pt x="3050" y="94"/>
                  <a:pt x="3104" y="77"/>
                </a:cubicBezTo>
                <a:cubicBezTo>
                  <a:pt x="3162" y="91"/>
                  <a:pt x="3204" y="120"/>
                  <a:pt x="3238" y="170"/>
                </a:cubicBezTo>
                <a:cubicBezTo>
                  <a:pt x="3255" y="167"/>
                  <a:pt x="3273" y="166"/>
                  <a:pt x="3290" y="160"/>
                </a:cubicBezTo>
                <a:cubicBezTo>
                  <a:pt x="3343" y="140"/>
                  <a:pt x="3300" y="137"/>
                  <a:pt x="3352" y="108"/>
                </a:cubicBezTo>
                <a:cubicBezTo>
                  <a:pt x="3371" y="97"/>
                  <a:pt x="3414" y="87"/>
                  <a:pt x="3414" y="87"/>
                </a:cubicBezTo>
                <a:cubicBezTo>
                  <a:pt x="3485" y="135"/>
                  <a:pt x="3452" y="121"/>
                  <a:pt x="3507" y="139"/>
                </a:cubicBezTo>
                <a:cubicBezTo>
                  <a:pt x="3584" y="130"/>
                  <a:pt x="3602" y="136"/>
                  <a:pt x="3642" y="77"/>
                </a:cubicBezTo>
                <a:cubicBezTo>
                  <a:pt x="3663" y="80"/>
                  <a:pt x="3685" y="78"/>
                  <a:pt x="3704" y="87"/>
                </a:cubicBezTo>
                <a:cubicBezTo>
                  <a:pt x="3715" y="92"/>
                  <a:pt x="3714" y="111"/>
                  <a:pt x="3724" y="118"/>
                </a:cubicBezTo>
                <a:cubicBezTo>
                  <a:pt x="3742" y="130"/>
                  <a:pt x="3786" y="139"/>
                  <a:pt x="3786" y="139"/>
                </a:cubicBezTo>
                <a:cubicBezTo>
                  <a:pt x="3912" y="116"/>
                  <a:pt x="3868" y="139"/>
                  <a:pt x="3931" y="98"/>
                </a:cubicBezTo>
                <a:cubicBezTo>
                  <a:pt x="3937" y="89"/>
                  <a:pt x="3963" y="42"/>
                  <a:pt x="3983" y="46"/>
                </a:cubicBezTo>
                <a:cubicBezTo>
                  <a:pt x="4074" y="66"/>
                  <a:pt x="4015" y="87"/>
                  <a:pt x="4076" y="108"/>
                </a:cubicBezTo>
                <a:cubicBezTo>
                  <a:pt x="4097" y="115"/>
                  <a:pt x="4138" y="129"/>
                  <a:pt x="4138" y="129"/>
                </a:cubicBezTo>
                <a:cubicBezTo>
                  <a:pt x="4155" y="125"/>
                  <a:pt x="4173" y="124"/>
                  <a:pt x="4190" y="118"/>
                </a:cubicBezTo>
                <a:cubicBezTo>
                  <a:pt x="4226" y="105"/>
                  <a:pt x="4239" y="68"/>
                  <a:pt x="4273" y="46"/>
                </a:cubicBezTo>
                <a:cubicBezTo>
                  <a:pt x="4365" y="68"/>
                  <a:pt x="4272" y="36"/>
                  <a:pt x="4335" y="87"/>
                </a:cubicBezTo>
                <a:cubicBezTo>
                  <a:pt x="4353" y="102"/>
                  <a:pt x="4378" y="105"/>
                  <a:pt x="4397" y="118"/>
                </a:cubicBezTo>
                <a:cubicBezTo>
                  <a:pt x="4418" y="115"/>
                  <a:pt x="4440" y="116"/>
                  <a:pt x="4459" y="108"/>
                </a:cubicBezTo>
                <a:cubicBezTo>
                  <a:pt x="4482" y="99"/>
                  <a:pt x="4521" y="67"/>
                  <a:pt x="4521" y="67"/>
                </a:cubicBezTo>
                <a:cubicBezTo>
                  <a:pt x="4528" y="57"/>
                  <a:pt x="4532" y="44"/>
                  <a:pt x="4541" y="36"/>
                </a:cubicBezTo>
                <a:cubicBezTo>
                  <a:pt x="4584" y="0"/>
                  <a:pt x="4605" y="60"/>
                  <a:pt x="4635" y="77"/>
                </a:cubicBezTo>
                <a:cubicBezTo>
                  <a:pt x="4654" y="88"/>
                  <a:pt x="4697" y="98"/>
                  <a:pt x="4697" y="98"/>
                </a:cubicBezTo>
                <a:cubicBezTo>
                  <a:pt x="4769" y="85"/>
                  <a:pt x="4780" y="87"/>
                  <a:pt x="4831" y="36"/>
                </a:cubicBezTo>
                <a:cubicBezTo>
                  <a:pt x="4852" y="43"/>
                  <a:pt x="4893" y="49"/>
                  <a:pt x="4893" y="7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8040" y="2774880"/>
            <a:ext cx="7647120" cy="246240"/>
          </a:xfrm>
          <a:custGeom>
            <a:avLst/>
            <a:gdLst/>
            <a:ahLst/>
            <a:rect l="l" t="t" r="r" b="b"/>
            <a:pathLst>
              <a:path w="4817" h="155">
                <a:moveTo>
                  <a:pt x="0" y="31"/>
                </a:moveTo>
                <a:cubicBezTo>
                  <a:pt x="39" y="44"/>
                  <a:pt x="65" y="69"/>
                  <a:pt x="103" y="83"/>
                </a:cubicBezTo>
                <a:cubicBezTo>
                  <a:pt x="179" y="56"/>
                  <a:pt x="90" y="95"/>
                  <a:pt x="155" y="41"/>
                </a:cubicBezTo>
                <a:cubicBezTo>
                  <a:pt x="167" y="31"/>
                  <a:pt x="182" y="28"/>
                  <a:pt x="196" y="21"/>
                </a:cubicBezTo>
                <a:cubicBezTo>
                  <a:pt x="346" y="50"/>
                  <a:pt x="263" y="29"/>
                  <a:pt x="424" y="83"/>
                </a:cubicBezTo>
                <a:cubicBezTo>
                  <a:pt x="445" y="90"/>
                  <a:pt x="486" y="103"/>
                  <a:pt x="486" y="103"/>
                </a:cubicBezTo>
                <a:cubicBezTo>
                  <a:pt x="496" y="93"/>
                  <a:pt x="509" y="84"/>
                  <a:pt x="517" y="72"/>
                </a:cubicBezTo>
                <a:cubicBezTo>
                  <a:pt x="523" y="63"/>
                  <a:pt x="517" y="45"/>
                  <a:pt x="527" y="41"/>
                </a:cubicBezTo>
                <a:cubicBezTo>
                  <a:pt x="541" y="36"/>
                  <a:pt x="555" y="48"/>
                  <a:pt x="569" y="52"/>
                </a:cubicBezTo>
                <a:cubicBezTo>
                  <a:pt x="640" y="99"/>
                  <a:pt x="607" y="85"/>
                  <a:pt x="662" y="103"/>
                </a:cubicBezTo>
                <a:cubicBezTo>
                  <a:pt x="672" y="93"/>
                  <a:pt x="681" y="81"/>
                  <a:pt x="693" y="72"/>
                </a:cubicBezTo>
                <a:cubicBezTo>
                  <a:pt x="713" y="57"/>
                  <a:pt x="755" y="31"/>
                  <a:pt x="755" y="31"/>
                </a:cubicBezTo>
                <a:cubicBezTo>
                  <a:pt x="796" y="45"/>
                  <a:pt x="843" y="48"/>
                  <a:pt x="879" y="72"/>
                </a:cubicBezTo>
                <a:cubicBezTo>
                  <a:pt x="919" y="99"/>
                  <a:pt x="898" y="89"/>
                  <a:pt x="941" y="103"/>
                </a:cubicBezTo>
                <a:cubicBezTo>
                  <a:pt x="991" y="87"/>
                  <a:pt x="1027" y="44"/>
                  <a:pt x="1076" y="21"/>
                </a:cubicBezTo>
                <a:cubicBezTo>
                  <a:pt x="1109" y="64"/>
                  <a:pt x="1099" y="63"/>
                  <a:pt x="1148" y="83"/>
                </a:cubicBezTo>
                <a:cubicBezTo>
                  <a:pt x="1168" y="91"/>
                  <a:pt x="1210" y="103"/>
                  <a:pt x="1210" y="103"/>
                </a:cubicBezTo>
                <a:cubicBezTo>
                  <a:pt x="1231" y="100"/>
                  <a:pt x="1253" y="102"/>
                  <a:pt x="1272" y="93"/>
                </a:cubicBezTo>
                <a:cubicBezTo>
                  <a:pt x="1283" y="87"/>
                  <a:pt x="1283" y="70"/>
                  <a:pt x="1293" y="62"/>
                </a:cubicBezTo>
                <a:cubicBezTo>
                  <a:pt x="1302" y="55"/>
                  <a:pt x="1314" y="55"/>
                  <a:pt x="1324" y="52"/>
                </a:cubicBezTo>
                <a:cubicBezTo>
                  <a:pt x="1447" y="82"/>
                  <a:pt x="1273" y="34"/>
                  <a:pt x="1407" y="93"/>
                </a:cubicBezTo>
                <a:cubicBezTo>
                  <a:pt x="1433" y="104"/>
                  <a:pt x="1462" y="105"/>
                  <a:pt x="1489" y="114"/>
                </a:cubicBezTo>
                <a:cubicBezTo>
                  <a:pt x="1541" y="95"/>
                  <a:pt x="1546" y="51"/>
                  <a:pt x="1593" y="21"/>
                </a:cubicBezTo>
                <a:cubicBezTo>
                  <a:pt x="1698" y="56"/>
                  <a:pt x="1659" y="34"/>
                  <a:pt x="1717" y="72"/>
                </a:cubicBezTo>
                <a:cubicBezTo>
                  <a:pt x="1812" y="49"/>
                  <a:pt x="1805" y="32"/>
                  <a:pt x="1893" y="62"/>
                </a:cubicBezTo>
                <a:cubicBezTo>
                  <a:pt x="1923" y="154"/>
                  <a:pt x="1915" y="155"/>
                  <a:pt x="2007" y="124"/>
                </a:cubicBezTo>
                <a:cubicBezTo>
                  <a:pt x="2058" y="47"/>
                  <a:pt x="2024" y="57"/>
                  <a:pt x="2100" y="72"/>
                </a:cubicBezTo>
                <a:cubicBezTo>
                  <a:pt x="2135" y="96"/>
                  <a:pt x="2163" y="121"/>
                  <a:pt x="2203" y="134"/>
                </a:cubicBezTo>
                <a:cubicBezTo>
                  <a:pt x="2213" y="131"/>
                  <a:pt x="2226" y="132"/>
                  <a:pt x="2234" y="124"/>
                </a:cubicBezTo>
                <a:cubicBezTo>
                  <a:pt x="2252" y="106"/>
                  <a:pt x="2275" y="62"/>
                  <a:pt x="2275" y="62"/>
                </a:cubicBezTo>
                <a:cubicBezTo>
                  <a:pt x="2310" y="65"/>
                  <a:pt x="2346" y="62"/>
                  <a:pt x="2379" y="72"/>
                </a:cubicBezTo>
                <a:cubicBezTo>
                  <a:pt x="2393" y="76"/>
                  <a:pt x="2397" y="96"/>
                  <a:pt x="2410" y="103"/>
                </a:cubicBezTo>
                <a:cubicBezTo>
                  <a:pt x="2429" y="114"/>
                  <a:pt x="2472" y="124"/>
                  <a:pt x="2472" y="124"/>
                </a:cubicBezTo>
                <a:cubicBezTo>
                  <a:pt x="2486" y="121"/>
                  <a:pt x="2502" y="123"/>
                  <a:pt x="2513" y="114"/>
                </a:cubicBezTo>
                <a:cubicBezTo>
                  <a:pt x="2532" y="98"/>
                  <a:pt x="2555" y="52"/>
                  <a:pt x="2555" y="52"/>
                </a:cubicBezTo>
                <a:cubicBezTo>
                  <a:pt x="2600" y="70"/>
                  <a:pt x="2639" y="87"/>
                  <a:pt x="2679" y="114"/>
                </a:cubicBezTo>
                <a:cubicBezTo>
                  <a:pt x="2693" y="110"/>
                  <a:pt x="2708" y="111"/>
                  <a:pt x="2720" y="103"/>
                </a:cubicBezTo>
                <a:cubicBezTo>
                  <a:pt x="2808" y="43"/>
                  <a:pt x="2676" y="93"/>
                  <a:pt x="2772" y="62"/>
                </a:cubicBezTo>
                <a:cubicBezTo>
                  <a:pt x="2844" y="110"/>
                  <a:pt x="2813" y="89"/>
                  <a:pt x="2865" y="124"/>
                </a:cubicBezTo>
                <a:cubicBezTo>
                  <a:pt x="2875" y="131"/>
                  <a:pt x="2896" y="145"/>
                  <a:pt x="2896" y="145"/>
                </a:cubicBezTo>
                <a:cubicBezTo>
                  <a:pt x="2906" y="141"/>
                  <a:pt x="2919" y="142"/>
                  <a:pt x="2927" y="134"/>
                </a:cubicBezTo>
                <a:cubicBezTo>
                  <a:pt x="2945" y="116"/>
                  <a:pt x="2969" y="72"/>
                  <a:pt x="2969" y="72"/>
                </a:cubicBezTo>
                <a:cubicBezTo>
                  <a:pt x="2990" y="8"/>
                  <a:pt x="2963" y="57"/>
                  <a:pt x="3041" y="83"/>
                </a:cubicBezTo>
                <a:cubicBezTo>
                  <a:pt x="3072" y="93"/>
                  <a:pt x="3103" y="104"/>
                  <a:pt x="3134" y="114"/>
                </a:cubicBezTo>
                <a:cubicBezTo>
                  <a:pt x="3144" y="117"/>
                  <a:pt x="3165" y="124"/>
                  <a:pt x="3165" y="124"/>
                </a:cubicBezTo>
                <a:cubicBezTo>
                  <a:pt x="3182" y="121"/>
                  <a:pt x="3202" y="123"/>
                  <a:pt x="3217" y="114"/>
                </a:cubicBezTo>
                <a:cubicBezTo>
                  <a:pt x="3228" y="108"/>
                  <a:pt x="3227" y="90"/>
                  <a:pt x="3237" y="83"/>
                </a:cubicBezTo>
                <a:cubicBezTo>
                  <a:pt x="3256" y="71"/>
                  <a:pt x="3300" y="62"/>
                  <a:pt x="3300" y="62"/>
                </a:cubicBezTo>
                <a:cubicBezTo>
                  <a:pt x="3333" y="84"/>
                  <a:pt x="3365" y="101"/>
                  <a:pt x="3403" y="114"/>
                </a:cubicBezTo>
                <a:cubicBezTo>
                  <a:pt x="3480" y="93"/>
                  <a:pt x="3469" y="70"/>
                  <a:pt x="3527" y="31"/>
                </a:cubicBezTo>
                <a:cubicBezTo>
                  <a:pt x="3587" y="50"/>
                  <a:pt x="3630" y="109"/>
                  <a:pt x="3682" y="145"/>
                </a:cubicBezTo>
                <a:cubicBezTo>
                  <a:pt x="3708" y="140"/>
                  <a:pt x="3746" y="138"/>
                  <a:pt x="3765" y="114"/>
                </a:cubicBezTo>
                <a:cubicBezTo>
                  <a:pt x="3772" y="106"/>
                  <a:pt x="3769" y="92"/>
                  <a:pt x="3775" y="83"/>
                </a:cubicBezTo>
                <a:cubicBezTo>
                  <a:pt x="3795" y="52"/>
                  <a:pt x="3824" y="22"/>
                  <a:pt x="3858" y="10"/>
                </a:cubicBezTo>
                <a:cubicBezTo>
                  <a:pt x="3898" y="26"/>
                  <a:pt x="3931" y="49"/>
                  <a:pt x="3972" y="62"/>
                </a:cubicBezTo>
                <a:cubicBezTo>
                  <a:pt x="3982" y="69"/>
                  <a:pt x="3991" y="82"/>
                  <a:pt x="4003" y="83"/>
                </a:cubicBezTo>
                <a:cubicBezTo>
                  <a:pt x="4069" y="90"/>
                  <a:pt x="4078" y="49"/>
                  <a:pt x="4117" y="10"/>
                </a:cubicBezTo>
                <a:cubicBezTo>
                  <a:pt x="4220" y="32"/>
                  <a:pt x="4130" y="0"/>
                  <a:pt x="4189" y="52"/>
                </a:cubicBezTo>
                <a:cubicBezTo>
                  <a:pt x="4208" y="68"/>
                  <a:pt x="4251" y="93"/>
                  <a:pt x="4251" y="93"/>
                </a:cubicBezTo>
                <a:cubicBezTo>
                  <a:pt x="4268" y="90"/>
                  <a:pt x="4288" y="92"/>
                  <a:pt x="4303" y="83"/>
                </a:cubicBezTo>
                <a:cubicBezTo>
                  <a:pt x="4314" y="77"/>
                  <a:pt x="4314" y="60"/>
                  <a:pt x="4324" y="52"/>
                </a:cubicBezTo>
                <a:cubicBezTo>
                  <a:pt x="4333" y="45"/>
                  <a:pt x="4345" y="45"/>
                  <a:pt x="4355" y="41"/>
                </a:cubicBezTo>
                <a:cubicBezTo>
                  <a:pt x="4388" y="64"/>
                  <a:pt x="4415" y="91"/>
                  <a:pt x="4448" y="114"/>
                </a:cubicBezTo>
                <a:cubicBezTo>
                  <a:pt x="4513" y="97"/>
                  <a:pt x="4481" y="115"/>
                  <a:pt x="4530" y="41"/>
                </a:cubicBezTo>
                <a:cubicBezTo>
                  <a:pt x="4540" y="26"/>
                  <a:pt x="4578" y="15"/>
                  <a:pt x="4593" y="10"/>
                </a:cubicBezTo>
                <a:cubicBezTo>
                  <a:pt x="4659" y="28"/>
                  <a:pt x="4702" y="82"/>
                  <a:pt x="4768" y="103"/>
                </a:cubicBezTo>
                <a:cubicBezTo>
                  <a:pt x="4817" y="91"/>
                  <a:pt x="4810" y="107"/>
                  <a:pt x="4810" y="7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4560" y="3513240"/>
            <a:ext cx="1165320" cy="164880"/>
          </a:xfrm>
          <a:custGeom>
            <a:avLst/>
            <a:gdLst/>
            <a:ahLst/>
            <a:rect l="l" t="t" r="r" b="b"/>
            <a:pathLst>
              <a:path w="734" h="104">
                <a:moveTo>
                  <a:pt x="0" y="31"/>
                </a:moveTo>
                <a:cubicBezTo>
                  <a:pt x="25" y="69"/>
                  <a:pt x="56" y="79"/>
                  <a:pt x="93" y="104"/>
                </a:cubicBezTo>
                <a:cubicBezTo>
                  <a:pt x="148" y="86"/>
                  <a:pt x="131" y="57"/>
                  <a:pt x="176" y="31"/>
                </a:cubicBezTo>
                <a:cubicBezTo>
                  <a:pt x="188" y="24"/>
                  <a:pt x="203" y="24"/>
                  <a:pt x="217" y="21"/>
                </a:cubicBezTo>
                <a:cubicBezTo>
                  <a:pt x="319" y="71"/>
                  <a:pt x="270" y="57"/>
                  <a:pt x="362" y="73"/>
                </a:cubicBezTo>
                <a:cubicBezTo>
                  <a:pt x="383" y="69"/>
                  <a:pt x="407" y="74"/>
                  <a:pt x="424" y="62"/>
                </a:cubicBezTo>
                <a:cubicBezTo>
                  <a:pt x="444" y="48"/>
                  <a:pt x="466" y="0"/>
                  <a:pt x="466" y="0"/>
                </a:cubicBezTo>
                <a:lnTo>
                  <a:pt x="590" y="52"/>
                </a:lnTo>
                <a:cubicBezTo>
                  <a:pt x="590" y="52"/>
                  <a:pt x="590" y="52"/>
                  <a:pt x="590" y="52"/>
                </a:cubicBezTo>
                <a:cubicBezTo>
                  <a:pt x="611" y="59"/>
                  <a:pt x="652" y="73"/>
                  <a:pt x="652" y="73"/>
                </a:cubicBezTo>
                <a:cubicBezTo>
                  <a:pt x="675" y="65"/>
                  <a:pt x="696" y="60"/>
                  <a:pt x="714" y="42"/>
                </a:cubicBezTo>
                <a:cubicBezTo>
                  <a:pt x="723" y="33"/>
                  <a:pt x="734" y="11"/>
                  <a:pt x="734" y="1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9880" y="3446640"/>
            <a:ext cx="6553080" cy="215640"/>
          </a:xfrm>
          <a:custGeom>
            <a:avLst/>
            <a:gdLst/>
            <a:ahLst/>
            <a:rect l="l" t="t" r="r" b="b"/>
            <a:pathLst>
              <a:path w="4128" h="136">
                <a:moveTo>
                  <a:pt x="0" y="73"/>
                </a:moveTo>
                <a:cubicBezTo>
                  <a:pt x="38" y="70"/>
                  <a:pt x="77" y="71"/>
                  <a:pt x="114" y="63"/>
                </a:cubicBezTo>
                <a:cubicBezTo>
                  <a:pt x="126" y="60"/>
                  <a:pt x="133" y="42"/>
                  <a:pt x="145" y="42"/>
                </a:cubicBezTo>
                <a:cubicBezTo>
                  <a:pt x="198" y="42"/>
                  <a:pt x="248" y="65"/>
                  <a:pt x="300" y="73"/>
                </a:cubicBezTo>
                <a:cubicBezTo>
                  <a:pt x="329" y="92"/>
                  <a:pt x="334" y="110"/>
                  <a:pt x="363" y="73"/>
                </a:cubicBezTo>
                <a:cubicBezTo>
                  <a:pt x="370" y="64"/>
                  <a:pt x="365" y="49"/>
                  <a:pt x="373" y="42"/>
                </a:cubicBezTo>
                <a:cubicBezTo>
                  <a:pt x="384" y="33"/>
                  <a:pt x="400" y="35"/>
                  <a:pt x="414" y="32"/>
                </a:cubicBezTo>
                <a:cubicBezTo>
                  <a:pt x="485" y="79"/>
                  <a:pt x="453" y="65"/>
                  <a:pt x="507" y="84"/>
                </a:cubicBezTo>
                <a:cubicBezTo>
                  <a:pt x="509" y="82"/>
                  <a:pt x="558" y="29"/>
                  <a:pt x="569" y="32"/>
                </a:cubicBezTo>
                <a:cubicBezTo>
                  <a:pt x="588" y="37"/>
                  <a:pt x="595" y="62"/>
                  <a:pt x="611" y="73"/>
                </a:cubicBezTo>
                <a:cubicBezTo>
                  <a:pt x="620" y="79"/>
                  <a:pt x="632" y="80"/>
                  <a:pt x="642" y="84"/>
                </a:cubicBezTo>
                <a:cubicBezTo>
                  <a:pt x="692" y="50"/>
                  <a:pt x="688" y="45"/>
                  <a:pt x="745" y="73"/>
                </a:cubicBezTo>
                <a:cubicBezTo>
                  <a:pt x="791" y="119"/>
                  <a:pt x="803" y="118"/>
                  <a:pt x="838" y="63"/>
                </a:cubicBezTo>
                <a:cubicBezTo>
                  <a:pt x="1014" y="76"/>
                  <a:pt x="928" y="70"/>
                  <a:pt x="1035" y="104"/>
                </a:cubicBezTo>
                <a:cubicBezTo>
                  <a:pt x="1054" y="44"/>
                  <a:pt x="1036" y="66"/>
                  <a:pt x="1138" y="94"/>
                </a:cubicBezTo>
                <a:cubicBezTo>
                  <a:pt x="1159" y="100"/>
                  <a:pt x="1200" y="115"/>
                  <a:pt x="1200" y="115"/>
                </a:cubicBezTo>
                <a:cubicBezTo>
                  <a:pt x="1210" y="111"/>
                  <a:pt x="1223" y="112"/>
                  <a:pt x="1231" y="104"/>
                </a:cubicBezTo>
                <a:cubicBezTo>
                  <a:pt x="1239" y="96"/>
                  <a:pt x="1231" y="75"/>
                  <a:pt x="1242" y="73"/>
                </a:cubicBezTo>
                <a:cubicBezTo>
                  <a:pt x="1273" y="67"/>
                  <a:pt x="1304" y="80"/>
                  <a:pt x="1335" y="84"/>
                </a:cubicBezTo>
                <a:cubicBezTo>
                  <a:pt x="1389" y="119"/>
                  <a:pt x="1437" y="100"/>
                  <a:pt x="1490" y="73"/>
                </a:cubicBezTo>
                <a:cubicBezTo>
                  <a:pt x="1565" y="99"/>
                  <a:pt x="1531" y="99"/>
                  <a:pt x="1593" y="84"/>
                </a:cubicBezTo>
                <a:cubicBezTo>
                  <a:pt x="1629" y="60"/>
                  <a:pt x="1634" y="47"/>
                  <a:pt x="1687" y="73"/>
                </a:cubicBezTo>
                <a:cubicBezTo>
                  <a:pt x="1698" y="78"/>
                  <a:pt x="1698" y="96"/>
                  <a:pt x="1707" y="104"/>
                </a:cubicBezTo>
                <a:cubicBezTo>
                  <a:pt x="1725" y="119"/>
                  <a:pt x="1750" y="123"/>
                  <a:pt x="1769" y="136"/>
                </a:cubicBezTo>
                <a:cubicBezTo>
                  <a:pt x="1779" y="129"/>
                  <a:pt x="1793" y="126"/>
                  <a:pt x="1800" y="115"/>
                </a:cubicBezTo>
                <a:cubicBezTo>
                  <a:pt x="1812" y="97"/>
                  <a:pt x="1800" y="59"/>
                  <a:pt x="1821" y="53"/>
                </a:cubicBezTo>
                <a:cubicBezTo>
                  <a:pt x="1835" y="49"/>
                  <a:pt x="1848" y="46"/>
                  <a:pt x="1862" y="42"/>
                </a:cubicBezTo>
                <a:cubicBezTo>
                  <a:pt x="1872" y="49"/>
                  <a:pt x="1884" y="54"/>
                  <a:pt x="1893" y="63"/>
                </a:cubicBezTo>
                <a:cubicBezTo>
                  <a:pt x="1902" y="72"/>
                  <a:pt x="1902" y="91"/>
                  <a:pt x="1914" y="94"/>
                </a:cubicBezTo>
                <a:cubicBezTo>
                  <a:pt x="1934" y="99"/>
                  <a:pt x="1955" y="87"/>
                  <a:pt x="1976" y="84"/>
                </a:cubicBezTo>
                <a:cubicBezTo>
                  <a:pt x="1983" y="74"/>
                  <a:pt x="1987" y="61"/>
                  <a:pt x="1997" y="53"/>
                </a:cubicBezTo>
                <a:cubicBezTo>
                  <a:pt x="2060" y="0"/>
                  <a:pt x="2082" y="85"/>
                  <a:pt x="2142" y="104"/>
                </a:cubicBezTo>
                <a:cubicBezTo>
                  <a:pt x="2152" y="111"/>
                  <a:pt x="2161" y="123"/>
                  <a:pt x="2173" y="125"/>
                </a:cubicBezTo>
                <a:cubicBezTo>
                  <a:pt x="2224" y="134"/>
                  <a:pt x="2206" y="63"/>
                  <a:pt x="2245" y="53"/>
                </a:cubicBezTo>
                <a:cubicBezTo>
                  <a:pt x="2259" y="49"/>
                  <a:pt x="2273" y="46"/>
                  <a:pt x="2287" y="42"/>
                </a:cubicBezTo>
                <a:cubicBezTo>
                  <a:pt x="2330" y="71"/>
                  <a:pt x="2364" y="98"/>
                  <a:pt x="2411" y="115"/>
                </a:cubicBezTo>
                <a:cubicBezTo>
                  <a:pt x="2443" y="65"/>
                  <a:pt x="2426" y="61"/>
                  <a:pt x="2483" y="32"/>
                </a:cubicBezTo>
                <a:cubicBezTo>
                  <a:pt x="2504" y="46"/>
                  <a:pt x="2524" y="59"/>
                  <a:pt x="2545" y="73"/>
                </a:cubicBezTo>
                <a:cubicBezTo>
                  <a:pt x="2555" y="80"/>
                  <a:pt x="2576" y="94"/>
                  <a:pt x="2576" y="94"/>
                </a:cubicBezTo>
                <a:cubicBezTo>
                  <a:pt x="2632" y="83"/>
                  <a:pt x="2649" y="78"/>
                  <a:pt x="2680" y="32"/>
                </a:cubicBezTo>
                <a:cubicBezTo>
                  <a:pt x="2704" y="39"/>
                  <a:pt x="2729" y="43"/>
                  <a:pt x="2752" y="53"/>
                </a:cubicBezTo>
                <a:cubicBezTo>
                  <a:pt x="2774" y="63"/>
                  <a:pt x="2814" y="94"/>
                  <a:pt x="2814" y="94"/>
                </a:cubicBezTo>
                <a:cubicBezTo>
                  <a:pt x="2824" y="91"/>
                  <a:pt x="2839" y="93"/>
                  <a:pt x="2845" y="84"/>
                </a:cubicBezTo>
                <a:cubicBezTo>
                  <a:pt x="2858" y="66"/>
                  <a:pt x="2845" y="29"/>
                  <a:pt x="2866" y="22"/>
                </a:cubicBezTo>
                <a:cubicBezTo>
                  <a:pt x="2876" y="18"/>
                  <a:pt x="2887" y="15"/>
                  <a:pt x="2897" y="11"/>
                </a:cubicBezTo>
                <a:cubicBezTo>
                  <a:pt x="2949" y="38"/>
                  <a:pt x="2975" y="86"/>
                  <a:pt x="3031" y="104"/>
                </a:cubicBezTo>
                <a:cubicBezTo>
                  <a:pt x="3078" y="89"/>
                  <a:pt x="3067" y="73"/>
                  <a:pt x="3093" y="32"/>
                </a:cubicBezTo>
                <a:cubicBezTo>
                  <a:pt x="3110" y="35"/>
                  <a:pt x="3130" y="33"/>
                  <a:pt x="3145" y="42"/>
                </a:cubicBezTo>
                <a:cubicBezTo>
                  <a:pt x="3156" y="48"/>
                  <a:pt x="3157" y="64"/>
                  <a:pt x="3166" y="73"/>
                </a:cubicBezTo>
                <a:cubicBezTo>
                  <a:pt x="3178" y="85"/>
                  <a:pt x="3221" y="113"/>
                  <a:pt x="3238" y="125"/>
                </a:cubicBezTo>
                <a:cubicBezTo>
                  <a:pt x="3248" y="122"/>
                  <a:pt x="3263" y="124"/>
                  <a:pt x="3269" y="115"/>
                </a:cubicBezTo>
                <a:cubicBezTo>
                  <a:pt x="3282" y="97"/>
                  <a:pt x="3290" y="53"/>
                  <a:pt x="3290" y="53"/>
                </a:cubicBezTo>
                <a:cubicBezTo>
                  <a:pt x="3307" y="56"/>
                  <a:pt x="3326" y="55"/>
                  <a:pt x="3342" y="63"/>
                </a:cubicBezTo>
                <a:cubicBezTo>
                  <a:pt x="3355" y="69"/>
                  <a:pt x="3361" y="86"/>
                  <a:pt x="3373" y="94"/>
                </a:cubicBezTo>
                <a:cubicBezTo>
                  <a:pt x="3382" y="100"/>
                  <a:pt x="3394" y="101"/>
                  <a:pt x="3404" y="104"/>
                </a:cubicBezTo>
                <a:cubicBezTo>
                  <a:pt x="3446" y="90"/>
                  <a:pt x="3452" y="72"/>
                  <a:pt x="3466" y="32"/>
                </a:cubicBezTo>
                <a:cubicBezTo>
                  <a:pt x="3480" y="35"/>
                  <a:pt x="3495" y="34"/>
                  <a:pt x="3507" y="42"/>
                </a:cubicBezTo>
                <a:cubicBezTo>
                  <a:pt x="3517" y="49"/>
                  <a:pt x="3519" y="64"/>
                  <a:pt x="3528" y="73"/>
                </a:cubicBezTo>
                <a:cubicBezTo>
                  <a:pt x="3549" y="94"/>
                  <a:pt x="3564" y="96"/>
                  <a:pt x="3590" y="104"/>
                </a:cubicBezTo>
                <a:cubicBezTo>
                  <a:pt x="3619" y="18"/>
                  <a:pt x="3590" y="36"/>
                  <a:pt x="3683" y="63"/>
                </a:cubicBezTo>
                <a:cubicBezTo>
                  <a:pt x="3714" y="94"/>
                  <a:pt x="3735" y="112"/>
                  <a:pt x="3776" y="125"/>
                </a:cubicBezTo>
                <a:cubicBezTo>
                  <a:pt x="3779" y="108"/>
                  <a:pt x="3777" y="88"/>
                  <a:pt x="3786" y="73"/>
                </a:cubicBezTo>
                <a:cubicBezTo>
                  <a:pt x="3817" y="18"/>
                  <a:pt x="3890" y="115"/>
                  <a:pt x="3921" y="136"/>
                </a:cubicBezTo>
                <a:cubicBezTo>
                  <a:pt x="3957" y="99"/>
                  <a:pt x="3951" y="80"/>
                  <a:pt x="3993" y="53"/>
                </a:cubicBezTo>
                <a:cubicBezTo>
                  <a:pt x="4043" y="69"/>
                  <a:pt x="4069" y="109"/>
                  <a:pt x="4117" y="125"/>
                </a:cubicBezTo>
                <a:cubicBezTo>
                  <a:pt x="4121" y="115"/>
                  <a:pt x="4128" y="94"/>
                  <a:pt x="4128" y="94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3880" y="4006800"/>
            <a:ext cx="2725920" cy="262080"/>
          </a:xfrm>
          <a:custGeom>
            <a:avLst/>
            <a:gdLst/>
            <a:ahLst/>
            <a:rect l="l" t="t" r="r" b="b"/>
            <a:pathLst>
              <a:path w="1717" h="165">
                <a:moveTo>
                  <a:pt x="0" y="41"/>
                </a:moveTo>
                <a:cubicBezTo>
                  <a:pt x="7" y="55"/>
                  <a:pt x="13" y="69"/>
                  <a:pt x="21" y="82"/>
                </a:cubicBezTo>
                <a:cubicBezTo>
                  <a:pt x="27" y="93"/>
                  <a:pt x="31" y="121"/>
                  <a:pt x="41" y="114"/>
                </a:cubicBezTo>
                <a:cubicBezTo>
                  <a:pt x="74" y="92"/>
                  <a:pt x="81" y="42"/>
                  <a:pt x="114" y="20"/>
                </a:cubicBezTo>
                <a:cubicBezTo>
                  <a:pt x="124" y="13"/>
                  <a:pt x="135" y="7"/>
                  <a:pt x="145" y="0"/>
                </a:cubicBezTo>
                <a:cubicBezTo>
                  <a:pt x="213" y="16"/>
                  <a:pt x="245" y="70"/>
                  <a:pt x="310" y="93"/>
                </a:cubicBezTo>
                <a:cubicBezTo>
                  <a:pt x="390" y="66"/>
                  <a:pt x="370" y="64"/>
                  <a:pt x="424" y="10"/>
                </a:cubicBezTo>
                <a:cubicBezTo>
                  <a:pt x="452" y="31"/>
                  <a:pt x="481" y="49"/>
                  <a:pt x="507" y="72"/>
                </a:cubicBezTo>
                <a:cubicBezTo>
                  <a:pt x="609" y="165"/>
                  <a:pt x="479" y="76"/>
                  <a:pt x="569" y="134"/>
                </a:cubicBezTo>
                <a:cubicBezTo>
                  <a:pt x="645" y="116"/>
                  <a:pt x="635" y="88"/>
                  <a:pt x="672" y="31"/>
                </a:cubicBezTo>
                <a:cubicBezTo>
                  <a:pt x="712" y="50"/>
                  <a:pt x="744" y="78"/>
                  <a:pt x="786" y="93"/>
                </a:cubicBezTo>
                <a:cubicBezTo>
                  <a:pt x="851" y="76"/>
                  <a:pt x="827" y="65"/>
                  <a:pt x="879" y="31"/>
                </a:cubicBezTo>
                <a:cubicBezTo>
                  <a:pt x="931" y="51"/>
                  <a:pt x="971" y="86"/>
                  <a:pt x="1024" y="103"/>
                </a:cubicBezTo>
                <a:cubicBezTo>
                  <a:pt x="1038" y="100"/>
                  <a:pt x="1055" y="102"/>
                  <a:pt x="1066" y="93"/>
                </a:cubicBezTo>
                <a:cubicBezTo>
                  <a:pt x="1085" y="77"/>
                  <a:pt x="1107" y="31"/>
                  <a:pt x="1107" y="31"/>
                </a:cubicBezTo>
                <a:cubicBezTo>
                  <a:pt x="1128" y="38"/>
                  <a:pt x="1150" y="41"/>
                  <a:pt x="1169" y="51"/>
                </a:cubicBezTo>
                <a:cubicBezTo>
                  <a:pt x="1311" y="122"/>
                  <a:pt x="1176" y="75"/>
                  <a:pt x="1262" y="103"/>
                </a:cubicBezTo>
                <a:cubicBezTo>
                  <a:pt x="1283" y="100"/>
                  <a:pt x="1306" y="103"/>
                  <a:pt x="1324" y="93"/>
                </a:cubicBezTo>
                <a:cubicBezTo>
                  <a:pt x="1339" y="85"/>
                  <a:pt x="1343" y="63"/>
                  <a:pt x="1355" y="51"/>
                </a:cubicBezTo>
                <a:cubicBezTo>
                  <a:pt x="1364" y="42"/>
                  <a:pt x="1376" y="38"/>
                  <a:pt x="1386" y="31"/>
                </a:cubicBezTo>
                <a:cubicBezTo>
                  <a:pt x="1433" y="54"/>
                  <a:pt x="1471" y="87"/>
                  <a:pt x="1521" y="103"/>
                </a:cubicBezTo>
                <a:cubicBezTo>
                  <a:pt x="1576" y="85"/>
                  <a:pt x="1587" y="30"/>
                  <a:pt x="1634" y="0"/>
                </a:cubicBezTo>
                <a:cubicBezTo>
                  <a:pt x="1665" y="10"/>
                  <a:pt x="1688" y="27"/>
                  <a:pt x="1717" y="4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91440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304920"/>
            <a:ext cx="7925040" cy="5803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皮鞋匠看看妹妹，月光正照在她那恬静的脸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上，照着她睁得大大的眼睛。她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仿佛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也看到了，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看到了她从来没有看到过的景象，在月光照耀下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的波涛汹涌的大海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434340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思考：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皮鞋匠看到妹妹脸上的表情想到了什么？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用                            划出来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5029200"/>
            <a:ext cx="1119240" cy="139680"/>
          </a:xfrm>
          <a:custGeom>
            <a:avLst/>
            <a:gdLst/>
            <a:ahLst/>
            <a:rect l="l" t="t" r="r" b="b"/>
            <a:pathLst>
              <a:path w="705" h="88">
                <a:moveTo>
                  <a:pt x="2" y="2"/>
                </a:moveTo>
                <a:cubicBezTo>
                  <a:pt x="18" y="84"/>
                  <a:pt x="0" y="56"/>
                  <a:pt x="33" y="23"/>
                </a:cubicBezTo>
                <a:cubicBezTo>
                  <a:pt x="42" y="14"/>
                  <a:pt x="54" y="9"/>
                  <a:pt x="64" y="2"/>
                </a:cubicBezTo>
                <a:cubicBezTo>
                  <a:pt x="72" y="26"/>
                  <a:pt x="80" y="62"/>
                  <a:pt x="105" y="75"/>
                </a:cubicBezTo>
                <a:cubicBezTo>
                  <a:pt x="115" y="80"/>
                  <a:pt x="126" y="68"/>
                  <a:pt x="136" y="64"/>
                </a:cubicBezTo>
                <a:cubicBezTo>
                  <a:pt x="167" y="18"/>
                  <a:pt x="168" y="0"/>
                  <a:pt x="219" y="33"/>
                </a:cubicBezTo>
                <a:cubicBezTo>
                  <a:pt x="226" y="43"/>
                  <a:pt x="228" y="59"/>
                  <a:pt x="240" y="64"/>
                </a:cubicBezTo>
                <a:cubicBezTo>
                  <a:pt x="254" y="70"/>
                  <a:pt x="295" y="38"/>
                  <a:pt x="302" y="33"/>
                </a:cubicBezTo>
                <a:cubicBezTo>
                  <a:pt x="316" y="37"/>
                  <a:pt x="332" y="35"/>
                  <a:pt x="343" y="44"/>
                </a:cubicBezTo>
                <a:cubicBezTo>
                  <a:pt x="382" y="76"/>
                  <a:pt x="317" y="88"/>
                  <a:pt x="384" y="64"/>
                </a:cubicBezTo>
                <a:cubicBezTo>
                  <a:pt x="392" y="52"/>
                  <a:pt x="410" y="12"/>
                  <a:pt x="436" y="23"/>
                </a:cubicBezTo>
                <a:cubicBezTo>
                  <a:pt x="448" y="28"/>
                  <a:pt x="447" y="46"/>
                  <a:pt x="457" y="54"/>
                </a:cubicBezTo>
                <a:cubicBezTo>
                  <a:pt x="466" y="61"/>
                  <a:pt x="478" y="61"/>
                  <a:pt x="488" y="64"/>
                </a:cubicBezTo>
                <a:cubicBezTo>
                  <a:pt x="495" y="54"/>
                  <a:pt x="498" y="41"/>
                  <a:pt x="508" y="33"/>
                </a:cubicBezTo>
                <a:cubicBezTo>
                  <a:pt x="546" y="3"/>
                  <a:pt x="543" y="35"/>
                  <a:pt x="571" y="54"/>
                </a:cubicBezTo>
                <a:cubicBezTo>
                  <a:pt x="580" y="60"/>
                  <a:pt x="592" y="61"/>
                  <a:pt x="602" y="64"/>
                </a:cubicBezTo>
                <a:cubicBezTo>
                  <a:pt x="609" y="54"/>
                  <a:pt x="612" y="41"/>
                  <a:pt x="622" y="33"/>
                </a:cubicBezTo>
                <a:cubicBezTo>
                  <a:pt x="661" y="2"/>
                  <a:pt x="648" y="37"/>
                  <a:pt x="684" y="44"/>
                </a:cubicBezTo>
                <a:cubicBezTo>
                  <a:pt x="692" y="45"/>
                  <a:pt x="698" y="37"/>
                  <a:pt x="705" y="3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为什么说盲姑娘仿佛也看到了？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21280" y="5435640"/>
            <a:ext cx="17280" cy="49320"/>
          </a:xfrm>
          <a:custGeom>
            <a:avLst/>
            <a:gdLst/>
            <a:ahLst/>
            <a:rect l="l" t="t" r="r" b="b"/>
            <a:pathLst>
              <a:path w="11" h="31">
                <a:moveTo>
                  <a:pt x="0" y="31"/>
                </a:moveTo>
                <a:cubicBezTo>
                  <a:pt x="4" y="21"/>
                  <a:pt x="11" y="0"/>
                  <a:pt x="11" y="0"/>
                </a:cubicBezTo>
                <a:cubicBezTo>
                  <a:pt x="11" y="0"/>
                  <a:pt x="4" y="21"/>
                  <a:pt x="0" y="31"/>
                </a:cubicBezTo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54400" y="5467320"/>
            <a:ext cx="49320" cy="33480"/>
          </a:xfrm>
          <a:custGeom>
            <a:avLst/>
            <a:gdLst/>
            <a:ahLst/>
            <a:rect l="l" t="t" r="r" b="b"/>
            <a:pathLst>
              <a:path w="31" h="21">
                <a:moveTo>
                  <a:pt x="0" y="21"/>
                </a:moveTo>
                <a:cubicBezTo>
                  <a:pt x="10" y="14"/>
                  <a:pt x="31" y="0"/>
                  <a:pt x="31" y="0"/>
                </a:cubicBezTo>
                <a:cubicBezTo>
                  <a:pt x="31" y="0"/>
                  <a:pt x="10" y="14"/>
                  <a:pt x="0" y="21"/>
                </a:cubicBezTo>
                <a:close/>
              </a:path>
            </a:pathLst>
          </a:cu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380880"/>
            <a:ext cx="8534160" cy="5803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皮鞋匠看看妹妹，月光正照在她那恬静的脸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上，照着她睁得大大的眼睛。她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仿佛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也看到了，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看到了她从来没有看到过的景象，在月光照耀下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的波涛汹涌的大海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0" y="1523880"/>
            <a:ext cx="609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70400" y="2085840"/>
            <a:ext cx="2611440" cy="174600"/>
          </a:xfrm>
          <a:custGeom>
            <a:avLst/>
            <a:gdLst/>
            <a:ahLst/>
            <a:rect l="l" t="t" r="r" b="b"/>
            <a:pathLst>
              <a:path w="1645" h="110">
                <a:moveTo>
                  <a:pt x="0" y="31"/>
                </a:moveTo>
                <a:cubicBezTo>
                  <a:pt x="30" y="76"/>
                  <a:pt x="42" y="74"/>
                  <a:pt x="94" y="62"/>
                </a:cubicBezTo>
                <a:cubicBezTo>
                  <a:pt x="121" y="20"/>
                  <a:pt x="124" y="3"/>
                  <a:pt x="176" y="20"/>
                </a:cubicBezTo>
                <a:cubicBezTo>
                  <a:pt x="247" y="68"/>
                  <a:pt x="214" y="54"/>
                  <a:pt x="269" y="72"/>
                </a:cubicBezTo>
                <a:cubicBezTo>
                  <a:pt x="303" y="49"/>
                  <a:pt x="318" y="22"/>
                  <a:pt x="352" y="0"/>
                </a:cubicBezTo>
                <a:cubicBezTo>
                  <a:pt x="387" y="22"/>
                  <a:pt x="396" y="48"/>
                  <a:pt x="435" y="62"/>
                </a:cubicBezTo>
                <a:cubicBezTo>
                  <a:pt x="498" y="40"/>
                  <a:pt x="444" y="30"/>
                  <a:pt x="507" y="10"/>
                </a:cubicBezTo>
                <a:cubicBezTo>
                  <a:pt x="553" y="25"/>
                  <a:pt x="544" y="46"/>
                  <a:pt x="590" y="62"/>
                </a:cubicBezTo>
                <a:cubicBezTo>
                  <a:pt x="652" y="45"/>
                  <a:pt x="641" y="26"/>
                  <a:pt x="704" y="41"/>
                </a:cubicBezTo>
                <a:cubicBezTo>
                  <a:pt x="775" y="88"/>
                  <a:pt x="742" y="90"/>
                  <a:pt x="797" y="72"/>
                </a:cubicBezTo>
                <a:cubicBezTo>
                  <a:pt x="813" y="23"/>
                  <a:pt x="822" y="26"/>
                  <a:pt x="869" y="41"/>
                </a:cubicBezTo>
                <a:cubicBezTo>
                  <a:pt x="943" y="90"/>
                  <a:pt x="907" y="88"/>
                  <a:pt x="973" y="72"/>
                </a:cubicBezTo>
                <a:cubicBezTo>
                  <a:pt x="1002" y="30"/>
                  <a:pt x="1004" y="13"/>
                  <a:pt x="1056" y="31"/>
                </a:cubicBezTo>
                <a:cubicBezTo>
                  <a:pt x="1072" y="80"/>
                  <a:pt x="1081" y="77"/>
                  <a:pt x="1128" y="62"/>
                </a:cubicBezTo>
                <a:cubicBezTo>
                  <a:pt x="1153" y="26"/>
                  <a:pt x="1145" y="16"/>
                  <a:pt x="1200" y="41"/>
                </a:cubicBezTo>
                <a:cubicBezTo>
                  <a:pt x="1223" y="51"/>
                  <a:pt x="1262" y="82"/>
                  <a:pt x="1262" y="82"/>
                </a:cubicBezTo>
                <a:cubicBezTo>
                  <a:pt x="1273" y="79"/>
                  <a:pt x="1285" y="79"/>
                  <a:pt x="1294" y="72"/>
                </a:cubicBezTo>
                <a:cubicBezTo>
                  <a:pt x="1304" y="64"/>
                  <a:pt x="1302" y="44"/>
                  <a:pt x="1314" y="41"/>
                </a:cubicBezTo>
                <a:cubicBezTo>
                  <a:pt x="1334" y="36"/>
                  <a:pt x="1355" y="48"/>
                  <a:pt x="1376" y="51"/>
                </a:cubicBezTo>
                <a:cubicBezTo>
                  <a:pt x="1404" y="93"/>
                  <a:pt x="1407" y="110"/>
                  <a:pt x="1459" y="93"/>
                </a:cubicBezTo>
                <a:cubicBezTo>
                  <a:pt x="1477" y="36"/>
                  <a:pt x="1486" y="38"/>
                  <a:pt x="1542" y="51"/>
                </a:cubicBezTo>
                <a:cubicBezTo>
                  <a:pt x="1579" y="76"/>
                  <a:pt x="1619" y="107"/>
                  <a:pt x="1645" y="5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2759040"/>
            <a:ext cx="7504200" cy="171360"/>
          </a:xfrm>
          <a:custGeom>
            <a:avLst/>
            <a:gdLst/>
            <a:ahLst/>
            <a:rect l="l" t="t" r="r" b="b"/>
            <a:pathLst>
              <a:path w="4727" h="108">
                <a:moveTo>
                  <a:pt x="0" y="0"/>
                </a:moveTo>
                <a:cubicBezTo>
                  <a:pt x="56" y="36"/>
                  <a:pt x="91" y="31"/>
                  <a:pt x="155" y="10"/>
                </a:cubicBezTo>
                <a:cubicBezTo>
                  <a:pt x="179" y="13"/>
                  <a:pt x="205" y="10"/>
                  <a:pt x="227" y="20"/>
                </a:cubicBezTo>
                <a:cubicBezTo>
                  <a:pt x="238" y="25"/>
                  <a:pt x="238" y="43"/>
                  <a:pt x="248" y="51"/>
                </a:cubicBezTo>
                <a:cubicBezTo>
                  <a:pt x="257" y="58"/>
                  <a:pt x="269" y="58"/>
                  <a:pt x="279" y="62"/>
                </a:cubicBezTo>
                <a:cubicBezTo>
                  <a:pt x="331" y="48"/>
                  <a:pt x="342" y="56"/>
                  <a:pt x="372" y="10"/>
                </a:cubicBezTo>
                <a:cubicBezTo>
                  <a:pt x="458" y="24"/>
                  <a:pt x="412" y="13"/>
                  <a:pt x="496" y="41"/>
                </a:cubicBezTo>
                <a:cubicBezTo>
                  <a:pt x="506" y="44"/>
                  <a:pt x="527" y="51"/>
                  <a:pt x="527" y="51"/>
                </a:cubicBezTo>
                <a:cubicBezTo>
                  <a:pt x="544" y="48"/>
                  <a:pt x="563" y="48"/>
                  <a:pt x="579" y="41"/>
                </a:cubicBezTo>
                <a:cubicBezTo>
                  <a:pt x="602" y="31"/>
                  <a:pt x="641" y="0"/>
                  <a:pt x="641" y="0"/>
                </a:cubicBezTo>
                <a:cubicBezTo>
                  <a:pt x="713" y="48"/>
                  <a:pt x="689" y="20"/>
                  <a:pt x="724" y="72"/>
                </a:cubicBezTo>
                <a:cubicBezTo>
                  <a:pt x="741" y="69"/>
                  <a:pt x="761" y="71"/>
                  <a:pt x="776" y="62"/>
                </a:cubicBezTo>
                <a:cubicBezTo>
                  <a:pt x="787" y="56"/>
                  <a:pt x="787" y="40"/>
                  <a:pt x="796" y="31"/>
                </a:cubicBezTo>
                <a:cubicBezTo>
                  <a:pt x="805" y="22"/>
                  <a:pt x="817" y="17"/>
                  <a:pt x="827" y="10"/>
                </a:cubicBezTo>
                <a:cubicBezTo>
                  <a:pt x="841" y="13"/>
                  <a:pt x="856" y="14"/>
                  <a:pt x="869" y="20"/>
                </a:cubicBezTo>
                <a:cubicBezTo>
                  <a:pt x="880" y="25"/>
                  <a:pt x="888" y="40"/>
                  <a:pt x="900" y="41"/>
                </a:cubicBezTo>
                <a:cubicBezTo>
                  <a:pt x="928" y="44"/>
                  <a:pt x="955" y="34"/>
                  <a:pt x="983" y="31"/>
                </a:cubicBezTo>
                <a:cubicBezTo>
                  <a:pt x="1004" y="24"/>
                  <a:pt x="1024" y="17"/>
                  <a:pt x="1045" y="10"/>
                </a:cubicBezTo>
                <a:cubicBezTo>
                  <a:pt x="1063" y="4"/>
                  <a:pt x="1148" y="55"/>
                  <a:pt x="1169" y="62"/>
                </a:cubicBezTo>
                <a:cubicBezTo>
                  <a:pt x="1210" y="48"/>
                  <a:pt x="1227" y="37"/>
                  <a:pt x="1251" y="0"/>
                </a:cubicBezTo>
                <a:cubicBezTo>
                  <a:pt x="1293" y="13"/>
                  <a:pt x="1310" y="25"/>
                  <a:pt x="1334" y="62"/>
                </a:cubicBezTo>
                <a:cubicBezTo>
                  <a:pt x="1355" y="58"/>
                  <a:pt x="1377" y="59"/>
                  <a:pt x="1396" y="51"/>
                </a:cubicBezTo>
                <a:cubicBezTo>
                  <a:pt x="1419" y="41"/>
                  <a:pt x="1458" y="10"/>
                  <a:pt x="1458" y="10"/>
                </a:cubicBezTo>
                <a:cubicBezTo>
                  <a:pt x="1472" y="13"/>
                  <a:pt x="1487" y="14"/>
                  <a:pt x="1500" y="20"/>
                </a:cubicBezTo>
                <a:cubicBezTo>
                  <a:pt x="1522" y="31"/>
                  <a:pt x="1562" y="62"/>
                  <a:pt x="1562" y="62"/>
                </a:cubicBezTo>
                <a:cubicBezTo>
                  <a:pt x="1608" y="52"/>
                  <a:pt x="1634" y="35"/>
                  <a:pt x="1676" y="20"/>
                </a:cubicBezTo>
                <a:cubicBezTo>
                  <a:pt x="1745" y="45"/>
                  <a:pt x="1676" y="11"/>
                  <a:pt x="1717" y="62"/>
                </a:cubicBezTo>
                <a:cubicBezTo>
                  <a:pt x="1725" y="72"/>
                  <a:pt x="1738" y="75"/>
                  <a:pt x="1748" y="82"/>
                </a:cubicBezTo>
                <a:cubicBezTo>
                  <a:pt x="1817" y="72"/>
                  <a:pt x="1835" y="75"/>
                  <a:pt x="1872" y="20"/>
                </a:cubicBezTo>
                <a:cubicBezTo>
                  <a:pt x="1893" y="24"/>
                  <a:pt x="1915" y="23"/>
                  <a:pt x="1934" y="31"/>
                </a:cubicBezTo>
                <a:cubicBezTo>
                  <a:pt x="1957" y="41"/>
                  <a:pt x="1972" y="64"/>
                  <a:pt x="1996" y="72"/>
                </a:cubicBezTo>
                <a:cubicBezTo>
                  <a:pt x="2006" y="75"/>
                  <a:pt x="2017" y="79"/>
                  <a:pt x="2027" y="82"/>
                </a:cubicBezTo>
                <a:cubicBezTo>
                  <a:pt x="2078" y="70"/>
                  <a:pt x="2113" y="37"/>
                  <a:pt x="2162" y="20"/>
                </a:cubicBezTo>
                <a:cubicBezTo>
                  <a:pt x="2196" y="43"/>
                  <a:pt x="2210" y="70"/>
                  <a:pt x="2245" y="93"/>
                </a:cubicBezTo>
                <a:cubicBezTo>
                  <a:pt x="2320" y="77"/>
                  <a:pt x="2282" y="91"/>
                  <a:pt x="2358" y="41"/>
                </a:cubicBezTo>
                <a:cubicBezTo>
                  <a:pt x="2368" y="34"/>
                  <a:pt x="2389" y="20"/>
                  <a:pt x="2389" y="20"/>
                </a:cubicBezTo>
                <a:cubicBezTo>
                  <a:pt x="2399" y="24"/>
                  <a:pt x="2410" y="26"/>
                  <a:pt x="2420" y="31"/>
                </a:cubicBezTo>
                <a:cubicBezTo>
                  <a:pt x="2442" y="43"/>
                  <a:pt x="2482" y="72"/>
                  <a:pt x="2482" y="72"/>
                </a:cubicBezTo>
                <a:cubicBezTo>
                  <a:pt x="2584" y="60"/>
                  <a:pt x="2551" y="55"/>
                  <a:pt x="2627" y="31"/>
                </a:cubicBezTo>
                <a:cubicBezTo>
                  <a:pt x="2648" y="34"/>
                  <a:pt x="2669" y="36"/>
                  <a:pt x="2689" y="41"/>
                </a:cubicBezTo>
                <a:cubicBezTo>
                  <a:pt x="2710" y="46"/>
                  <a:pt x="2751" y="62"/>
                  <a:pt x="2751" y="62"/>
                </a:cubicBezTo>
                <a:cubicBezTo>
                  <a:pt x="2768" y="58"/>
                  <a:pt x="2786" y="56"/>
                  <a:pt x="2803" y="51"/>
                </a:cubicBezTo>
                <a:cubicBezTo>
                  <a:pt x="2824" y="45"/>
                  <a:pt x="2865" y="31"/>
                  <a:pt x="2865" y="31"/>
                </a:cubicBezTo>
                <a:cubicBezTo>
                  <a:pt x="2875" y="34"/>
                  <a:pt x="2886" y="36"/>
                  <a:pt x="2896" y="41"/>
                </a:cubicBezTo>
                <a:cubicBezTo>
                  <a:pt x="2918" y="53"/>
                  <a:pt x="2958" y="82"/>
                  <a:pt x="2958" y="82"/>
                </a:cubicBezTo>
                <a:cubicBezTo>
                  <a:pt x="2975" y="79"/>
                  <a:pt x="2994" y="79"/>
                  <a:pt x="3010" y="72"/>
                </a:cubicBezTo>
                <a:cubicBezTo>
                  <a:pt x="3033" y="62"/>
                  <a:pt x="3072" y="31"/>
                  <a:pt x="3072" y="31"/>
                </a:cubicBezTo>
                <a:cubicBezTo>
                  <a:pt x="3089" y="34"/>
                  <a:pt x="3107" y="36"/>
                  <a:pt x="3124" y="41"/>
                </a:cubicBezTo>
                <a:cubicBezTo>
                  <a:pt x="3145" y="47"/>
                  <a:pt x="3186" y="62"/>
                  <a:pt x="3186" y="62"/>
                </a:cubicBezTo>
                <a:cubicBezTo>
                  <a:pt x="3257" y="51"/>
                  <a:pt x="3282" y="40"/>
                  <a:pt x="3351" y="51"/>
                </a:cubicBezTo>
                <a:cubicBezTo>
                  <a:pt x="3361" y="55"/>
                  <a:pt x="3373" y="55"/>
                  <a:pt x="3382" y="62"/>
                </a:cubicBezTo>
                <a:cubicBezTo>
                  <a:pt x="3392" y="70"/>
                  <a:pt x="3391" y="90"/>
                  <a:pt x="3403" y="93"/>
                </a:cubicBezTo>
                <a:cubicBezTo>
                  <a:pt x="3420" y="98"/>
                  <a:pt x="3438" y="86"/>
                  <a:pt x="3455" y="82"/>
                </a:cubicBezTo>
                <a:cubicBezTo>
                  <a:pt x="3532" y="31"/>
                  <a:pt x="3493" y="36"/>
                  <a:pt x="3569" y="51"/>
                </a:cubicBezTo>
                <a:cubicBezTo>
                  <a:pt x="3579" y="58"/>
                  <a:pt x="3591" y="63"/>
                  <a:pt x="3600" y="72"/>
                </a:cubicBezTo>
                <a:cubicBezTo>
                  <a:pt x="3609" y="81"/>
                  <a:pt x="3608" y="100"/>
                  <a:pt x="3620" y="103"/>
                </a:cubicBezTo>
                <a:cubicBezTo>
                  <a:pt x="3644" y="108"/>
                  <a:pt x="3669" y="96"/>
                  <a:pt x="3693" y="93"/>
                </a:cubicBezTo>
                <a:cubicBezTo>
                  <a:pt x="3714" y="79"/>
                  <a:pt x="3734" y="65"/>
                  <a:pt x="3755" y="51"/>
                </a:cubicBezTo>
                <a:cubicBezTo>
                  <a:pt x="3765" y="44"/>
                  <a:pt x="3786" y="31"/>
                  <a:pt x="3786" y="31"/>
                </a:cubicBezTo>
                <a:cubicBezTo>
                  <a:pt x="3819" y="39"/>
                  <a:pt x="3834" y="38"/>
                  <a:pt x="3858" y="62"/>
                </a:cubicBezTo>
                <a:cubicBezTo>
                  <a:pt x="3904" y="108"/>
                  <a:pt x="3851" y="84"/>
                  <a:pt x="3910" y="103"/>
                </a:cubicBezTo>
                <a:cubicBezTo>
                  <a:pt x="3948" y="100"/>
                  <a:pt x="3987" y="103"/>
                  <a:pt x="4024" y="93"/>
                </a:cubicBezTo>
                <a:cubicBezTo>
                  <a:pt x="4038" y="89"/>
                  <a:pt x="4044" y="71"/>
                  <a:pt x="4055" y="62"/>
                </a:cubicBezTo>
                <a:cubicBezTo>
                  <a:pt x="4075" y="47"/>
                  <a:pt x="4117" y="20"/>
                  <a:pt x="4117" y="20"/>
                </a:cubicBezTo>
                <a:cubicBezTo>
                  <a:pt x="4134" y="24"/>
                  <a:pt x="4154" y="22"/>
                  <a:pt x="4169" y="31"/>
                </a:cubicBezTo>
                <a:cubicBezTo>
                  <a:pt x="4180" y="37"/>
                  <a:pt x="4181" y="53"/>
                  <a:pt x="4189" y="62"/>
                </a:cubicBezTo>
                <a:cubicBezTo>
                  <a:pt x="4218" y="98"/>
                  <a:pt x="4213" y="91"/>
                  <a:pt x="4251" y="103"/>
                </a:cubicBezTo>
                <a:cubicBezTo>
                  <a:pt x="4272" y="100"/>
                  <a:pt x="4294" y="102"/>
                  <a:pt x="4313" y="93"/>
                </a:cubicBezTo>
                <a:cubicBezTo>
                  <a:pt x="4324" y="87"/>
                  <a:pt x="4325" y="71"/>
                  <a:pt x="4334" y="62"/>
                </a:cubicBezTo>
                <a:cubicBezTo>
                  <a:pt x="4355" y="41"/>
                  <a:pt x="4370" y="39"/>
                  <a:pt x="4396" y="31"/>
                </a:cubicBezTo>
                <a:cubicBezTo>
                  <a:pt x="4448" y="41"/>
                  <a:pt x="4463" y="57"/>
                  <a:pt x="4510" y="72"/>
                </a:cubicBezTo>
                <a:cubicBezTo>
                  <a:pt x="4612" y="60"/>
                  <a:pt x="4579" y="55"/>
                  <a:pt x="4655" y="31"/>
                </a:cubicBezTo>
                <a:cubicBezTo>
                  <a:pt x="4684" y="40"/>
                  <a:pt x="4705" y="50"/>
                  <a:pt x="4727" y="7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8360" y="3414600"/>
            <a:ext cx="2776320" cy="203400"/>
          </a:xfrm>
          <a:custGeom>
            <a:avLst/>
            <a:gdLst/>
            <a:ahLst/>
            <a:rect l="l" t="t" r="r" b="b"/>
            <a:pathLst>
              <a:path w="1749" h="128">
                <a:moveTo>
                  <a:pt x="0" y="21"/>
                </a:moveTo>
                <a:cubicBezTo>
                  <a:pt x="23" y="55"/>
                  <a:pt x="49" y="76"/>
                  <a:pt x="63" y="114"/>
                </a:cubicBezTo>
                <a:cubicBezTo>
                  <a:pt x="77" y="111"/>
                  <a:pt x="93" y="113"/>
                  <a:pt x="104" y="104"/>
                </a:cubicBezTo>
                <a:cubicBezTo>
                  <a:pt x="123" y="88"/>
                  <a:pt x="124" y="56"/>
                  <a:pt x="145" y="42"/>
                </a:cubicBezTo>
                <a:cubicBezTo>
                  <a:pt x="155" y="35"/>
                  <a:pt x="166" y="28"/>
                  <a:pt x="176" y="21"/>
                </a:cubicBezTo>
                <a:cubicBezTo>
                  <a:pt x="223" y="36"/>
                  <a:pt x="247" y="85"/>
                  <a:pt x="290" y="114"/>
                </a:cubicBezTo>
                <a:cubicBezTo>
                  <a:pt x="343" y="97"/>
                  <a:pt x="354" y="49"/>
                  <a:pt x="404" y="31"/>
                </a:cubicBezTo>
                <a:cubicBezTo>
                  <a:pt x="414" y="35"/>
                  <a:pt x="426" y="35"/>
                  <a:pt x="435" y="42"/>
                </a:cubicBezTo>
                <a:cubicBezTo>
                  <a:pt x="445" y="50"/>
                  <a:pt x="445" y="66"/>
                  <a:pt x="456" y="73"/>
                </a:cubicBezTo>
                <a:cubicBezTo>
                  <a:pt x="475" y="84"/>
                  <a:pt x="518" y="93"/>
                  <a:pt x="518" y="93"/>
                </a:cubicBezTo>
                <a:cubicBezTo>
                  <a:pt x="535" y="90"/>
                  <a:pt x="555" y="94"/>
                  <a:pt x="569" y="83"/>
                </a:cubicBezTo>
                <a:cubicBezTo>
                  <a:pt x="589" y="68"/>
                  <a:pt x="611" y="21"/>
                  <a:pt x="611" y="21"/>
                </a:cubicBezTo>
                <a:cubicBezTo>
                  <a:pt x="664" y="34"/>
                  <a:pt x="671" y="54"/>
                  <a:pt x="714" y="83"/>
                </a:cubicBezTo>
                <a:cubicBezTo>
                  <a:pt x="721" y="93"/>
                  <a:pt x="723" y="110"/>
                  <a:pt x="735" y="114"/>
                </a:cubicBezTo>
                <a:cubicBezTo>
                  <a:pt x="777" y="128"/>
                  <a:pt x="811" y="67"/>
                  <a:pt x="828" y="42"/>
                </a:cubicBezTo>
                <a:cubicBezTo>
                  <a:pt x="845" y="45"/>
                  <a:pt x="864" y="45"/>
                  <a:pt x="880" y="52"/>
                </a:cubicBezTo>
                <a:cubicBezTo>
                  <a:pt x="903" y="62"/>
                  <a:pt x="919" y="85"/>
                  <a:pt x="942" y="93"/>
                </a:cubicBezTo>
                <a:cubicBezTo>
                  <a:pt x="952" y="97"/>
                  <a:pt x="963" y="100"/>
                  <a:pt x="973" y="104"/>
                </a:cubicBezTo>
                <a:cubicBezTo>
                  <a:pt x="996" y="98"/>
                  <a:pt x="1028" y="94"/>
                  <a:pt x="1045" y="73"/>
                </a:cubicBezTo>
                <a:cubicBezTo>
                  <a:pt x="1106" y="0"/>
                  <a:pt x="995" y="83"/>
                  <a:pt x="1087" y="21"/>
                </a:cubicBezTo>
                <a:cubicBezTo>
                  <a:pt x="1104" y="24"/>
                  <a:pt x="1122" y="25"/>
                  <a:pt x="1138" y="31"/>
                </a:cubicBezTo>
                <a:cubicBezTo>
                  <a:pt x="1185" y="49"/>
                  <a:pt x="1166" y="75"/>
                  <a:pt x="1221" y="93"/>
                </a:cubicBezTo>
                <a:cubicBezTo>
                  <a:pt x="1245" y="90"/>
                  <a:pt x="1272" y="93"/>
                  <a:pt x="1294" y="83"/>
                </a:cubicBezTo>
                <a:cubicBezTo>
                  <a:pt x="1305" y="78"/>
                  <a:pt x="1306" y="61"/>
                  <a:pt x="1314" y="52"/>
                </a:cubicBezTo>
                <a:cubicBezTo>
                  <a:pt x="1338" y="23"/>
                  <a:pt x="1347" y="20"/>
                  <a:pt x="1376" y="0"/>
                </a:cubicBezTo>
                <a:cubicBezTo>
                  <a:pt x="1420" y="30"/>
                  <a:pt x="1445" y="73"/>
                  <a:pt x="1490" y="104"/>
                </a:cubicBezTo>
                <a:cubicBezTo>
                  <a:pt x="1544" y="85"/>
                  <a:pt x="1513" y="99"/>
                  <a:pt x="1583" y="52"/>
                </a:cubicBezTo>
                <a:cubicBezTo>
                  <a:pt x="1593" y="45"/>
                  <a:pt x="1614" y="31"/>
                  <a:pt x="1614" y="31"/>
                </a:cubicBezTo>
                <a:cubicBezTo>
                  <a:pt x="1653" y="45"/>
                  <a:pt x="1662" y="71"/>
                  <a:pt x="1697" y="93"/>
                </a:cubicBezTo>
                <a:cubicBezTo>
                  <a:pt x="1725" y="75"/>
                  <a:pt x="1749" y="60"/>
                  <a:pt x="1749" y="2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403848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思考：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皮鞋匠看到妹妹脸上的表情想到了什么？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用                       划出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、为什么说盲姑娘仿佛也看到了？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52480" y="4724280"/>
            <a:ext cx="1067040" cy="131760"/>
          </a:xfrm>
          <a:custGeom>
            <a:avLst/>
            <a:gdLst/>
            <a:ahLst/>
            <a:rect l="l" t="t" r="r" b="b"/>
            <a:pathLst>
              <a:path w="672" h="83">
                <a:moveTo>
                  <a:pt x="0" y="0"/>
                </a:moveTo>
                <a:cubicBezTo>
                  <a:pt x="24" y="72"/>
                  <a:pt x="0" y="69"/>
                  <a:pt x="52" y="52"/>
                </a:cubicBezTo>
                <a:cubicBezTo>
                  <a:pt x="59" y="45"/>
                  <a:pt x="93" y="2"/>
                  <a:pt x="114" y="10"/>
                </a:cubicBezTo>
                <a:cubicBezTo>
                  <a:pt x="125" y="14"/>
                  <a:pt x="125" y="32"/>
                  <a:pt x="134" y="41"/>
                </a:cubicBezTo>
                <a:cubicBezTo>
                  <a:pt x="143" y="50"/>
                  <a:pt x="155" y="55"/>
                  <a:pt x="165" y="62"/>
                </a:cubicBezTo>
                <a:cubicBezTo>
                  <a:pt x="236" y="15"/>
                  <a:pt x="203" y="13"/>
                  <a:pt x="258" y="31"/>
                </a:cubicBezTo>
                <a:cubicBezTo>
                  <a:pt x="328" y="77"/>
                  <a:pt x="252" y="41"/>
                  <a:pt x="321" y="31"/>
                </a:cubicBezTo>
                <a:cubicBezTo>
                  <a:pt x="332" y="29"/>
                  <a:pt x="380" y="47"/>
                  <a:pt x="393" y="52"/>
                </a:cubicBezTo>
                <a:cubicBezTo>
                  <a:pt x="403" y="48"/>
                  <a:pt x="414" y="46"/>
                  <a:pt x="424" y="41"/>
                </a:cubicBezTo>
                <a:cubicBezTo>
                  <a:pt x="435" y="36"/>
                  <a:pt x="443" y="21"/>
                  <a:pt x="455" y="21"/>
                </a:cubicBezTo>
                <a:cubicBezTo>
                  <a:pt x="467" y="21"/>
                  <a:pt x="475" y="36"/>
                  <a:pt x="486" y="41"/>
                </a:cubicBezTo>
                <a:cubicBezTo>
                  <a:pt x="496" y="46"/>
                  <a:pt x="507" y="48"/>
                  <a:pt x="517" y="52"/>
                </a:cubicBezTo>
                <a:cubicBezTo>
                  <a:pt x="568" y="34"/>
                  <a:pt x="579" y="55"/>
                  <a:pt x="621" y="83"/>
                </a:cubicBezTo>
                <a:cubicBezTo>
                  <a:pt x="631" y="76"/>
                  <a:pt x="644" y="72"/>
                  <a:pt x="652" y="62"/>
                </a:cubicBezTo>
                <a:cubicBezTo>
                  <a:pt x="659" y="53"/>
                  <a:pt x="657" y="41"/>
                  <a:pt x="662" y="31"/>
                </a:cubicBezTo>
                <a:cubicBezTo>
                  <a:pt x="664" y="27"/>
                  <a:pt x="669" y="24"/>
                  <a:pt x="672" y="2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380880"/>
            <a:ext cx="8534160" cy="602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9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皮鞋匠静静地听着。他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好像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面对着大海，月光正从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水天相接的地方升起来。微波粼粼的海面上，霎时间洒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遍了银光。月亮越升越高，穿过一缕一缕轻纱似的微云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忽然，海面上刮起了大风，卷起了巨浪。被月光照得雪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亮的的浪花，一个连一个朝着岸边涌过来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······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皮鞋匠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看看妹妹，月光正照在她那恬静的脸上，照着她睁得大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大的眼睛。她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仿佛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也看到了，看到了她从来没有看到过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的景象，在月光照耀下的波涛汹涌的大海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51320" y="1330200"/>
            <a:ext cx="3975120" cy="179640"/>
          </a:xfrm>
          <a:custGeom>
            <a:avLst/>
            <a:gdLst/>
            <a:ahLst/>
            <a:rect l="l" t="t" r="r" b="b"/>
            <a:pathLst>
              <a:path w="2504" h="113">
                <a:moveTo>
                  <a:pt x="0" y="0"/>
                </a:moveTo>
                <a:cubicBezTo>
                  <a:pt x="44" y="28"/>
                  <a:pt x="29" y="44"/>
                  <a:pt x="73" y="72"/>
                </a:cubicBezTo>
                <a:cubicBezTo>
                  <a:pt x="83" y="69"/>
                  <a:pt x="96" y="69"/>
                  <a:pt x="104" y="62"/>
                </a:cubicBezTo>
                <a:cubicBezTo>
                  <a:pt x="114" y="54"/>
                  <a:pt x="114" y="38"/>
                  <a:pt x="124" y="31"/>
                </a:cubicBezTo>
                <a:cubicBezTo>
                  <a:pt x="142" y="19"/>
                  <a:pt x="186" y="10"/>
                  <a:pt x="186" y="10"/>
                </a:cubicBezTo>
                <a:cubicBezTo>
                  <a:pt x="220" y="33"/>
                  <a:pt x="230" y="59"/>
                  <a:pt x="269" y="72"/>
                </a:cubicBezTo>
                <a:cubicBezTo>
                  <a:pt x="303" y="22"/>
                  <a:pt x="302" y="15"/>
                  <a:pt x="362" y="31"/>
                </a:cubicBezTo>
                <a:cubicBezTo>
                  <a:pt x="399" y="68"/>
                  <a:pt x="403" y="91"/>
                  <a:pt x="455" y="72"/>
                </a:cubicBezTo>
                <a:cubicBezTo>
                  <a:pt x="462" y="62"/>
                  <a:pt x="464" y="44"/>
                  <a:pt x="476" y="41"/>
                </a:cubicBezTo>
                <a:cubicBezTo>
                  <a:pt x="488" y="38"/>
                  <a:pt x="542" y="57"/>
                  <a:pt x="559" y="62"/>
                </a:cubicBezTo>
                <a:cubicBezTo>
                  <a:pt x="569" y="69"/>
                  <a:pt x="578" y="83"/>
                  <a:pt x="590" y="83"/>
                </a:cubicBezTo>
                <a:cubicBezTo>
                  <a:pt x="612" y="83"/>
                  <a:pt x="633" y="44"/>
                  <a:pt x="642" y="31"/>
                </a:cubicBezTo>
                <a:cubicBezTo>
                  <a:pt x="657" y="35"/>
                  <a:pt x="698" y="43"/>
                  <a:pt x="714" y="52"/>
                </a:cubicBezTo>
                <a:cubicBezTo>
                  <a:pt x="736" y="64"/>
                  <a:pt x="776" y="93"/>
                  <a:pt x="776" y="93"/>
                </a:cubicBezTo>
                <a:cubicBezTo>
                  <a:pt x="786" y="86"/>
                  <a:pt x="799" y="82"/>
                  <a:pt x="807" y="72"/>
                </a:cubicBezTo>
                <a:cubicBezTo>
                  <a:pt x="846" y="22"/>
                  <a:pt x="781" y="53"/>
                  <a:pt x="848" y="31"/>
                </a:cubicBezTo>
                <a:cubicBezTo>
                  <a:pt x="889" y="44"/>
                  <a:pt x="907" y="56"/>
                  <a:pt x="931" y="93"/>
                </a:cubicBezTo>
                <a:cubicBezTo>
                  <a:pt x="941" y="90"/>
                  <a:pt x="953" y="90"/>
                  <a:pt x="962" y="83"/>
                </a:cubicBezTo>
                <a:cubicBezTo>
                  <a:pt x="972" y="75"/>
                  <a:pt x="971" y="55"/>
                  <a:pt x="983" y="52"/>
                </a:cubicBezTo>
                <a:cubicBezTo>
                  <a:pt x="1000" y="47"/>
                  <a:pt x="1018" y="59"/>
                  <a:pt x="1035" y="62"/>
                </a:cubicBezTo>
                <a:cubicBezTo>
                  <a:pt x="1042" y="72"/>
                  <a:pt x="1043" y="91"/>
                  <a:pt x="1055" y="93"/>
                </a:cubicBezTo>
                <a:cubicBezTo>
                  <a:pt x="1075" y="97"/>
                  <a:pt x="1101" y="50"/>
                  <a:pt x="1107" y="41"/>
                </a:cubicBezTo>
                <a:cubicBezTo>
                  <a:pt x="1162" y="53"/>
                  <a:pt x="1180" y="57"/>
                  <a:pt x="1210" y="103"/>
                </a:cubicBezTo>
                <a:cubicBezTo>
                  <a:pt x="1224" y="100"/>
                  <a:pt x="1241" y="102"/>
                  <a:pt x="1252" y="93"/>
                </a:cubicBezTo>
                <a:cubicBezTo>
                  <a:pt x="1261" y="86"/>
                  <a:pt x="1255" y="71"/>
                  <a:pt x="1262" y="62"/>
                </a:cubicBezTo>
                <a:cubicBezTo>
                  <a:pt x="1270" y="52"/>
                  <a:pt x="1283" y="48"/>
                  <a:pt x="1293" y="41"/>
                </a:cubicBezTo>
                <a:cubicBezTo>
                  <a:pt x="1303" y="45"/>
                  <a:pt x="1314" y="47"/>
                  <a:pt x="1324" y="52"/>
                </a:cubicBezTo>
                <a:cubicBezTo>
                  <a:pt x="1346" y="64"/>
                  <a:pt x="1386" y="93"/>
                  <a:pt x="1386" y="93"/>
                </a:cubicBezTo>
                <a:cubicBezTo>
                  <a:pt x="1428" y="64"/>
                  <a:pt x="1417" y="49"/>
                  <a:pt x="1459" y="20"/>
                </a:cubicBezTo>
                <a:cubicBezTo>
                  <a:pt x="1504" y="36"/>
                  <a:pt x="1538" y="67"/>
                  <a:pt x="1583" y="83"/>
                </a:cubicBezTo>
                <a:cubicBezTo>
                  <a:pt x="1589" y="64"/>
                  <a:pt x="1593" y="31"/>
                  <a:pt x="1624" y="31"/>
                </a:cubicBezTo>
                <a:cubicBezTo>
                  <a:pt x="1646" y="31"/>
                  <a:pt x="1686" y="52"/>
                  <a:pt x="1686" y="52"/>
                </a:cubicBezTo>
                <a:cubicBezTo>
                  <a:pt x="1693" y="62"/>
                  <a:pt x="1695" y="85"/>
                  <a:pt x="1707" y="83"/>
                </a:cubicBezTo>
                <a:cubicBezTo>
                  <a:pt x="1732" y="80"/>
                  <a:pt x="1769" y="41"/>
                  <a:pt x="1769" y="41"/>
                </a:cubicBezTo>
                <a:cubicBezTo>
                  <a:pt x="1779" y="45"/>
                  <a:pt x="1790" y="47"/>
                  <a:pt x="1800" y="52"/>
                </a:cubicBezTo>
                <a:cubicBezTo>
                  <a:pt x="1811" y="57"/>
                  <a:pt x="1819" y="75"/>
                  <a:pt x="1831" y="72"/>
                </a:cubicBezTo>
                <a:cubicBezTo>
                  <a:pt x="1843" y="69"/>
                  <a:pt x="1842" y="49"/>
                  <a:pt x="1852" y="41"/>
                </a:cubicBezTo>
                <a:cubicBezTo>
                  <a:pt x="1861" y="34"/>
                  <a:pt x="1873" y="34"/>
                  <a:pt x="1883" y="31"/>
                </a:cubicBezTo>
                <a:cubicBezTo>
                  <a:pt x="1893" y="34"/>
                  <a:pt x="1905" y="35"/>
                  <a:pt x="1914" y="41"/>
                </a:cubicBezTo>
                <a:cubicBezTo>
                  <a:pt x="1926" y="49"/>
                  <a:pt x="1931" y="67"/>
                  <a:pt x="1945" y="72"/>
                </a:cubicBezTo>
                <a:cubicBezTo>
                  <a:pt x="1955" y="75"/>
                  <a:pt x="1966" y="65"/>
                  <a:pt x="1976" y="62"/>
                </a:cubicBezTo>
                <a:cubicBezTo>
                  <a:pt x="1990" y="58"/>
                  <a:pt x="2003" y="55"/>
                  <a:pt x="2017" y="52"/>
                </a:cubicBezTo>
                <a:cubicBezTo>
                  <a:pt x="2027" y="55"/>
                  <a:pt x="2039" y="55"/>
                  <a:pt x="2048" y="62"/>
                </a:cubicBezTo>
                <a:cubicBezTo>
                  <a:pt x="2058" y="70"/>
                  <a:pt x="2057" y="93"/>
                  <a:pt x="2069" y="93"/>
                </a:cubicBezTo>
                <a:cubicBezTo>
                  <a:pt x="2081" y="93"/>
                  <a:pt x="2080" y="70"/>
                  <a:pt x="2090" y="62"/>
                </a:cubicBezTo>
                <a:cubicBezTo>
                  <a:pt x="2102" y="52"/>
                  <a:pt x="2117" y="48"/>
                  <a:pt x="2131" y="41"/>
                </a:cubicBezTo>
                <a:cubicBezTo>
                  <a:pt x="2145" y="48"/>
                  <a:pt x="2160" y="52"/>
                  <a:pt x="2172" y="62"/>
                </a:cubicBezTo>
                <a:cubicBezTo>
                  <a:pt x="2233" y="113"/>
                  <a:pt x="2152" y="80"/>
                  <a:pt x="2224" y="103"/>
                </a:cubicBezTo>
                <a:cubicBezTo>
                  <a:pt x="2241" y="55"/>
                  <a:pt x="2247" y="46"/>
                  <a:pt x="2297" y="62"/>
                </a:cubicBezTo>
                <a:cubicBezTo>
                  <a:pt x="2304" y="69"/>
                  <a:pt x="2337" y="112"/>
                  <a:pt x="2359" y="103"/>
                </a:cubicBezTo>
                <a:cubicBezTo>
                  <a:pt x="2370" y="98"/>
                  <a:pt x="2369" y="80"/>
                  <a:pt x="2379" y="72"/>
                </a:cubicBezTo>
                <a:cubicBezTo>
                  <a:pt x="2387" y="65"/>
                  <a:pt x="2400" y="65"/>
                  <a:pt x="2410" y="62"/>
                </a:cubicBezTo>
                <a:cubicBezTo>
                  <a:pt x="2424" y="65"/>
                  <a:pt x="2439" y="66"/>
                  <a:pt x="2452" y="72"/>
                </a:cubicBezTo>
                <a:cubicBezTo>
                  <a:pt x="2463" y="77"/>
                  <a:pt x="2471" y="96"/>
                  <a:pt x="2483" y="93"/>
                </a:cubicBezTo>
                <a:cubicBezTo>
                  <a:pt x="2494" y="90"/>
                  <a:pt x="2487" y="71"/>
                  <a:pt x="2493" y="62"/>
                </a:cubicBezTo>
                <a:cubicBezTo>
                  <a:pt x="2495" y="59"/>
                  <a:pt x="2500" y="62"/>
                  <a:pt x="2504" y="6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17720" y="1887480"/>
            <a:ext cx="7242120" cy="189000"/>
          </a:xfrm>
          <a:custGeom>
            <a:avLst/>
            <a:gdLst/>
            <a:ahLst/>
            <a:rect l="l" t="t" r="r" b="b"/>
            <a:pathLst>
              <a:path w="4562" h="119">
                <a:moveTo>
                  <a:pt x="0" y="11"/>
                </a:moveTo>
                <a:cubicBezTo>
                  <a:pt x="66" y="32"/>
                  <a:pt x="2" y="3"/>
                  <a:pt x="42" y="52"/>
                </a:cubicBezTo>
                <a:cubicBezTo>
                  <a:pt x="50" y="62"/>
                  <a:pt x="63" y="66"/>
                  <a:pt x="73" y="73"/>
                </a:cubicBezTo>
                <a:cubicBezTo>
                  <a:pt x="128" y="55"/>
                  <a:pt x="95" y="69"/>
                  <a:pt x="166" y="21"/>
                </a:cubicBezTo>
                <a:cubicBezTo>
                  <a:pt x="176" y="14"/>
                  <a:pt x="197" y="0"/>
                  <a:pt x="197" y="0"/>
                </a:cubicBezTo>
                <a:cubicBezTo>
                  <a:pt x="207" y="7"/>
                  <a:pt x="219" y="12"/>
                  <a:pt x="228" y="21"/>
                </a:cubicBezTo>
                <a:cubicBezTo>
                  <a:pt x="237" y="30"/>
                  <a:pt x="239" y="44"/>
                  <a:pt x="249" y="52"/>
                </a:cubicBezTo>
                <a:cubicBezTo>
                  <a:pt x="267" y="67"/>
                  <a:pt x="292" y="70"/>
                  <a:pt x="311" y="83"/>
                </a:cubicBezTo>
                <a:cubicBezTo>
                  <a:pt x="325" y="80"/>
                  <a:pt x="339" y="79"/>
                  <a:pt x="352" y="73"/>
                </a:cubicBezTo>
                <a:cubicBezTo>
                  <a:pt x="374" y="62"/>
                  <a:pt x="414" y="31"/>
                  <a:pt x="414" y="31"/>
                </a:cubicBezTo>
                <a:cubicBezTo>
                  <a:pt x="453" y="41"/>
                  <a:pt x="480" y="61"/>
                  <a:pt x="518" y="73"/>
                </a:cubicBezTo>
                <a:cubicBezTo>
                  <a:pt x="535" y="70"/>
                  <a:pt x="553" y="70"/>
                  <a:pt x="569" y="63"/>
                </a:cubicBezTo>
                <a:cubicBezTo>
                  <a:pt x="592" y="53"/>
                  <a:pt x="631" y="21"/>
                  <a:pt x="631" y="21"/>
                </a:cubicBezTo>
                <a:cubicBezTo>
                  <a:pt x="674" y="35"/>
                  <a:pt x="717" y="59"/>
                  <a:pt x="755" y="83"/>
                </a:cubicBezTo>
                <a:cubicBezTo>
                  <a:pt x="769" y="80"/>
                  <a:pt x="784" y="79"/>
                  <a:pt x="797" y="73"/>
                </a:cubicBezTo>
                <a:cubicBezTo>
                  <a:pt x="819" y="62"/>
                  <a:pt x="859" y="31"/>
                  <a:pt x="859" y="31"/>
                </a:cubicBezTo>
                <a:cubicBezTo>
                  <a:pt x="873" y="35"/>
                  <a:pt x="888" y="34"/>
                  <a:pt x="900" y="42"/>
                </a:cubicBezTo>
                <a:cubicBezTo>
                  <a:pt x="988" y="102"/>
                  <a:pt x="856" y="52"/>
                  <a:pt x="952" y="83"/>
                </a:cubicBezTo>
                <a:cubicBezTo>
                  <a:pt x="1021" y="72"/>
                  <a:pt x="1018" y="61"/>
                  <a:pt x="1076" y="42"/>
                </a:cubicBezTo>
                <a:cubicBezTo>
                  <a:pt x="1086" y="45"/>
                  <a:pt x="1098" y="47"/>
                  <a:pt x="1107" y="52"/>
                </a:cubicBezTo>
                <a:cubicBezTo>
                  <a:pt x="1129" y="64"/>
                  <a:pt x="1169" y="94"/>
                  <a:pt x="1169" y="94"/>
                </a:cubicBezTo>
                <a:cubicBezTo>
                  <a:pt x="1243" y="69"/>
                  <a:pt x="1213" y="85"/>
                  <a:pt x="1262" y="52"/>
                </a:cubicBezTo>
                <a:cubicBezTo>
                  <a:pt x="1295" y="64"/>
                  <a:pt x="1322" y="82"/>
                  <a:pt x="1355" y="94"/>
                </a:cubicBezTo>
                <a:cubicBezTo>
                  <a:pt x="1383" y="90"/>
                  <a:pt x="1411" y="90"/>
                  <a:pt x="1438" y="83"/>
                </a:cubicBezTo>
                <a:cubicBezTo>
                  <a:pt x="1528" y="58"/>
                  <a:pt x="1386" y="50"/>
                  <a:pt x="1531" y="73"/>
                </a:cubicBezTo>
                <a:cubicBezTo>
                  <a:pt x="1573" y="102"/>
                  <a:pt x="1584" y="106"/>
                  <a:pt x="1635" y="94"/>
                </a:cubicBezTo>
                <a:cubicBezTo>
                  <a:pt x="1706" y="46"/>
                  <a:pt x="1673" y="60"/>
                  <a:pt x="1728" y="42"/>
                </a:cubicBezTo>
                <a:cubicBezTo>
                  <a:pt x="1778" y="54"/>
                  <a:pt x="1815" y="77"/>
                  <a:pt x="1862" y="94"/>
                </a:cubicBezTo>
                <a:cubicBezTo>
                  <a:pt x="1914" y="80"/>
                  <a:pt x="1925" y="88"/>
                  <a:pt x="1955" y="42"/>
                </a:cubicBezTo>
                <a:cubicBezTo>
                  <a:pt x="2024" y="53"/>
                  <a:pt x="2022" y="65"/>
                  <a:pt x="2080" y="83"/>
                </a:cubicBezTo>
                <a:cubicBezTo>
                  <a:pt x="2094" y="80"/>
                  <a:pt x="2108" y="77"/>
                  <a:pt x="2121" y="73"/>
                </a:cubicBezTo>
                <a:cubicBezTo>
                  <a:pt x="2142" y="67"/>
                  <a:pt x="2183" y="52"/>
                  <a:pt x="2183" y="52"/>
                </a:cubicBezTo>
                <a:cubicBezTo>
                  <a:pt x="2220" y="89"/>
                  <a:pt x="2224" y="111"/>
                  <a:pt x="2276" y="94"/>
                </a:cubicBezTo>
                <a:cubicBezTo>
                  <a:pt x="2318" y="65"/>
                  <a:pt x="2329" y="61"/>
                  <a:pt x="2380" y="73"/>
                </a:cubicBezTo>
                <a:cubicBezTo>
                  <a:pt x="2415" y="108"/>
                  <a:pt x="2425" y="119"/>
                  <a:pt x="2473" y="104"/>
                </a:cubicBezTo>
                <a:cubicBezTo>
                  <a:pt x="2544" y="57"/>
                  <a:pt x="2512" y="71"/>
                  <a:pt x="2566" y="52"/>
                </a:cubicBezTo>
                <a:cubicBezTo>
                  <a:pt x="2587" y="59"/>
                  <a:pt x="2610" y="61"/>
                  <a:pt x="2628" y="73"/>
                </a:cubicBezTo>
                <a:cubicBezTo>
                  <a:pt x="2649" y="87"/>
                  <a:pt x="2690" y="114"/>
                  <a:pt x="2690" y="114"/>
                </a:cubicBezTo>
                <a:cubicBezTo>
                  <a:pt x="2729" y="104"/>
                  <a:pt x="2755" y="85"/>
                  <a:pt x="2793" y="73"/>
                </a:cubicBezTo>
                <a:cubicBezTo>
                  <a:pt x="2822" y="75"/>
                  <a:pt x="2967" y="102"/>
                  <a:pt x="3021" y="83"/>
                </a:cubicBezTo>
                <a:cubicBezTo>
                  <a:pt x="3031" y="73"/>
                  <a:pt x="3038" y="55"/>
                  <a:pt x="3052" y="52"/>
                </a:cubicBezTo>
                <a:cubicBezTo>
                  <a:pt x="3064" y="49"/>
                  <a:pt x="3118" y="68"/>
                  <a:pt x="3135" y="73"/>
                </a:cubicBezTo>
                <a:cubicBezTo>
                  <a:pt x="3185" y="107"/>
                  <a:pt x="3147" y="95"/>
                  <a:pt x="3197" y="73"/>
                </a:cubicBezTo>
                <a:cubicBezTo>
                  <a:pt x="3217" y="64"/>
                  <a:pt x="3259" y="52"/>
                  <a:pt x="3259" y="52"/>
                </a:cubicBezTo>
                <a:cubicBezTo>
                  <a:pt x="3273" y="59"/>
                  <a:pt x="3288" y="64"/>
                  <a:pt x="3300" y="73"/>
                </a:cubicBezTo>
                <a:cubicBezTo>
                  <a:pt x="3312" y="82"/>
                  <a:pt x="3317" y="100"/>
                  <a:pt x="3331" y="104"/>
                </a:cubicBezTo>
                <a:cubicBezTo>
                  <a:pt x="3348" y="108"/>
                  <a:pt x="3366" y="99"/>
                  <a:pt x="3383" y="94"/>
                </a:cubicBezTo>
                <a:cubicBezTo>
                  <a:pt x="3404" y="88"/>
                  <a:pt x="3445" y="73"/>
                  <a:pt x="3445" y="73"/>
                </a:cubicBezTo>
                <a:cubicBezTo>
                  <a:pt x="3509" y="85"/>
                  <a:pt x="3514" y="97"/>
                  <a:pt x="3579" y="83"/>
                </a:cubicBezTo>
                <a:cubicBezTo>
                  <a:pt x="3589" y="73"/>
                  <a:pt x="3596" y="55"/>
                  <a:pt x="3610" y="52"/>
                </a:cubicBezTo>
                <a:cubicBezTo>
                  <a:pt x="3631" y="48"/>
                  <a:pt x="3652" y="63"/>
                  <a:pt x="3673" y="63"/>
                </a:cubicBezTo>
                <a:cubicBezTo>
                  <a:pt x="3708" y="63"/>
                  <a:pt x="3742" y="56"/>
                  <a:pt x="3776" y="52"/>
                </a:cubicBezTo>
                <a:cubicBezTo>
                  <a:pt x="3786" y="45"/>
                  <a:pt x="3795" y="33"/>
                  <a:pt x="3807" y="31"/>
                </a:cubicBezTo>
                <a:cubicBezTo>
                  <a:pt x="3840" y="26"/>
                  <a:pt x="3879" y="63"/>
                  <a:pt x="3910" y="73"/>
                </a:cubicBezTo>
                <a:cubicBezTo>
                  <a:pt x="3947" y="48"/>
                  <a:pt x="3961" y="38"/>
                  <a:pt x="4004" y="52"/>
                </a:cubicBezTo>
                <a:cubicBezTo>
                  <a:pt x="4053" y="85"/>
                  <a:pt x="4061" y="73"/>
                  <a:pt x="4107" y="42"/>
                </a:cubicBezTo>
                <a:cubicBezTo>
                  <a:pt x="4121" y="45"/>
                  <a:pt x="4135" y="48"/>
                  <a:pt x="4148" y="52"/>
                </a:cubicBezTo>
                <a:cubicBezTo>
                  <a:pt x="4169" y="58"/>
                  <a:pt x="4210" y="73"/>
                  <a:pt x="4210" y="73"/>
                </a:cubicBezTo>
                <a:cubicBezTo>
                  <a:pt x="4267" y="16"/>
                  <a:pt x="4289" y="27"/>
                  <a:pt x="4366" y="52"/>
                </a:cubicBezTo>
                <a:cubicBezTo>
                  <a:pt x="4440" y="3"/>
                  <a:pt x="4404" y="5"/>
                  <a:pt x="4469" y="21"/>
                </a:cubicBezTo>
                <a:cubicBezTo>
                  <a:pt x="4482" y="34"/>
                  <a:pt x="4562" y="110"/>
                  <a:pt x="4562" y="3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85680" y="2446200"/>
            <a:ext cx="1920960" cy="171720"/>
          </a:xfrm>
          <a:custGeom>
            <a:avLst/>
            <a:gdLst/>
            <a:ahLst/>
            <a:rect l="l" t="t" r="r" b="b"/>
            <a:pathLst>
              <a:path w="1210" h="108">
                <a:moveTo>
                  <a:pt x="0" y="0"/>
                </a:moveTo>
                <a:cubicBezTo>
                  <a:pt x="22" y="67"/>
                  <a:pt x="37" y="53"/>
                  <a:pt x="103" y="42"/>
                </a:cubicBezTo>
                <a:cubicBezTo>
                  <a:pt x="106" y="31"/>
                  <a:pt x="102" y="12"/>
                  <a:pt x="113" y="10"/>
                </a:cubicBezTo>
                <a:cubicBezTo>
                  <a:pt x="171" y="0"/>
                  <a:pt x="158" y="40"/>
                  <a:pt x="186" y="62"/>
                </a:cubicBezTo>
                <a:cubicBezTo>
                  <a:pt x="195" y="69"/>
                  <a:pt x="207" y="69"/>
                  <a:pt x="217" y="73"/>
                </a:cubicBezTo>
                <a:cubicBezTo>
                  <a:pt x="260" y="44"/>
                  <a:pt x="268" y="24"/>
                  <a:pt x="320" y="10"/>
                </a:cubicBezTo>
                <a:cubicBezTo>
                  <a:pt x="394" y="86"/>
                  <a:pt x="353" y="79"/>
                  <a:pt x="434" y="62"/>
                </a:cubicBezTo>
                <a:cubicBezTo>
                  <a:pt x="444" y="55"/>
                  <a:pt x="453" y="44"/>
                  <a:pt x="465" y="42"/>
                </a:cubicBezTo>
                <a:cubicBezTo>
                  <a:pt x="491" y="38"/>
                  <a:pt x="533" y="75"/>
                  <a:pt x="558" y="83"/>
                </a:cubicBezTo>
                <a:cubicBezTo>
                  <a:pt x="568" y="80"/>
                  <a:pt x="580" y="78"/>
                  <a:pt x="589" y="73"/>
                </a:cubicBezTo>
                <a:cubicBezTo>
                  <a:pt x="611" y="61"/>
                  <a:pt x="651" y="31"/>
                  <a:pt x="651" y="31"/>
                </a:cubicBezTo>
                <a:cubicBezTo>
                  <a:pt x="697" y="47"/>
                  <a:pt x="688" y="68"/>
                  <a:pt x="734" y="83"/>
                </a:cubicBezTo>
                <a:cubicBezTo>
                  <a:pt x="772" y="74"/>
                  <a:pt x="810" y="61"/>
                  <a:pt x="848" y="52"/>
                </a:cubicBezTo>
                <a:cubicBezTo>
                  <a:pt x="898" y="102"/>
                  <a:pt x="890" y="108"/>
                  <a:pt x="962" y="93"/>
                </a:cubicBezTo>
                <a:cubicBezTo>
                  <a:pt x="993" y="62"/>
                  <a:pt x="1014" y="45"/>
                  <a:pt x="1055" y="31"/>
                </a:cubicBezTo>
                <a:cubicBezTo>
                  <a:pt x="1065" y="35"/>
                  <a:pt x="1078" y="35"/>
                  <a:pt x="1086" y="42"/>
                </a:cubicBezTo>
                <a:cubicBezTo>
                  <a:pt x="1095" y="50"/>
                  <a:pt x="1096" y="67"/>
                  <a:pt x="1106" y="73"/>
                </a:cubicBezTo>
                <a:cubicBezTo>
                  <a:pt x="1125" y="85"/>
                  <a:pt x="1169" y="93"/>
                  <a:pt x="1169" y="93"/>
                </a:cubicBezTo>
                <a:cubicBezTo>
                  <a:pt x="1204" y="82"/>
                  <a:pt x="1192" y="91"/>
                  <a:pt x="1210" y="7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41480" y="2479680"/>
            <a:ext cx="5434200" cy="160200"/>
          </a:xfrm>
          <a:custGeom>
            <a:avLst/>
            <a:gdLst/>
            <a:ahLst/>
            <a:rect l="l" t="t" r="r" b="b"/>
            <a:pathLst>
              <a:path w="3423" h="101">
                <a:moveTo>
                  <a:pt x="0" y="83"/>
                </a:moveTo>
                <a:cubicBezTo>
                  <a:pt x="10" y="76"/>
                  <a:pt x="23" y="72"/>
                  <a:pt x="31" y="62"/>
                </a:cubicBezTo>
                <a:cubicBezTo>
                  <a:pt x="70" y="12"/>
                  <a:pt x="5" y="43"/>
                  <a:pt x="72" y="21"/>
                </a:cubicBezTo>
                <a:cubicBezTo>
                  <a:pt x="77" y="22"/>
                  <a:pt x="156" y="28"/>
                  <a:pt x="175" y="41"/>
                </a:cubicBezTo>
                <a:cubicBezTo>
                  <a:pt x="257" y="95"/>
                  <a:pt x="160" y="56"/>
                  <a:pt x="237" y="83"/>
                </a:cubicBezTo>
                <a:cubicBezTo>
                  <a:pt x="285" y="12"/>
                  <a:pt x="255" y="29"/>
                  <a:pt x="310" y="10"/>
                </a:cubicBezTo>
                <a:cubicBezTo>
                  <a:pt x="317" y="12"/>
                  <a:pt x="372" y="26"/>
                  <a:pt x="382" y="31"/>
                </a:cubicBezTo>
                <a:cubicBezTo>
                  <a:pt x="462" y="71"/>
                  <a:pt x="366" y="37"/>
                  <a:pt x="444" y="62"/>
                </a:cubicBezTo>
                <a:cubicBezTo>
                  <a:pt x="458" y="59"/>
                  <a:pt x="474" y="60"/>
                  <a:pt x="486" y="52"/>
                </a:cubicBezTo>
                <a:cubicBezTo>
                  <a:pt x="496" y="45"/>
                  <a:pt x="497" y="29"/>
                  <a:pt x="506" y="21"/>
                </a:cubicBezTo>
                <a:cubicBezTo>
                  <a:pt x="514" y="14"/>
                  <a:pt x="527" y="14"/>
                  <a:pt x="537" y="10"/>
                </a:cubicBezTo>
                <a:cubicBezTo>
                  <a:pt x="612" y="60"/>
                  <a:pt x="582" y="34"/>
                  <a:pt x="631" y="83"/>
                </a:cubicBezTo>
                <a:cubicBezTo>
                  <a:pt x="670" y="69"/>
                  <a:pt x="678" y="44"/>
                  <a:pt x="713" y="21"/>
                </a:cubicBezTo>
                <a:cubicBezTo>
                  <a:pt x="737" y="28"/>
                  <a:pt x="763" y="30"/>
                  <a:pt x="786" y="41"/>
                </a:cubicBezTo>
                <a:cubicBezTo>
                  <a:pt x="809" y="51"/>
                  <a:pt x="848" y="83"/>
                  <a:pt x="848" y="83"/>
                </a:cubicBezTo>
                <a:cubicBezTo>
                  <a:pt x="852" y="82"/>
                  <a:pt x="926" y="72"/>
                  <a:pt x="941" y="62"/>
                </a:cubicBezTo>
                <a:cubicBezTo>
                  <a:pt x="1018" y="11"/>
                  <a:pt x="929" y="45"/>
                  <a:pt x="1003" y="21"/>
                </a:cubicBezTo>
                <a:cubicBezTo>
                  <a:pt x="1149" y="41"/>
                  <a:pt x="1015" y="11"/>
                  <a:pt x="1117" y="62"/>
                </a:cubicBezTo>
                <a:cubicBezTo>
                  <a:pt x="1137" y="72"/>
                  <a:pt x="1179" y="83"/>
                  <a:pt x="1179" y="83"/>
                </a:cubicBezTo>
                <a:cubicBezTo>
                  <a:pt x="1224" y="68"/>
                  <a:pt x="1259" y="45"/>
                  <a:pt x="1303" y="31"/>
                </a:cubicBezTo>
                <a:cubicBezTo>
                  <a:pt x="1401" y="38"/>
                  <a:pt x="1497" y="52"/>
                  <a:pt x="1593" y="21"/>
                </a:cubicBezTo>
                <a:cubicBezTo>
                  <a:pt x="1607" y="24"/>
                  <a:pt x="1621" y="27"/>
                  <a:pt x="1634" y="31"/>
                </a:cubicBezTo>
                <a:cubicBezTo>
                  <a:pt x="1655" y="37"/>
                  <a:pt x="1696" y="52"/>
                  <a:pt x="1696" y="52"/>
                </a:cubicBezTo>
                <a:cubicBezTo>
                  <a:pt x="1735" y="42"/>
                  <a:pt x="1762" y="23"/>
                  <a:pt x="1799" y="10"/>
                </a:cubicBezTo>
                <a:cubicBezTo>
                  <a:pt x="1812" y="12"/>
                  <a:pt x="1873" y="20"/>
                  <a:pt x="1893" y="31"/>
                </a:cubicBezTo>
                <a:cubicBezTo>
                  <a:pt x="1915" y="43"/>
                  <a:pt x="1955" y="72"/>
                  <a:pt x="1955" y="72"/>
                </a:cubicBezTo>
                <a:cubicBezTo>
                  <a:pt x="1965" y="69"/>
                  <a:pt x="1976" y="67"/>
                  <a:pt x="1986" y="62"/>
                </a:cubicBezTo>
                <a:cubicBezTo>
                  <a:pt x="2008" y="50"/>
                  <a:pt x="2048" y="21"/>
                  <a:pt x="2048" y="21"/>
                </a:cubicBezTo>
                <a:cubicBezTo>
                  <a:pt x="2133" y="31"/>
                  <a:pt x="2158" y="48"/>
                  <a:pt x="2234" y="72"/>
                </a:cubicBezTo>
                <a:cubicBezTo>
                  <a:pt x="2244" y="65"/>
                  <a:pt x="2256" y="61"/>
                  <a:pt x="2265" y="52"/>
                </a:cubicBezTo>
                <a:cubicBezTo>
                  <a:pt x="2274" y="43"/>
                  <a:pt x="2274" y="24"/>
                  <a:pt x="2286" y="21"/>
                </a:cubicBezTo>
                <a:cubicBezTo>
                  <a:pt x="2299" y="17"/>
                  <a:pt x="2351" y="36"/>
                  <a:pt x="2368" y="41"/>
                </a:cubicBezTo>
                <a:cubicBezTo>
                  <a:pt x="2410" y="83"/>
                  <a:pt x="2447" y="101"/>
                  <a:pt x="2472" y="31"/>
                </a:cubicBezTo>
                <a:cubicBezTo>
                  <a:pt x="2526" y="40"/>
                  <a:pt x="2552" y="44"/>
                  <a:pt x="2596" y="72"/>
                </a:cubicBezTo>
                <a:cubicBezTo>
                  <a:pt x="2663" y="50"/>
                  <a:pt x="2598" y="81"/>
                  <a:pt x="2637" y="31"/>
                </a:cubicBezTo>
                <a:cubicBezTo>
                  <a:pt x="2645" y="21"/>
                  <a:pt x="2658" y="17"/>
                  <a:pt x="2668" y="10"/>
                </a:cubicBezTo>
                <a:cubicBezTo>
                  <a:pt x="2685" y="14"/>
                  <a:pt x="2704" y="14"/>
                  <a:pt x="2720" y="21"/>
                </a:cubicBezTo>
                <a:cubicBezTo>
                  <a:pt x="2743" y="31"/>
                  <a:pt x="2782" y="62"/>
                  <a:pt x="2782" y="62"/>
                </a:cubicBezTo>
                <a:cubicBezTo>
                  <a:pt x="2799" y="59"/>
                  <a:pt x="2819" y="61"/>
                  <a:pt x="2834" y="52"/>
                </a:cubicBezTo>
                <a:cubicBezTo>
                  <a:pt x="2845" y="46"/>
                  <a:pt x="2846" y="30"/>
                  <a:pt x="2855" y="21"/>
                </a:cubicBezTo>
                <a:cubicBezTo>
                  <a:pt x="2864" y="12"/>
                  <a:pt x="2876" y="7"/>
                  <a:pt x="2886" y="0"/>
                </a:cubicBezTo>
                <a:cubicBezTo>
                  <a:pt x="2937" y="17"/>
                  <a:pt x="2976" y="53"/>
                  <a:pt x="3020" y="83"/>
                </a:cubicBezTo>
                <a:cubicBezTo>
                  <a:pt x="3091" y="58"/>
                  <a:pt x="3013" y="93"/>
                  <a:pt x="3072" y="41"/>
                </a:cubicBezTo>
                <a:cubicBezTo>
                  <a:pt x="3091" y="25"/>
                  <a:pt x="3134" y="0"/>
                  <a:pt x="3134" y="0"/>
                </a:cubicBezTo>
                <a:cubicBezTo>
                  <a:pt x="3182" y="16"/>
                  <a:pt x="3208" y="56"/>
                  <a:pt x="3258" y="72"/>
                </a:cubicBezTo>
                <a:cubicBezTo>
                  <a:pt x="3268" y="65"/>
                  <a:pt x="3281" y="62"/>
                  <a:pt x="3289" y="52"/>
                </a:cubicBezTo>
                <a:cubicBezTo>
                  <a:pt x="3321" y="12"/>
                  <a:pt x="3265" y="13"/>
                  <a:pt x="3341" y="31"/>
                </a:cubicBezTo>
                <a:cubicBezTo>
                  <a:pt x="3348" y="41"/>
                  <a:pt x="3371" y="87"/>
                  <a:pt x="3392" y="83"/>
                </a:cubicBezTo>
                <a:cubicBezTo>
                  <a:pt x="3409" y="80"/>
                  <a:pt x="3411" y="54"/>
                  <a:pt x="3423" y="4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68400" y="3036960"/>
            <a:ext cx="7275600" cy="185760"/>
          </a:xfrm>
          <a:custGeom>
            <a:avLst/>
            <a:gdLst/>
            <a:ahLst/>
            <a:rect l="l" t="t" r="r" b="b"/>
            <a:pathLst>
              <a:path w="4583" h="117">
                <a:moveTo>
                  <a:pt x="0" y="21"/>
                </a:moveTo>
                <a:cubicBezTo>
                  <a:pt x="46" y="37"/>
                  <a:pt x="37" y="58"/>
                  <a:pt x="83" y="73"/>
                </a:cubicBezTo>
                <a:cubicBezTo>
                  <a:pt x="126" y="45"/>
                  <a:pt x="160" y="17"/>
                  <a:pt x="207" y="0"/>
                </a:cubicBezTo>
                <a:cubicBezTo>
                  <a:pt x="228" y="14"/>
                  <a:pt x="248" y="28"/>
                  <a:pt x="269" y="42"/>
                </a:cubicBezTo>
                <a:cubicBezTo>
                  <a:pt x="287" y="54"/>
                  <a:pt x="331" y="63"/>
                  <a:pt x="331" y="63"/>
                </a:cubicBezTo>
                <a:cubicBezTo>
                  <a:pt x="370" y="53"/>
                  <a:pt x="397" y="34"/>
                  <a:pt x="435" y="21"/>
                </a:cubicBezTo>
                <a:cubicBezTo>
                  <a:pt x="509" y="46"/>
                  <a:pt x="479" y="30"/>
                  <a:pt x="528" y="63"/>
                </a:cubicBezTo>
                <a:cubicBezTo>
                  <a:pt x="627" y="52"/>
                  <a:pt x="657" y="42"/>
                  <a:pt x="755" y="52"/>
                </a:cubicBezTo>
                <a:cubicBezTo>
                  <a:pt x="837" y="81"/>
                  <a:pt x="791" y="86"/>
                  <a:pt x="900" y="73"/>
                </a:cubicBezTo>
                <a:cubicBezTo>
                  <a:pt x="933" y="25"/>
                  <a:pt x="946" y="31"/>
                  <a:pt x="1004" y="42"/>
                </a:cubicBezTo>
                <a:cubicBezTo>
                  <a:pt x="1075" y="89"/>
                  <a:pt x="1043" y="75"/>
                  <a:pt x="1097" y="94"/>
                </a:cubicBezTo>
                <a:cubicBezTo>
                  <a:pt x="1125" y="90"/>
                  <a:pt x="1153" y="90"/>
                  <a:pt x="1180" y="83"/>
                </a:cubicBezTo>
                <a:cubicBezTo>
                  <a:pt x="1192" y="80"/>
                  <a:pt x="1200" y="68"/>
                  <a:pt x="1211" y="63"/>
                </a:cubicBezTo>
                <a:cubicBezTo>
                  <a:pt x="1224" y="57"/>
                  <a:pt x="1238" y="56"/>
                  <a:pt x="1252" y="52"/>
                </a:cubicBezTo>
                <a:cubicBezTo>
                  <a:pt x="1311" y="14"/>
                  <a:pt x="1317" y="14"/>
                  <a:pt x="1376" y="52"/>
                </a:cubicBezTo>
                <a:cubicBezTo>
                  <a:pt x="1420" y="117"/>
                  <a:pt x="1467" y="84"/>
                  <a:pt x="1531" y="63"/>
                </a:cubicBezTo>
                <a:cubicBezTo>
                  <a:pt x="1564" y="14"/>
                  <a:pt x="1564" y="6"/>
                  <a:pt x="1624" y="21"/>
                </a:cubicBezTo>
                <a:cubicBezTo>
                  <a:pt x="1658" y="44"/>
                  <a:pt x="1673" y="71"/>
                  <a:pt x="1707" y="94"/>
                </a:cubicBezTo>
                <a:cubicBezTo>
                  <a:pt x="1735" y="90"/>
                  <a:pt x="1764" y="92"/>
                  <a:pt x="1790" y="83"/>
                </a:cubicBezTo>
                <a:cubicBezTo>
                  <a:pt x="1813" y="75"/>
                  <a:pt x="1831" y="56"/>
                  <a:pt x="1852" y="42"/>
                </a:cubicBezTo>
                <a:cubicBezTo>
                  <a:pt x="1862" y="35"/>
                  <a:pt x="1883" y="21"/>
                  <a:pt x="1883" y="21"/>
                </a:cubicBezTo>
                <a:cubicBezTo>
                  <a:pt x="2006" y="47"/>
                  <a:pt x="1879" y="14"/>
                  <a:pt x="1966" y="52"/>
                </a:cubicBezTo>
                <a:cubicBezTo>
                  <a:pt x="1986" y="61"/>
                  <a:pt x="2028" y="73"/>
                  <a:pt x="2028" y="73"/>
                </a:cubicBezTo>
                <a:cubicBezTo>
                  <a:pt x="2096" y="65"/>
                  <a:pt x="2130" y="49"/>
                  <a:pt x="2193" y="63"/>
                </a:cubicBezTo>
                <a:cubicBezTo>
                  <a:pt x="2252" y="101"/>
                  <a:pt x="2259" y="93"/>
                  <a:pt x="2338" y="83"/>
                </a:cubicBezTo>
                <a:cubicBezTo>
                  <a:pt x="2412" y="59"/>
                  <a:pt x="2382" y="75"/>
                  <a:pt x="2431" y="42"/>
                </a:cubicBezTo>
                <a:cubicBezTo>
                  <a:pt x="2445" y="45"/>
                  <a:pt x="2459" y="48"/>
                  <a:pt x="2473" y="52"/>
                </a:cubicBezTo>
                <a:cubicBezTo>
                  <a:pt x="2494" y="58"/>
                  <a:pt x="2535" y="73"/>
                  <a:pt x="2535" y="73"/>
                </a:cubicBezTo>
                <a:cubicBezTo>
                  <a:pt x="2709" y="60"/>
                  <a:pt x="2625" y="66"/>
                  <a:pt x="2731" y="32"/>
                </a:cubicBezTo>
                <a:cubicBezTo>
                  <a:pt x="2857" y="56"/>
                  <a:pt x="2725" y="24"/>
                  <a:pt x="2814" y="63"/>
                </a:cubicBezTo>
                <a:cubicBezTo>
                  <a:pt x="2834" y="72"/>
                  <a:pt x="2876" y="83"/>
                  <a:pt x="2876" y="83"/>
                </a:cubicBezTo>
                <a:cubicBezTo>
                  <a:pt x="3026" y="71"/>
                  <a:pt x="2959" y="86"/>
                  <a:pt x="3062" y="52"/>
                </a:cubicBezTo>
                <a:cubicBezTo>
                  <a:pt x="3083" y="45"/>
                  <a:pt x="3103" y="39"/>
                  <a:pt x="3124" y="32"/>
                </a:cubicBezTo>
                <a:cubicBezTo>
                  <a:pt x="3134" y="28"/>
                  <a:pt x="3155" y="21"/>
                  <a:pt x="3155" y="21"/>
                </a:cubicBezTo>
                <a:cubicBezTo>
                  <a:pt x="3206" y="34"/>
                  <a:pt x="3241" y="67"/>
                  <a:pt x="3290" y="83"/>
                </a:cubicBezTo>
                <a:cubicBezTo>
                  <a:pt x="3372" y="76"/>
                  <a:pt x="3430" y="75"/>
                  <a:pt x="3497" y="32"/>
                </a:cubicBezTo>
                <a:cubicBezTo>
                  <a:pt x="3531" y="35"/>
                  <a:pt x="3566" y="36"/>
                  <a:pt x="3600" y="42"/>
                </a:cubicBezTo>
                <a:cubicBezTo>
                  <a:pt x="3621" y="46"/>
                  <a:pt x="3662" y="63"/>
                  <a:pt x="3662" y="63"/>
                </a:cubicBezTo>
                <a:cubicBezTo>
                  <a:pt x="3730" y="54"/>
                  <a:pt x="3761" y="64"/>
                  <a:pt x="3797" y="11"/>
                </a:cubicBezTo>
                <a:cubicBezTo>
                  <a:pt x="3867" y="22"/>
                  <a:pt x="3890" y="41"/>
                  <a:pt x="3952" y="63"/>
                </a:cubicBezTo>
                <a:cubicBezTo>
                  <a:pt x="3973" y="60"/>
                  <a:pt x="4029" y="55"/>
                  <a:pt x="4055" y="42"/>
                </a:cubicBezTo>
                <a:cubicBezTo>
                  <a:pt x="4135" y="2"/>
                  <a:pt x="4039" y="36"/>
                  <a:pt x="4117" y="11"/>
                </a:cubicBezTo>
                <a:cubicBezTo>
                  <a:pt x="4237" y="34"/>
                  <a:pt x="4115" y="3"/>
                  <a:pt x="4200" y="42"/>
                </a:cubicBezTo>
                <a:cubicBezTo>
                  <a:pt x="4220" y="51"/>
                  <a:pt x="4262" y="63"/>
                  <a:pt x="4262" y="63"/>
                </a:cubicBezTo>
                <a:cubicBezTo>
                  <a:pt x="4315" y="52"/>
                  <a:pt x="4339" y="52"/>
                  <a:pt x="4355" y="0"/>
                </a:cubicBezTo>
                <a:cubicBezTo>
                  <a:pt x="4369" y="4"/>
                  <a:pt x="4384" y="5"/>
                  <a:pt x="4397" y="11"/>
                </a:cubicBezTo>
                <a:cubicBezTo>
                  <a:pt x="4419" y="22"/>
                  <a:pt x="4459" y="52"/>
                  <a:pt x="4459" y="52"/>
                </a:cubicBezTo>
                <a:cubicBezTo>
                  <a:pt x="4490" y="49"/>
                  <a:pt x="4521" y="47"/>
                  <a:pt x="4552" y="42"/>
                </a:cubicBezTo>
                <a:cubicBezTo>
                  <a:pt x="4563" y="40"/>
                  <a:pt x="4583" y="32"/>
                  <a:pt x="4583" y="3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33560" y="3530520"/>
            <a:ext cx="1347840" cy="181080"/>
          </a:xfrm>
          <a:custGeom>
            <a:avLst/>
            <a:gdLst/>
            <a:ahLst/>
            <a:rect l="l" t="t" r="r" b="b"/>
            <a:pathLst>
              <a:path w="849" h="114">
                <a:moveTo>
                  <a:pt x="1" y="0"/>
                </a:moveTo>
                <a:cubicBezTo>
                  <a:pt x="4" y="17"/>
                  <a:pt x="0" y="37"/>
                  <a:pt x="11" y="51"/>
                </a:cubicBezTo>
                <a:cubicBezTo>
                  <a:pt x="26" y="71"/>
                  <a:pt x="73" y="93"/>
                  <a:pt x="73" y="93"/>
                </a:cubicBezTo>
                <a:cubicBezTo>
                  <a:pt x="87" y="86"/>
                  <a:pt x="100" y="78"/>
                  <a:pt x="114" y="72"/>
                </a:cubicBezTo>
                <a:cubicBezTo>
                  <a:pt x="124" y="68"/>
                  <a:pt x="138" y="70"/>
                  <a:pt x="146" y="62"/>
                </a:cubicBezTo>
                <a:cubicBezTo>
                  <a:pt x="205" y="4"/>
                  <a:pt x="100" y="51"/>
                  <a:pt x="187" y="20"/>
                </a:cubicBezTo>
                <a:cubicBezTo>
                  <a:pt x="231" y="50"/>
                  <a:pt x="248" y="95"/>
                  <a:pt x="301" y="114"/>
                </a:cubicBezTo>
                <a:cubicBezTo>
                  <a:pt x="311" y="110"/>
                  <a:pt x="322" y="108"/>
                  <a:pt x="332" y="103"/>
                </a:cubicBezTo>
                <a:cubicBezTo>
                  <a:pt x="354" y="91"/>
                  <a:pt x="394" y="62"/>
                  <a:pt x="394" y="62"/>
                </a:cubicBezTo>
                <a:cubicBezTo>
                  <a:pt x="401" y="52"/>
                  <a:pt x="403" y="36"/>
                  <a:pt x="414" y="31"/>
                </a:cubicBezTo>
                <a:cubicBezTo>
                  <a:pt x="444" y="19"/>
                  <a:pt x="454" y="62"/>
                  <a:pt x="466" y="72"/>
                </a:cubicBezTo>
                <a:cubicBezTo>
                  <a:pt x="475" y="79"/>
                  <a:pt x="487" y="79"/>
                  <a:pt x="497" y="83"/>
                </a:cubicBezTo>
                <a:cubicBezTo>
                  <a:pt x="569" y="74"/>
                  <a:pt x="598" y="78"/>
                  <a:pt x="652" y="41"/>
                </a:cubicBezTo>
                <a:cubicBezTo>
                  <a:pt x="696" y="55"/>
                  <a:pt x="696" y="78"/>
                  <a:pt x="735" y="103"/>
                </a:cubicBezTo>
                <a:cubicBezTo>
                  <a:pt x="768" y="98"/>
                  <a:pt x="823" y="101"/>
                  <a:pt x="849" y="7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3505320"/>
            <a:ext cx="1084320" cy="120600"/>
          </a:xfrm>
          <a:custGeom>
            <a:avLst/>
            <a:gdLst/>
            <a:ahLst/>
            <a:rect l="l" t="t" r="r" b="b"/>
            <a:pathLst>
              <a:path w="683" h="76">
                <a:moveTo>
                  <a:pt x="0" y="76"/>
                </a:moveTo>
                <a:cubicBezTo>
                  <a:pt x="4" y="66"/>
                  <a:pt x="0" y="48"/>
                  <a:pt x="11" y="45"/>
                </a:cubicBezTo>
                <a:cubicBezTo>
                  <a:pt x="36" y="39"/>
                  <a:pt x="86" y="57"/>
                  <a:pt x="114" y="66"/>
                </a:cubicBezTo>
                <a:cubicBezTo>
                  <a:pt x="128" y="63"/>
                  <a:pt x="142" y="62"/>
                  <a:pt x="155" y="56"/>
                </a:cubicBezTo>
                <a:cubicBezTo>
                  <a:pt x="177" y="45"/>
                  <a:pt x="217" y="14"/>
                  <a:pt x="217" y="14"/>
                </a:cubicBezTo>
                <a:cubicBezTo>
                  <a:pt x="234" y="17"/>
                  <a:pt x="253" y="17"/>
                  <a:pt x="269" y="24"/>
                </a:cubicBezTo>
                <a:cubicBezTo>
                  <a:pt x="285" y="31"/>
                  <a:pt x="296" y="47"/>
                  <a:pt x="311" y="56"/>
                </a:cubicBezTo>
                <a:cubicBezTo>
                  <a:pt x="320" y="61"/>
                  <a:pt x="332" y="63"/>
                  <a:pt x="342" y="66"/>
                </a:cubicBezTo>
                <a:cubicBezTo>
                  <a:pt x="395" y="53"/>
                  <a:pt x="401" y="32"/>
                  <a:pt x="445" y="4"/>
                </a:cubicBezTo>
                <a:cubicBezTo>
                  <a:pt x="543" y="18"/>
                  <a:pt x="495" y="0"/>
                  <a:pt x="579" y="56"/>
                </a:cubicBezTo>
                <a:cubicBezTo>
                  <a:pt x="589" y="63"/>
                  <a:pt x="610" y="76"/>
                  <a:pt x="610" y="76"/>
                </a:cubicBezTo>
                <a:cubicBezTo>
                  <a:pt x="670" y="65"/>
                  <a:pt x="646" y="74"/>
                  <a:pt x="683" y="5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48080" y="3516480"/>
            <a:ext cx="1428840" cy="93600"/>
          </a:xfrm>
          <a:custGeom>
            <a:avLst/>
            <a:gdLst/>
            <a:ahLst/>
            <a:rect l="l" t="t" r="r" b="b"/>
            <a:pathLst>
              <a:path w="849" h="81">
                <a:moveTo>
                  <a:pt x="0" y="71"/>
                </a:moveTo>
                <a:cubicBezTo>
                  <a:pt x="3" y="68"/>
                  <a:pt x="51" y="16"/>
                  <a:pt x="62" y="19"/>
                </a:cubicBezTo>
                <a:cubicBezTo>
                  <a:pt x="73" y="22"/>
                  <a:pt x="64" y="44"/>
                  <a:pt x="73" y="50"/>
                </a:cubicBezTo>
                <a:cubicBezTo>
                  <a:pt x="91" y="63"/>
                  <a:pt x="135" y="71"/>
                  <a:pt x="135" y="71"/>
                </a:cubicBezTo>
                <a:cubicBezTo>
                  <a:pt x="159" y="67"/>
                  <a:pt x="185" y="70"/>
                  <a:pt x="207" y="60"/>
                </a:cubicBezTo>
                <a:cubicBezTo>
                  <a:pt x="218" y="55"/>
                  <a:pt x="218" y="37"/>
                  <a:pt x="228" y="29"/>
                </a:cubicBezTo>
                <a:cubicBezTo>
                  <a:pt x="237" y="22"/>
                  <a:pt x="249" y="22"/>
                  <a:pt x="259" y="19"/>
                </a:cubicBezTo>
                <a:cubicBezTo>
                  <a:pt x="269" y="22"/>
                  <a:pt x="281" y="24"/>
                  <a:pt x="290" y="29"/>
                </a:cubicBezTo>
                <a:cubicBezTo>
                  <a:pt x="312" y="41"/>
                  <a:pt x="352" y="71"/>
                  <a:pt x="352" y="71"/>
                </a:cubicBezTo>
                <a:cubicBezTo>
                  <a:pt x="362" y="64"/>
                  <a:pt x="374" y="59"/>
                  <a:pt x="383" y="50"/>
                </a:cubicBezTo>
                <a:cubicBezTo>
                  <a:pt x="392" y="41"/>
                  <a:pt x="392" y="22"/>
                  <a:pt x="404" y="19"/>
                </a:cubicBezTo>
                <a:cubicBezTo>
                  <a:pt x="421" y="14"/>
                  <a:pt x="438" y="26"/>
                  <a:pt x="455" y="29"/>
                </a:cubicBezTo>
                <a:cubicBezTo>
                  <a:pt x="464" y="42"/>
                  <a:pt x="485" y="81"/>
                  <a:pt x="507" y="81"/>
                </a:cubicBezTo>
                <a:cubicBezTo>
                  <a:pt x="519" y="81"/>
                  <a:pt x="528" y="67"/>
                  <a:pt x="538" y="60"/>
                </a:cubicBezTo>
                <a:cubicBezTo>
                  <a:pt x="578" y="1"/>
                  <a:pt x="588" y="9"/>
                  <a:pt x="662" y="19"/>
                </a:cubicBezTo>
                <a:cubicBezTo>
                  <a:pt x="766" y="52"/>
                  <a:pt x="614" y="0"/>
                  <a:pt x="724" y="50"/>
                </a:cubicBezTo>
                <a:cubicBezTo>
                  <a:pt x="785" y="78"/>
                  <a:pt x="784" y="71"/>
                  <a:pt x="849" y="7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94200" y="3530520"/>
            <a:ext cx="2495520" cy="181080"/>
          </a:xfrm>
          <a:custGeom>
            <a:avLst/>
            <a:gdLst/>
            <a:ahLst/>
            <a:rect l="l" t="t" r="r" b="b"/>
            <a:pathLst>
              <a:path w="1572" h="114">
                <a:moveTo>
                  <a:pt x="0" y="51"/>
                </a:moveTo>
                <a:cubicBezTo>
                  <a:pt x="71" y="4"/>
                  <a:pt x="38" y="18"/>
                  <a:pt x="93" y="0"/>
                </a:cubicBezTo>
                <a:cubicBezTo>
                  <a:pt x="114" y="7"/>
                  <a:pt x="137" y="8"/>
                  <a:pt x="155" y="20"/>
                </a:cubicBezTo>
                <a:cubicBezTo>
                  <a:pt x="176" y="34"/>
                  <a:pt x="217" y="62"/>
                  <a:pt x="217" y="62"/>
                </a:cubicBezTo>
                <a:cubicBezTo>
                  <a:pt x="245" y="58"/>
                  <a:pt x="273" y="57"/>
                  <a:pt x="300" y="51"/>
                </a:cubicBezTo>
                <a:cubicBezTo>
                  <a:pt x="321" y="46"/>
                  <a:pt x="362" y="31"/>
                  <a:pt x="362" y="31"/>
                </a:cubicBezTo>
                <a:cubicBezTo>
                  <a:pt x="389" y="34"/>
                  <a:pt x="418" y="31"/>
                  <a:pt x="444" y="41"/>
                </a:cubicBezTo>
                <a:cubicBezTo>
                  <a:pt x="456" y="46"/>
                  <a:pt x="455" y="64"/>
                  <a:pt x="465" y="72"/>
                </a:cubicBezTo>
                <a:cubicBezTo>
                  <a:pt x="474" y="79"/>
                  <a:pt x="486" y="79"/>
                  <a:pt x="496" y="83"/>
                </a:cubicBezTo>
                <a:cubicBezTo>
                  <a:pt x="527" y="79"/>
                  <a:pt x="558" y="78"/>
                  <a:pt x="589" y="72"/>
                </a:cubicBezTo>
                <a:cubicBezTo>
                  <a:pt x="610" y="68"/>
                  <a:pt x="630" y="58"/>
                  <a:pt x="651" y="51"/>
                </a:cubicBezTo>
                <a:cubicBezTo>
                  <a:pt x="661" y="48"/>
                  <a:pt x="682" y="41"/>
                  <a:pt x="682" y="41"/>
                </a:cubicBezTo>
                <a:cubicBezTo>
                  <a:pt x="744" y="51"/>
                  <a:pt x="763" y="50"/>
                  <a:pt x="806" y="93"/>
                </a:cubicBezTo>
                <a:cubicBezTo>
                  <a:pt x="848" y="90"/>
                  <a:pt x="891" y="94"/>
                  <a:pt x="931" y="83"/>
                </a:cubicBezTo>
                <a:cubicBezTo>
                  <a:pt x="955" y="76"/>
                  <a:pt x="993" y="41"/>
                  <a:pt x="993" y="41"/>
                </a:cubicBezTo>
                <a:cubicBezTo>
                  <a:pt x="1046" y="51"/>
                  <a:pt x="1066" y="49"/>
                  <a:pt x="1096" y="93"/>
                </a:cubicBezTo>
                <a:cubicBezTo>
                  <a:pt x="1127" y="89"/>
                  <a:pt x="1170" y="87"/>
                  <a:pt x="1200" y="72"/>
                </a:cubicBezTo>
                <a:cubicBezTo>
                  <a:pt x="1277" y="33"/>
                  <a:pt x="1187" y="65"/>
                  <a:pt x="1262" y="41"/>
                </a:cubicBezTo>
                <a:cubicBezTo>
                  <a:pt x="1279" y="44"/>
                  <a:pt x="1297" y="45"/>
                  <a:pt x="1313" y="51"/>
                </a:cubicBezTo>
                <a:cubicBezTo>
                  <a:pt x="1351" y="65"/>
                  <a:pt x="1367" y="100"/>
                  <a:pt x="1406" y="114"/>
                </a:cubicBezTo>
                <a:cubicBezTo>
                  <a:pt x="1430" y="110"/>
                  <a:pt x="1455" y="109"/>
                  <a:pt x="1479" y="103"/>
                </a:cubicBezTo>
                <a:cubicBezTo>
                  <a:pt x="1500" y="98"/>
                  <a:pt x="1541" y="83"/>
                  <a:pt x="1541" y="83"/>
                </a:cubicBezTo>
                <a:cubicBezTo>
                  <a:pt x="1551" y="76"/>
                  <a:pt x="1572" y="62"/>
                  <a:pt x="1572" y="6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13160" y="4662360"/>
            <a:ext cx="261720" cy="100080"/>
          </a:xfrm>
          <a:custGeom>
            <a:avLst/>
            <a:gdLst/>
            <a:ahLst/>
            <a:rect l="l" t="t" r="r" b="b"/>
            <a:pathLst>
              <a:path w="165" h="63">
                <a:moveTo>
                  <a:pt x="0" y="0"/>
                </a:moveTo>
                <a:cubicBezTo>
                  <a:pt x="74" y="26"/>
                  <a:pt x="84" y="63"/>
                  <a:pt x="165" y="63"/>
                </a:cubicBezTo>
              </a:path>
            </a:pathLst>
          </a:custGeom>
          <a:noFill/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59040" y="4630680"/>
            <a:ext cx="5500800" cy="239760"/>
          </a:xfrm>
          <a:custGeom>
            <a:avLst/>
            <a:gdLst/>
            <a:ahLst/>
            <a:rect l="l" t="t" r="r" b="b"/>
            <a:pathLst>
              <a:path w="3465" h="151">
                <a:moveTo>
                  <a:pt x="0" y="103"/>
                </a:moveTo>
                <a:cubicBezTo>
                  <a:pt x="4" y="89"/>
                  <a:pt x="10" y="39"/>
                  <a:pt x="31" y="31"/>
                </a:cubicBezTo>
                <a:cubicBezTo>
                  <a:pt x="41" y="27"/>
                  <a:pt x="52" y="38"/>
                  <a:pt x="62" y="41"/>
                </a:cubicBezTo>
                <a:cubicBezTo>
                  <a:pt x="90" y="83"/>
                  <a:pt x="93" y="100"/>
                  <a:pt x="145" y="83"/>
                </a:cubicBezTo>
                <a:cubicBezTo>
                  <a:pt x="216" y="35"/>
                  <a:pt x="183" y="33"/>
                  <a:pt x="238" y="51"/>
                </a:cubicBezTo>
                <a:cubicBezTo>
                  <a:pt x="257" y="110"/>
                  <a:pt x="274" y="94"/>
                  <a:pt x="331" y="83"/>
                </a:cubicBezTo>
                <a:cubicBezTo>
                  <a:pt x="341" y="76"/>
                  <a:pt x="354" y="72"/>
                  <a:pt x="362" y="62"/>
                </a:cubicBezTo>
                <a:cubicBezTo>
                  <a:pt x="402" y="11"/>
                  <a:pt x="335" y="44"/>
                  <a:pt x="403" y="20"/>
                </a:cubicBezTo>
                <a:cubicBezTo>
                  <a:pt x="433" y="50"/>
                  <a:pt x="450" y="80"/>
                  <a:pt x="486" y="103"/>
                </a:cubicBezTo>
                <a:cubicBezTo>
                  <a:pt x="585" y="87"/>
                  <a:pt x="517" y="110"/>
                  <a:pt x="579" y="62"/>
                </a:cubicBezTo>
                <a:cubicBezTo>
                  <a:pt x="599" y="47"/>
                  <a:pt x="641" y="20"/>
                  <a:pt x="641" y="20"/>
                </a:cubicBezTo>
                <a:cubicBezTo>
                  <a:pt x="675" y="43"/>
                  <a:pt x="690" y="70"/>
                  <a:pt x="724" y="93"/>
                </a:cubicBezTo>
                <a:cubicBezTo>
                  <a:pt x="745" y="90"/>
                  <a:pt x="766" y="90"/>
                  <a:pt x="786" y="83"/>
                </a:cubicBezTo>
                <a:cubicBezTo>
                  <a:pt x="831" y="68"/>
                  <a:pt x="817" y="38"/>
                  <a:pt x="869" y="20"/>
                </a:cubicBezTo>
                <a:cubicBezTo>
                  <a:pt x="887" y="26"/>
                  <a:pt x="918" y="35"/>
                  <a:pt x="931" y="51"/>
                </a:cubicBezTo>
                <a:cubicBezTo>
                  <a:pt x="971" y="102"/>
                  <a:pt x="904" y="71"/>
                  <a:pt x="972" y="93"/>
                </a:cubicBezTo>
                <a:cubicBezTo>
                  <a:pt x="996" y="90"/>
                  <a:pt x="1022" y="92"/>
                  <a:pt x="1045" y="83"/>
                </a:cubicBezTo>
                <a:cubicBezTo>
                  <a:pt x="1068" y="74"/>
                  <a:pt x="1083" y="49"/>
                  <a:pt x="1107" y="41"/>
                </a:cubicBezTo>
                <a:cubicBezTo>
                  <a:pt x="1117" y="38"/>
                  <a:pt x="1128" y="34"/>
                  <a:pt x="1138" y="31"/>
                </a:cubicBezTo>
                <a:cubicBezTo>
                  <a:pt x="1194" y="45"/>
                  <a:pt x="1221" y="65"/>
                  <a:pt x="1272" y="83"/>
                </a:cubicBezTo>
                <a:cubicBezTo>
                  <a:pt x="1282" y="76"/>
                  <a:pt x="1294" y="71"/>
                  <a:pt x="1303" y="62"/>
                </a:cubicBezTo>
                <a:cubicBezTo>
                  <a:pt x="1312" y="53"/>
                  <a:pt x="1313" y="38"/>
                  <a:pt x="1324" y="31"/>
                </a:cubicBezTo>
                <a:cubicBezTo>
                  <a:pt x="1342" y="19"/>
                  <a:pt x="1386" y="10"/>
                  <a:pt x="1386" y="10"/>
                </a:cubicBezTo>
                <a:cubicBezTo>
                  <a:pt x="1416" y="40"/>
                  <a:pt x="1445" y="58"/>
                  <a:pt x="1469" y="93"/>
                </a:cubicBezTo>
                <a:cubicBezTo>
                  <a:pt x="1496" y="90"/>
                  <a:pt x="1525" y="93"/>
                  <a:pt x="1551" y="83"/>
                </a:cubicBezTo>
                <a:cubicBezTo>
                  <a:pt x="1607" y="62"/>
                  <a:pt x="1560" y="46"/>
                  <a:pt x="1603" y="20"/>
                </a:cubicBezTo>
                <a:cubicBezTo>
                  <a:pt x="1622" y="9"/>
                  <a:pt x="1665" y="0"/>
                  <a:pt x="1665" y="0"/>
                </a:cubicBezTo>
                <a:cubicBezTo>
                  <a:pt x="1684" y="19"/>
                  <a:pt x="1710" y="30"/>
                  <a:pt x="1727" y="51"/>
                </a:cubicBezTo>
                <a:cubicBezTo>
                  <a:pt x="1734" y="60"/>
                  <a:pt x="1731" y="74"/>
                  <a:pt x="1738" y="83"/>
                </a:cubicBezTo>
                <a:cubicBezTo>
                  <a:pt x="1755" y="104"/>
                  <a:pt x="1781" y="115"/>
                  <a:pt x="1800" y="134"/>
                </a:cubicBezTo>
                <a:cubicBezTo>
                  <a:pt x="1831" y="129"/>
                  <a:pt x="1870" y="132"/>
                  <a:pt x="1893" y="103"/>
                </a:cubicBezTo>
                <a:cubicBezTo>
                  <a:pt x="1922" y="66"/>
                  <a:pt x="1894" y="51"/>
                  <a:pt x="1955" y="31"/>
                </a:cubicBezTo>
                <a:cubicBezTo>
                  <a:pt x="1962" y="41"/>
                  <a:pt x="1968" y="53"/>
                  <a:pt x="1976" y="62"/>
                </a:cubicBezTo>
                <a:cubicBezTo>
                  <a:pt x="1995" y="84"/>
                  <a:pt x="2038" y="124"/>
                  <a:pt x="2038" y="124"/>
                </a:cubicBezTo>
                <a:cubicBezTo>
                  <a:pt x="2069" y="121"/>
                  <a:pt x="2102" y="125"/>
                  <a:pt x="2131" y="114"/>
                </a:cubicBezTo>
                <a:cubicBezTo>
                  <a:pt x="2143" y="110"/>
                  <a:pt x="2142" y="91"/>
                  <a:pt x="2151" y="83"/>
                </a:cubicBezTo>
                <a:cubicBezTo>
                  <a:pt x="2159" y="76"/>
                  <a:pt x="2172" y="76"/>
                  <a:pt x="2182" y="72"/>
                </a:cubicBezTo>
                <a:cubicBezTo>
                  <a:pt x="2235" y="86"/>
                  <a:pt x="2242" y="106"/>
                  <a:pt x="2286" y="134"/>
                </a:cubicBezTo>
                <a:cubicBezTo>
                  <a:pt x="2337" y="122"/>
                  <a:pt x="2372" y="89"/>
                  <a:pt x="2420" y="72"/>
                </a:cubicBezTo>
                <a:cubicBezTo>
                  <a:pt x="2471" y="85"/>
                  <a:pt x="2506" y="118"/>
                  <a:pt x="2555" y="134"/>
                </a:cubicBezTo>
                <a:cubicBezTo>
                  <a:pt x="2602" y="63"/>
                  <a:pt x="2572" y="80"/>
                  <a:pt x="2627" y="62"/>
                </a:cubicBezTo>
                <a:cubicBezTo>
                  <a:pt x="2649" y="71"/>
                  <a:pt x="2690" y="84"/>
                  <a:pt x="2710" y="103"/>
                </a:cubicBezTo>
                <a:cubicBezTo>
                  <a:pt x="2759" y="151"/>
                  <a:pt x="2700" y="123"/>
                  <a:pt x="2762" y="145"/>
                </a:cubicBezTo>
                <a:cubicBezTo>
                  <a:pt x="2776" y="141"/>
                  <a:pt x="2792" y="143"/>
                  <a:pt x="2803" y="134"/>
                </a:cubicBezTo>
                <a:cubicBezTo>
                  <a:pt x="2811" y="127"/>
                  <a:pt x="2805" y="111"/>
                  <a:pt x="2813" y="103"/>
                </a:cubicBezTo>
                <a:cubicBezTo>
                  <a:pt x="2821" y="95"/>
                  <a:pt x="2834" y="96"/>
                  <a:pt x="2844" y="93"/>
                </a:cubicBezTo>
                <a:cubicBezTo>
                  <a:pt x="2935" y="33"/>
                  <a:pt x="2965" y="91"/>
                  <a:pt x="3031" y="134"/>
                </a:cubicBezTo>
                <a:cubicBezTo>
                  <a:pt x="3091" y="115"/>
                  <a:pt x="3096" y="83"/>
                  <a:pt x="3144" y="51"/>
                </a:cubicBezTo>
                <a:cubicBezTo>
                  <a:pt x="3195" y="64"/>
                  <a:pt x="3230" y="97"/>
                  <a:pt x="3279" y="114"/>
                </a:cubicBezTo>
                <a:cubicBezTo>
                  <a:pt x="3324" y="98"/>
                  <a:pt x="3324" y="78"/>
                  <a:pt x="3372" y="93"/>
                </a:cubicBezTo>
                <a:cubicBezTo>
                  <a:pt x="3379" y="103"/>
                  <a:pt x="3381" y="119"/>
                  <a:pt x="3393" y="124"/>
                </a:cubicBezTo>
                <a:cubicBezTo>
                  <a:pt x="3420" y="135"/>
                  <a:pt x="3451" y="87"/>
                  <a:pt x="3465" y="7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17720" y="5197320"/>
            <a:ext cx="5649840" cy="217800"/>
          </a:xfrm>
          <a:custGeom>
            <a:avLst/>
            <a:gdLst/>
            <a:ahLst/>
            <a:rect l="l" t="t" r="r" b="b"/>
            <a:pathLst>
              <a:path w="3559" h="137">
                <a:moveTo>
                  <a:pt x="0" y="36"/>
                </a:moveTo>
                <a:cubicBezTo>
                  <a:pt x="45" y="81"/>
                  <a:pt x="72" y="88"/>
                  <a:pt x="135" y="98"/>
                </a:cubicBezTo>
                <a:cubicBezTo>
                  <a:pt x="159" y="95"/>
                  <a:pt x="184" y="97"/>
                  <a:pt x="207" y="88"/>
                </a:cubicBezTo>
                <a:cubicBezTo>
                  <a:pt x="230" y="79"/>
                  <a:pt x="269" y="46"/>
                  <a:pt x="269" y="46"/>
                </a:cubicBezTo>
                <a:cubicBezTo>
                  <a:pt x="290" y="50"/>
                  <a:pt x="312" y="49"/>
                  <a:pt x="331" y="57"/>
                </a:cubicBezTo>
                <a:cubicBezTo>
                  <a:pt x="354" y="67"/>
                  <a:pt x="393" y="98"/>
                  <a:pt x="393" y="98"/>
                </a:cubicBezTo>
                <a:cubicBezTo>
                  <a:pt x="414" y="95"/>
                  <a:pt x="436" y="97"/>
                  <a:pt x="455" y="88"/>
                </a:cubicBezTo>
                <a:cubicBezTo>
                  <a:pt x="466" y="82"/>
                  <a:pt x="465" y="64"/>
                  <a:pt x="476" y="57"/>
                </a:cubicBezTo>
                <a:cubicBezTo>
                  <a:pt x="494" y="45"/>
                  <a:pt x="538" y="36"/>
                  <a:pt x="538" y="36"/>
                </a:cubicBezTo>
                <a:cubicBezTo>
                  <a:pt x="559" y="50"/>
                  <a:pt x="579" y="63"/>
                  <a:pt x="600" y="77"/>
                </a:cubicBezTo>
                <a:cubicBezTo>
                  <a:pt x="610" y="84"/>
                  <a:pt x="631" y="98"/>
                  <a:pt x="631" y="98"/>
                </a:cubicBezTo>
                <a:cubicBezTo>
                  <a:pt x="655" y="95"/>
                  <a:pt x="680" y="93"/>
                  <a:pt x="704" y="88"/>
                </a:cubicBezTo>
                <a:cubicBezTo>
                  <a:pt x="725" y="83"/>
                  <a:pt x="766" y="67"/>
                  <a:pt x="766" y="67"/>
                </a:cubicBezTo>
                <a:cubicBezTo>
                  <a:pt x="787" y="70"/>
                  <a:pt x="808" y="70"/>
                  <a:pt x="828" y="77"/>
                </a:cubicBezTo>
                <a:cubicBezTo>
                  <a:pt x="840" y="81"/>
                  <a:pt x="847" y="96"/>
                  <a:pt x="859" y="98"/>
                </a:cubicBezTo>
                <a:cubicBezTo>
                  <a:pt x="880" y="101"/>
                  <a:pt x="920" y="85"/>
                  <a:pt x="942" y="77"/>
                </a:cubicBezTo>
                <a:cubicBezTo>
                  <a:pt x="967" y="0"/>
                  <a:pt x="1029" y="47"/>
                  <a:pt x="1076" y="77"/>
                </a:cubicBezTo>
                <a:cubicBezTo>
                  <a:pt x="1091" y="100"/>
                  <a:pt x="1096" y="119"/>
                  <a:pt x="1128" y="119"/>
                </a:cubicBezTo>
                <a:cubicBezTo>
                  <a:pt x="1164" y="119"/>
                  <a:pt x="1221" y="67"/>
                  <a:pt x="1221" y="67"/>
                </a:cubicBezTo>
                <a:cubicBezTo>
                  <a:pt x="1273" y="77"/>
                  <a:pt x="1288" y="93"/>
                  <a:pt x="1335" y="108"/>
                </a:cubicBezTo>
                <a:cubicBezTo>
                  <a:pt x="1352" y="105"/>
                  <a:pt x="1370" y="105"/>
                  <a:pt x="1386" y="98"/>
                </a:cubicBezTo>
                <a:cubicBezTo>
                  <a:pt x="1409" y="88"/>
                  <a:pt x="1449" y="57"/>
                  <a:pt x="1449" y="57"/>
                </a:cubicBezTo>
                <a:cubicBezTo>
                  <a:pt x="1466" y="60"/>
                  <a:pt x="1484" y="60"/>
                  <a:pt x="1500" y="67"/>
                </a:cubicBezTo>
                <a:cubicBezTo>
                  <a:pt x="1523" y="77"/>
                  <a:pt x="1562" y="108"/>
                  <a:pt x="1562" y="108"/>
                </a:cubicBezTo>
                <a:cubicBezTo>
                  <a:pt x="1645" y="99"/>
                  <a:pt x="1665" y="109"/>
                  <a:pt x="1707" y="46"/>
                </a:cubicBezTo>
                <a:cubicBezTo>
                  <a:pt x="1731" y="50"/>
                  <a:pt x="1756" y="50"/>
                  <a:pt x="1780" y="57"/>
                </a:cubicBezTo>
                <a:cubicBezTo>
                  <a:pt x="1846" y="77"/>
                  <a:pt x="1785" y="71"/>
                  <a:pt x="1821" y="108"/>
                </a:cubicBezTo>
                <a:cubicBezTo>
                  <a:pt x="1829" y="116"/>
                  <a:pt x="1842" y="115"/>
                  <a:pt x="1852" y="119"/>
                </a:cubicBezTo>
                <a:cubicBezTo>
                  <a:pt x="1883" y="115"/>
                  <a:pt x="1915" y="116"/>
                  <a:pt x="1945" y="108"/>
                </a:cubicBezTo>
                <a:cubicBezTo>
                  <a:pt x="1957" y="105"/>
                  <a:pt x="1965" y="93"/>
                  <a:pt x="1976" y="88"/>
                </a:cubicBezTo>
                <a:cubicBezTo>
                  <a:pt x="2006" y="73"/>
                  <a:pt x="2037" y="57"/>
                  <a:pt x="2069" y="46"/>
                </a:cubicBezTo>
                <a:cubicBezTo>
                  <a:pt x="2079" y="50"/>
                  <a:pt x="2090" y="52"/>
                  <a:pt x="2100" y="57"/>
                </a:cubicBezTo>
                <a:cubicBezTo>
                  <a:pt x="2122" y="69"/>
                  <a:pt x="2162" y="98"/>
                  <a:pt x="2162" y="98"/>
                </a:cubicBezTo>
                <a:cubicBezTo>
                  <a:pt x="2229" y="90"/>
                  <a:pt x="2255" y="91"/>
                  <a:pt x="2307" y="57"/>
                </a:cubicBezTo>
                <a:cubicBezTo>
                  <a:pt x="2342" y="60"/>
                  <a:pt x="2378" y="57"/>
                  <a:pt x="2411" y="67"/>
                </a:cubicBezTo>
                <a:cubicBezTo>
                  <a:pt x="2425" y="71"/>
                  <a:pt x="2431" y="89"/>
                  <a:pt x="2442" y="98"/>
                </a:cubicBezTo>
                <a:cubicBezTo>
                  <a:pt x="2469" y="121"/>
                  <a:pt x="2472" y="119"/>
                  <a:pt x="2504" y="129"/>
                </a:cubicBezTo>
                <a:cubicBezTo>
                  <a:pt x="2623" y="106"/>
                  <a:pt x="2501" y="137"/>
                  <a:pt x="2586" y="98"/>
                </a:cubicBezTo>
                <a:cubicBezTo>
                  <a:pt x="2606" y="89"/>
                  <a:pt x="2648" y="77"/>
                  <a:pt x="2648" y="77"/>
                </a:cubicBezTo>
                <a:cubicBezTo>
                  <a:pt x="2688" y="19"/>
                  <a:pt x="2715" y="48"/>
                  <a:pt x="2773" y="67"/>
                </a:cubicBezTo>
                <a:cubicBezTo>
                  <a:pt x="2823" y="101"/>
                  <a:pt x="2790" y="83"/>
                  <a:pt x="2866" y="108"/>
                </a:cubicBezTo>
                <a:cubicBezTo>
                  <a:pt x="2876" y="111"/>
                  <a:pt x="2897" y="119"/>
                  <a:pt x="2897" y="119"/>
                </a:cubicBezTo>
                <a:cubicBezTo>
                  <a:pt x="2951" y="100"/>
                  <a:pt x="2998" y="65"/>
                  <a:pt x="3052" y="46"/>
                </a:cubicBezTo>
                <a:cubicBezTo>
                  <a:pt x="3114" y="68"/>
                  <a:pt x="3055" y="40"/>
                  <a:pt x="3104" y="88"/>
                </a:cubicBezTo>
                <a:cubicBezTo>
                  <a:pt x="3123" y="106"/>
                  <a:pt x="3143" y="111"/>
                  <a:pt x="3166" y="119"/>
                </a:cubicBezTo>
                <a:cubicBezTo>
                  <a:pt x="3187" y="112"/>
                  <a:pt x="3216" y="116"/>
                  <a:pt x="3228" y="98"/>
                </a:cubicBezTo>
                <a:cubicBezTo>
                  <a:pt x="3235" y="88"/>
                  <a:pt x="3239" y="75"/>
                  <a:pt x="3248" y="67"/>
                </a:cubicBezTo>
                <a:cubicBezTo>
                  <a:pt x="3267" y="50"/>
                  <a:pt x="3310" y="25"/>
                  <a:pt x="3310" y="25"/>
                </a:cubicBezTo>
                <a:cubicBezTo>
                  <a:pt x="3321" y="32"/>
                  <a:pt x="3333" y="37"/>
                  <a:pt x="3342" y="46"/>
                </a:cubicBezTo>
                <a:cubicBezTo>
                  <a:pt x="3351" y="55"/>
                  <a:pt x="3353" y="69"/>
                  <a:pt x="3362" y="77"/>
                </a:cubicBezTo>
                <a:cubicBezTo>
                  <a:pt x="3381" y="94"/>
                  <a:pt x="3424" y="119"/>
                  <a:pt x="3424" y="119"/>
                </a:cubicBezTo>
                <a:cubicBezTo>
                  <a:pt x="3526" y="106"/>
                  <a:pt x="3497" y="116"/>
                  <a:pt x="3559" y="5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6324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770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28600" y="624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054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534520" y="6248520"/>
            <a:ext cx="6094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19320" y="685800"/>
            <a:ext cx="7696080" cy="5649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0  </a:t>
            </a: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兄妹俩被美妙的琴声陶醉了。等他们苏醒过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来，贝多芬早已离开了茅屋。他飞奔回客店，花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了一夜工夫，把刚才弹的曲子 —— 《月光曲》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imes New Roman"/>
              </a:rPr>
              <a:t>记录了下来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29200" y="175248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43800" y="175248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441972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Times New Roman"/>
              </a:rPr>
              <a:t>思考：从哪些地方可以看出兄妹俩被美妙的琴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Times New Roman"/>
              </a:rPr>
              <a:t>陶醉了？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874960" y="457200"/>
            <a:ext cx="3525840" cy="3429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914400" y="4292640"/>
            <a:ext cx="7238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cc66"/>
                </a:solidFill>
                <a:latin typeface="黑体"/>
                <a:ea typeface="黑体"/>
              </a:rPr>
              <a:t>我的音乐只应当为穷苦人造福，如果我做到了这一点，该是多么幸福。              ———贝多芬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609480"/>
            <a:ext cx="914400" cy="8384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61200" y="207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传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06668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7600" y="167652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hu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7600" y="251460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zhu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67652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736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46640" y="25146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7040" y="365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58840" y="259092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3080" y="32004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93800" y="40384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2320" y="3200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2320" y="4038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1676520"/>
            <a:ext cx="10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说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167652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单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5146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200400"/>
            <a:ext cx="9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琴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200400"/>
            <a:ext cx="14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棉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40384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子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038480"/>
            <a:ext cx="13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弓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11920" y="187020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恬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0960" y="1828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n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09920" y="286056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券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1616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0104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多音字组词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0992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注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3720" y="389268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霎</a:t>
            </a: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3840" y="385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66320" y="549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3399"/>
                </a:solidFill>
                <a:uFillTx/>
                <a:latin typeface="Times New Roman"/>
              </a:rPr>
              <a:t>词语注释：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0600" y="1413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幽静：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7840" y="14130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优雅寂静。课文中形容小路很偏僻，很清静。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70600" y="2349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霎时：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74840" y="234936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极短的一点时间。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960" y="29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莱茵河：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40000" y="29973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欧洲一条大河。源出瑞士境内的阿尔卑斯山，流经奥地利、法国、德国、荷兰等国。全长</a:t>
            </a: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1320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千米。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9752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恬静：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47600" y="37162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安静、宁静。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276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水天相接：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85640" y="43578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形容水面广阔，远远看去，好像和天连接在一起。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2760" y="5029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波涛汹涌：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029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形容大浪猛烈地向上涌。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2760" y="5638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断断续续：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1560" y="563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一会儿中断，一会儿继续。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98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2200" y="692280"/>
            <a:ext cx="34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填  空    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70028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（            ）的小路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637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99"/>
                </a:solidFill>
                <a:latin typeface="Times New Roman"/>
              </a:rPr>
              <a:t>（            ）的月光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56536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</a:rPr>
              <a:t>（           ）的烛光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645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（            ）的浪花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7002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（            ）的琴声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566100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（                     ）的大海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79736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（                     ）的海面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1700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幽静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263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99"/>
                </a:solidFill>
                <a:latin typeface="Times New Roman"/>
              </a:rPr>
              <a:t>清幽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08720" y="25844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微弱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36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雪亮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1628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美妙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486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Times New Roman"/>
              </a:rPr>
              <a:t>微波粼粼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573408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</a:rPr>
              <a:t>波涛汹涌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89680" y="2635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3716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（             ）的脸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3716280"/>
            <a:ext cx="178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恬静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596360" y="5516640"/>
            <a:ext cx="79992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7280" y="404640"/>
            <a:ext cx="7272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恬静——安静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这两个词都有表示心里平静的意思。不同的是，“恬静”往往用于人的内心感到舒适而表露出一种平静的神态；“安静”除了表示心理活动，还可以用来描写环境没有声音的干扰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61520" y="4054320"/>
            <a:ext cx="297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夜深了，周围（       ）极了，一切都再沉睡中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姑娘那（      ）的脸上嵌着一双水汪汪的大眼睛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400536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安静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48369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恬静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87280" y="404640"/>
            <a:ext cx="7956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幽静——清幽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两者都有表示环境很静的意思。不同的是，“幽静”是优雅寂静，“静”有安静的意思；“清幽”是秀丽而幽静，“清”含有秀丽的意思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3500280"/>
            <a:ext cx="79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春天的樱花公园，（          ）的林中小道上不时走过三三两两的游人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这片树林远离大路，树木茂盛，显得很（          ）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04200" y="3429000"/>
            <a:ext cx="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清   幽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5516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幽   静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87280" y="0"/>
            <a:ext cx="7301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苏醒——觉醒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这两个词都指醒过来，结束了原来好像睡着一样的糊涂状态。但“觉醒”指觉悟，用在思想上，表示认识问题从不清楚到清楚；“苏醒”原来的意思是昏迷后醒过来，指人失去知觉后得到恢复。也可以像课文中那样，用来描写出神后的清醒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329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在巨大的教育攻势下，他终于（      ）了，向人民政府交待自己的罪行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他刚（      ）过来，就忙问：“那些书受损失吗？”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08720" y="429264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觉醒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苏醒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0:07:40Z</dcterms:created>
  <dc:creator>Administrator</dc:creator>
  <dc:description/>
  <dc:language>en-US</dc:language>
  <cp:lastModifiedBy/>
  <dcterms:modified xsi:type="dcterms:W3CDTF">2015-08-11T02:09:22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