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928-6DB5-4FD1-B3B0-EF0AA5EE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848376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0120" y="3859200"/>
            <a:ext cx="848376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E1F-F9E9-4EE0-B0F0-9960D648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13364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0120" y="385920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85920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441-E31C-45AB-9576-1979035D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27316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8600" y="1133640"/>
            <a:ext cx="27316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7440" y="1133640"/>
            <a:ext cx="27316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0120" y="3859200"/>
            <a:ext cx="27316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8600" y="3859200"/>
            <a:ext cx="27316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7440" y="3859200"/>
            <a:ext cx="27316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C1EE-AA0C-4E29-B3F4-140D30C4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CB10-F064-4BA2-887D-71FA4CCD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30120" y="1133640"/>
            <a:ext cx="848376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AE98-0759-4B40-9FEF-B9A88805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848376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62E4-EA15-4F6D-AA6D-632F074A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41400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133640"/>
            <a:ext cx="41400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A7E4-A6A6-4CA6-9CD4-149FD805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377F-F72A-48C5-A255-B86A08A9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30120" y="214200"/>
            <a:ext cx="84837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2CBD-7844-48B2-A5C7-10E445CE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133640"/>
            <a:ext cx="41400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30120" y="385920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8015-9367-4CA5-914C-C6B59EC1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0120" y="1133640"/>
            <a:ext cx="848376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1E6-1795-4F53-BC2A-1A0314ED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41400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13364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5920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7B0D-7C0F-461C-A8BF-1C0E4E59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13364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30120" y="3859200"/>
            <a:ext cx="848376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7FE6-EC40-4444-B600-19880A80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848376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0120" y="3859200"/>
            <a:ext cx="848376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1191-CFA1-42CC-81C3-DA29395B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13364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0120" y="385920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5920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B6C4-9B28-40FA-A3DB-5B291A59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27316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8600" y="1133640"/>
            <a:ext cx="27316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7440" y="1133640"/>
            <a:ext cx="27316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30120" y="3859200"/>
            <a:ext cx="27316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8600" y="3859200"/>
            <a:ext cx="27316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7440" y="3859200"/>
            <a:ext cx="27316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2F5A-5C63-43A7-BD23-DF6F4BF9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EEBB4-63AF-4C7E-A7A9-462B19E3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30120" y="1133640"/>
            <a:ext cx="848376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8BC67-BD5E-4594-9A43-6A768945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848376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DCDB0-E98D-4BBE-BC52-7715E835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41400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7480" y="1133640"/>
            <a:ext cx="41400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A3C5-A65D-4711-AD14-42404778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5312C-712C-4FD5-843A-3652AB47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848376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8C0-2349-4363-A40E-094D5197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0120" y="214200"/>
            <a:ext cx="84837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2378E-1D15-4707-9401-111F5FFE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480" y="1133640"/>
            <a:ext cx="41400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30120" y="385920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FD54E-6D4C-4D65-8438-48B812DD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41400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480" y="113364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7480" y="385920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0A207-4B61-4741-99F9-409C792F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7480" y="113364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30120" y="3859200"/>
            <a:ext cx="848376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AC0A1-F2A3-4969-AACF-00CEC769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848376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0120" y="3859200"/>
            <a:ext cx="848376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7317C-2D03-4C4F-AA5C-A1773DE6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7480" y="113364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30120" y="385920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7480" y="385920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70D41-FAAB-4A2A-8059-5FC59F4B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27316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98600" y="1133640"/>
            <a:ext cx="27316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67440" y="1133640"/>
            <a:ext cx="27316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30120" y="3859200"/>
            <a:ext cx="27316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98600" y="3859200"/>
            <a:ext cx="27316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67440" y="3859200"/>
            <a:ext cx="27316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4AEF0-F5CA-41AF-A9CC-0FF43A95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41400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133640"/>
            <a:ext cx="41400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C89-C7C7-423B-8ED6-F06C596E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EF8-B2EF-4FE8-BE65-92308DC1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30120" y="214200"/>
            <a:ext cx="84837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333-AEC8-438B-8B7E-F3F98A5B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133640"/>
            <a:ext cx="41400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0120" y="385920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3FF-A8C3-46A1-8AF8-F48D2E8C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41400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13364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85920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6E04-8A77-4AC8-8E7A-A55CC338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0120" y="113364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133640"/>
            <a:ext cx="41400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0120" y="3859200"/>
            <a:ext cx="848376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E49-71BD-4BE2-AB25-1F70BDAD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D288-3266-4FED-B1AB-8A9BC0B16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6969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6969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8030-CE3D-4C5D-AA50-440F279F392D}" type="slidenum">
              <a:rPr b="0" lang="zh-CN" sz="1000" spc="-1" strike="noStrike">
                <a:solidFill>
                  <a:srgbClr val="96969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30120" y="1133640"/>
            <a:ext cx="848376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800" spc="-1" strike="noStrike">
                <a:solidFill>
                  <a:srgbClr val="8b590d"/>
                </a:solidFill>
                <a:latin typeface="幼圆"/>
              </a:rPr>
              <a:t>Click to edit the outline text format</a:t>
            </a: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  <a:p>
            <a:pPr lvl="1" marL="355680" indent="-355680" algn="just">
              <a:lnSpc>
                <a:spcPct val="110000"/>
              </a:lnSpc>
              <a:spcBef>
                <a:spcPts val="901"/>
              </a:spcBef>
              <a:buClr>
                <a:srgbClr val="f0b256"/>
              </a:buClr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800" spc="-1" strike="noStrike">
                <a:solidFill>
                  <a:srgbClr val="8b590d"/>
                </a:solidFill>
                <a:latin typeface="幼圆"/>
              </a:rPr>
              <a:t>Second Outline Level</a:t>
            </a: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  <a:p>
            <a:pPr lvl="2" marL="642960" indent="-12852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800" spc="-1" strike="noStrike">
                <a:solidFill>
                  <a:srgbClr val="8b590d"/>
                </a:solidFill>
                <a:latin typeface="幼圆"/>
              </a:rPr>
              <a:t>Third Outline Level</a:t>
            </a: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  <a:p>
            <a:pPr lvl="3" marL="900000" indent="-12852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800" spc="-1" strike="noStrike">
                <a:solidFill>
                  <a:srgbClr val="8b590d"/>
                </a:solidFill>
                <a:latin typeface="幼圆"/>
              </a:rPr>
              <a:t>Fourth Outline Level</a:t>
            </a: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  <a:p>
            <a:pPr lvl="4" marL="1157400" indent="-12852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800" spc="-1" strike="noStrike">
                <a:solidFill>
                  <a:srgbClr val="8b590d"/>
                </a:solidFill>
                <a:latin typeface="幼圆"/>
              </a:rPr>
              <a:t>Fifth Outline Level</a:t>
            </a: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  <a:p>
            <a:pPr lvl="5" marL="1157400" indent="-12852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800" spc="-1" strike="noStrike">
                <a:solidFill>
                  <a:srgbClr val="8b590d"/>
                </a:solidFill>
                <a:latin typeface="幼圆"/>
              </a:rPr>
              <a:t>Sixth Outline Level</a:t>
            </a: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  <a:p>
            <a:pPr lvl="6" marL="1157400" indent="-12852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800" spc="-1" strike="noStrike">
                <a:solidFill>
                  <a:srgbClr val="8b590d"/>
                </a:solidFill>
                <a:latin typeface="幼圆"/>
              </a:rPr>
              <a:t>Seventh Outline Level</a:t>
            </a:r>
            <a:endParaRPr b="0" lang="en-US" sz="2800" spc="-1" strike="noStrike">
              <a:solidFill>
                <a:srgbClr val="8b590d"/>
              </a:solidFill>
              <a:latin typeface="幼圆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title"/>
          </p:nvPr>
        </p:nvSpPr>
        <p:spPr>
          <a:xfrm>
            <a:off x="330120" y="214200"/>
            <a:ext cx="8483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8" descr=""/>
          <p:cNvPicPr/>
          <p:nvPr/>
        </p:nvPicPr>
        <p:blipFill>
          <a:blip r:embed="rId2"/>
          <a:stretch/>
        </p:blipFill>
        <p:spPr>
          <a:xfrm>
            <a:off x="-4680" y="4680"/>
            <a:ext cx="9159840" cy="6865920"/>
          </a:xfrm>
          <a:prstGeom prst="rect">
            <a:avLst/>
          </a:prstGeom>
          <a:ln w="0">
            <a:noFill/>
          </a:ln>
        </p:spPr>
      </p:pic>
      <p:grpSp>
        <p:nvGrpSpPr>
          <p:cNvPr id="84" name="组合 9"/>
          <p:cNvGrpSpPr/>
          <p:nvPr/>
        </p:nvGrpSpPr>
        <p:grpSpPr>
          <a:xfrm>
            <a:off x="0" y="247680"/>
            <a:ext cx="1087560" cy="1479600"/>
            <a:chOff x="0" y="247680"/>
            <a:chExt cx="1087560" cy="1479600"/>
          </a:xfrm>
        </p:grpSpPr>
        <p:pic>
          <p:nvPicPr>
            <p:cNvPr id="85" name="图片 10" descr=""/>
            <p:cNvPicPr/>
            <p:nvPr/>
          </p:nvPicPr>
          <p:blipFill>
            <a:blip r:embed="rId3"/>
            <a:stretch/>
          </p:blipFill>
          <p:spPr>
            <a:xfrm>
              <a:off x="0" y="247680"/>
              <a:ext cx="772560" cy="14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11" descr=""/>
            <p:cNvPicPr/>
            <p:nvPr/>
          </p:nvPicPr>
          <p:blipFill>
            <a:blip r:embed="rId4"/>
            <a:stretch/>
          </p:blipFill>
          <p:spPr>
            <a:xfrm>
              <a:off x="423720" y="640800"/>
              <a:ext cx="66384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6969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6969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FB64-4640-4CE6-BA7A-751131600E8D}" type="slidenum">
              <a:rPr b="0" lang="zh-CN" sz="1000" spc="-1" strike="noStrike">
                <a:solidFill>
                  <a:srgbClr val="96969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482400" y="2511000"/>
            <a:ext cx="59562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幼圆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272736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同学之间发生争吵是难免的事，你遇到这样的情况，是怎样做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8524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4d4f"/>
                </a:solidFill>
                <a:latin typeface="Arial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4b4d4f"/>
                </a:solidFill>
                <a:latin typeface="Arial"/>
                <a:ea typeface="楷体_GB2312"/>
              </a:rPr>
              <a:t>争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b4d4f"/>
                </a:solidFill>
                <a:latin typeface="Arial"/>
                <a:ea typeface="楷体_GB2312"/>
              </a:rPr>
              <a:t>读一读下列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905120"/>
            <a:ext cx="8839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争</a:t>
            </a:r>
            <a:r>
              <a:rPr b="1" lang="zh-CN" sz="4000" spc="-1" strike="noStrike">
                <a:solidFill>
                  <a:srgbClr val="66ffff"/>
                </a:solidFill>
                <a:latin typeface="Arial"/>
                <a:ea typeface="楷体_GB2312"/>
              </a:rPr>
              <a:t>吵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4b4d4f"/>
                </a:solidFill>
                <a:latin typeface="zypyyb"/>
                <a:ea typeface="zypyyb"/>
              </a:rPr>
              <a:t>chao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)    </a:t>
            </a:r>
            <a:r>
              <a:rPr b="1" lang="zh-CN" sz="4000" spc="-1" strike="noStrike">
                <a:solidFill>
                  <a:srgbClr val="66ffff"/>
                </a:solidFill>
                <a:latin typeface="Arial"/>
                <a:ea typeface="楷体_GB2312"/>
              </a:rPr>
              <a:t>嫉 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4b4d4f"/>
                </a:solidFill>
                <a:latin typeface="zypyyb"/>
                <a:ea typeface="zypyyb"/>
              </a:rPr>
              <a:t>ji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66ffff"/>
                </a:solidFill>
                <a:latin typeface="Arial"/>
                <a:ea typeface="楷体_GB2312"/>
              </a:rPr>
              <a:t>妒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4b4d4f"/>
                </a:solidFill>
                <a:latin typeface="zypyyb"/>
                <a:ea typeface="zypyyb"/>
              </a:rPr>
              <a:t>du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)    </a:t>
            </a:r>
            <a:r>
              <a:rPr b="1" lang="zh-CN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伸</a:t>
            </a:r>
            <a:r>
              <a:rPr b="1" lang="zh-CN" sz="4000" spc="-1" strike="noStrike">
                <a:solidFill>
                  <a:srgbClr val="66ffff"/>
                </a:solidFill>
                <a:latin typeface="Arial"/>
                <a:ea typeface="楷体_GB2312"/>
              </a:rPr>
              <a:t>缩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4b4d4f"/>
                </a:solidFill>
                <a:latin typeface="zypyyb"/>
                <a:ea typeface="zypyyb"/>
              </a:rPr>
              <a:t>suo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服</a:t>
            </a:r>
            <a:r>
              <a:rPr b="1" lang="zh-CN" sz="4000" spc="-1" strike="noStrike">
                <a:solidFill>
                  <a:srgbClr val="66ffff"/>
                </a:solidFill>
                <a:latin typeface="Arial"/>
                <a:ea typeface="楷体_GB2312"/>
              </a:rPr>
              <a:t>侍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4b4d4f"/>
                </a:solidFill>
                <a:latin typeface="zypyyb"/>
                <a:ea typeface="zypyyb"/>
              </a:rPr>
              <a:t>shi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)     </a:t>
            </a:r>
            <a:r>
              <a:rPr b="1" lang="zh-CN" sz="4000" spc="-1" strike="noStrike">
                <a:solidFill>
                  <a:srgbClr val="66ffff"/>
                </a:solidFill>
                <a:latin typeface="Arial"/>
                <a:ea typeface="楷体_GB2312"/>
              </a:rPr>
              <a:t>缘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4b4d4f"/>
                </a:solidFill>
                <a:latin typeface="zypyyb"/>
                <a:ea typeface="zypyyb"/>
              </a:rPr>
              <a:t>yuan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故     原</a:t>
            </a:r>
            <a:r>
              <a:rPr b="1" lang="zh-CN" sz="4000" spc="-1" strike="noStrike">
                <a:solidFill>
                  <a:srgbClr val="66ffff"/>
                </a:solidFill>
                <a:latin typeface="Arial"/>
                <a:ea typeface="楷体_GB2312"/>
              </a:rPr>
              <a:t>谅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4b4d4f"/>
                </a:solidFill>
                <a:latin typeface="zypyyb"/>
                <a:ea typeface="zypyyb"/>
              </a:rPr>
              <a:t>liang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Arial"/>
                <a:ea typeface="楷体_GB2312"/>
              </a:rPr>
              <a:t>瞟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4b4d4f"/>
                </a:solidFill>
                <a:latin typeface="zypyyb"/>
                <a:ea typeface="zypyyb"/>
              </a:rPr>
              <a:t>piao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一眼     防</a:t>
            </a:r>
            <a:r>
              <a:rPr b="1" lang="zh-CN" sz="4000" spc="-1" strike="noStrike">
                <a:solidFill>
                  <a:srgbClr val="66ffff"/>
                </a:solidFill>
                <a:latin typeface="Arial"/>
                <a:ea typeface="楷体_GB2312"/>
              </a:rPr>
              <a:t>御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4b4d4f"/>
                </a:solidFill>
                <a:latin typeface="zypyyb"/>
                <a:ea typeface="zypyyb"/>
              </a:rPr>
              <a:t>yu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)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b4d4f"/>
                </a:solidFill>
                <a:latin typeface="Arial"/>
                <a:ea typeface="楷体_GB2312"/>
              </a:rPr>
              <a:t>朗读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16606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这篇课文主要写了一件什么事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38080" y="38098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课文主要写了“我”和克莱谛之间因本子被弄脏而发生争吵这样一件事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7300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b4d4f"/>
                </a:solidFill>
                <a:latin typeface="Arial"/>
                <a:ea typeface="楷体_GB2312"/>
              </a:rPr>
              <a:t>吵架后</a:t>
            </a:r>
            <a:r>
              <a:rPr b="1" lang="en-US" sz="3600" spc="-1" strike="noStrike">
                <a:solidFill>
                  <a:srgbClr val="4b4d4f"/>
                </a:solidFill>
                <a:latin typeface="Arial"/>
                <a:ea typeface="楷体_GB2312"/>
              </a:rPr>
              <a:t>,“</a:t>
            </a:r>
            <a:r>
              <a:rPr b="1" lang="zh-CN" sz="3600" spc="-1" strike="noStrike">
                <a:solidFill>
                  <a:srgbClr val="4b4d4f"/>
                </a:solidFill>
                <a:latin typeface="Arial"/>
                <a:ea typeface="楷体_GB2312"/>
              </a:rPr>
              <a:t>我”的心里是怎么想的呢</a:t>
            </a:r>
            <a:r>
              <a:rPr b="1" lang="en-US" sz="3600" spc="-1" strike="noStrike">
                <a:solidFill>
                  <a:srgbClr val="4b4d4f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1240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为吵架而感到不安和后悔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但是又没有勇气去承认错误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11113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b4d4f"/>
                </a:solidFill>
                <a:latin typeface="Arial"/>
                <a:ea typeface="楷体_GB2312"/>
              </a:rPr>
              <a:t>而克莱谛又是怎么做的呢</a:t>
            </a:r>
            <a:r>
              <a:rPr b="1" lang="en-US" sz="3600" spc="-1" strike="noStrike">
                <a:solidFill>
                  <a:srgbClr val="4b4d4f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31240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克莱谛用自己的友善化解了双方的矛盾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,“</a:t>
            </a:r>
            <a:r>
              <a:rPr b="1" lang="zh-CN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我们”两个人又重归于好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80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Arial"/>
                <a:ea typeface="楷体_GB2312"/>
              </a:rPr>
              <a:t>父亲知道这件事情后</a:t>
            </a:r>
            <a:r>
              <a:rPr b="1" lang="en-US" sz="36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66ffff"/>
                </a:solidFill>
                <a:latin typeface="Arial"/>
                <a:ea typeface="楷体_GB2312"/>
              </a:rPr>
              <a:t>是怎么做的呢</a:t>
            </a:r>
            <a:r>
              <a:rPr b="1" lang="en-US" sz="36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1337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父亲把脸一沉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说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:“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既然你错了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就应该第一个伸过手去请他原谅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更不应该向一个比你高尚的朋友举起尺子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!”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说着从我手里夺过尺子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折成两段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向墙角扔去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9907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同学们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学了这篇课文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你们受到哪些启发呢</a:t>
            </a:r>
            <a:r>
              <a:rPr b="1" lang="en-US" sz="4000" spc="-1" strike="noStrike">
                <a:solidFill>
                  <a:srgbClr val="4b4d4f"/>
                </a:solidFill>
                <a:latin typeface="Arial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708360" y="2205000"/>
            <a:ext cx="2689200" cy="24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2:02:47Z</dcterms:created>
  <dc:creator>Administrator</dc:creator>
  <dc:description/>
  <dc:language>en-US</dc:language>
  <cp:lastModifiedBy/>
  <dcterms:modified xsi:type="dcterms:W3CDTF">2016-04-26T02:03:3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