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drumroll.wav" ContentType="audio/x-wav"/>
  <Override PartName="/ppt/media/image2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coin.wav" ContentType="audio/x-wav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explode.wav" ContentType="audio/x-wav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0D3-7C74-48A5-B831-C28FF378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C82-A64D-42C8-89C5-76D224D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175-6A4E-4DD1-8E63-86737BC3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872-A22E-4F2D-8291-C1E7505E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9F5-4DD6-4091-AAFC-0C19C064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9072-AE62-47F2-A9CE-09ADAAFA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9B3-070F-44D6-8097-F4604BC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19C-1FE7-44B8-BE4A-061F52D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7F43-7432-4DD2-9BBC-B85F3F45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406-1730-4556-83E5-6DA15D94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8B3-A16E-4368-B988-12DF8A6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0AC-2C82-4929-87FB-A235F05A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C19-5C26-4160-9B4C-307E5FF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56E-1AC3-4660-AB09-E763F01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7805-42E1-4B0C-AD60-5B08599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0AA-5837-4B6A-A55C-B514138C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3F93-C036-45D1-8221-28EA9283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07A-7D67-4CA0-BB0C-C01D37F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C05-CAD0-4257-8CD8-DE97DB09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533-89BF-480B-9724-95493A2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23D-A74C-4351-8F2C-007FF901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EE0-59D6-4E15-AA68-550C4CC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C04-FE81-4D75-8B89-08BC068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66F-F1F5-491B-9083-9112B5B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10D-77E7-489D-8120-9F925E15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5D11-C40D-42B3-873D-08CA5C54186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image" Target="../media/image22.jpeg"/><Relationship Id="rId19" Type="http://schemas.openxmlformats.org/officeDocument/2006/relationships/image" Target="../media/image23.jpeg"/><Relationship Id="rId20" Type="http://schemas.openxmlformats.org/officeDocument/2006/relationships/image" Target="../media/image24.jpeg"/><Relationship Id="rId21" Type="http://schemas.openxmlformats.org/officeDocument/2006/relationships/image" Target="../media/image25.jpeg"/><Relationship Id="rId22" Type="http://schemas.openxmlformats.org/officeDocument/2006/relationships/image" Target="../media/image26.jpeg"/><Relationship Id="rId23" Type="http://schemas.openxmlformats.org/officeDocument/2006/relationships/image" Target="../media/image27.jpeg"/><Relationship Id="rId24" Type="http://schemas.openxmlformats.org/officeDocument/2006/relationships/image" Target="../media/image28.jpe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仿宋_GB2312"/>
              </a:rPr>
              <a:t>一件值得赞颂的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91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100" spc="-1" strike="noStrike">
                <a:solidFill>
                  <a:srgbClr val="003399"/>
                </a:solidFill>
                <a:latin typeface="Impact"/>
                <a:ea typeface="隶书"/>
              </a:rPr>
              <a:t>什么样的事情值得赞颂？</a:t>
            </a:r>
            <a:endParaRPr b="0" lang="en-US" sz="5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755640" y="3068640"/>
            <a:ext cx="6408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值得学习、表扬的事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Impact"/>
                <a:ea typeface="隶书"/>
                <a:hlinkClick r:id="rId1" action="ppaction://hlinksldjump"/>
              </a:rPr>
              <a:t>被人赞扬，体现着美德的事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oin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6" descr=""/>
          <p:cNvPicPr/>
          <p:nvPr/>
        </p:nvPicPr>
        <p:blipFill>
          <a:blip r:embed="rId1"/>
          <a:stretch/>
        </p:blipFill>
        <p:spPr>
          <a:xfrm>
            <a:off x="419040" y="1054080"/>
            <a:ext cx="8305920" cy="4600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8" descr=""/>
          <p:cNvPicPr/>
          <p:nvPr/>
        </p:nvPicPr>
        <p:blipFill>
          <a:blip r:embed="rId1"/>
          <a:stretch/>
        </p:blipFill>
        <p:spPr>
          <a:xfrm>
            <a:off x="685800" y="1587600"/>
            <a:ext cx="7772400" cy="3533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U43P4T47D8901F968DT20080517143322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112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119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117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16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115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14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1118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1166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1199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1122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1188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1155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11222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113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93249045331199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11256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1124"/>
          <p:cNvPicPr/>
          <p:nvPr/>
        </p:nvPicPr>
        <p:blipFill>
          <a:blip r:embed="rId19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100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112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1166"/>
          <p:cNvPicPr/>
          <p:nvPr/>
        </p:nvPicPr>
        <p:blipFill>
          <a:blip r:embed="rId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14"/>
          <p:cNvPicPr/>
          <p:nvPr/>
        </p:nvPicPr>
        <p:blipFill>
          <a:blip r:embed="rId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27" descr="13"/>
          <p:cNvPicPr/>
          <p:nvPr/>
        </p:nvPicPr>
        <p:blipFill>
          <a:blip r:embed="rId24"/>
          <a:stretch/>
        </p:blipFill>
        <p:spPr>
          <a:xfrm>
            <a:off x="0" y="-387360"/>
            <a:ext cx="914400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99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大家说说你想写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为什么想写这件事情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打算怎么开头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把你要写的事情说一遍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把你要写的事情列一个提纲（要把时间、地点、人物、起因、经过和结果写清楚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结尾处说说你对这件事的感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870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作文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40360" y="2852640"/>
            <a:ext cx="446400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写受感动、值得赞颂的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要写清事情的起因、经过、结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要把经过写具体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要表达真情实感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Picture 4" descr="家庭照 037"/>
          <p:cNvPicPr/>
          <p:nvPr/>
        </p:nvPicPr>
        <p:blipFill>
          <a:blip r:embed="rId1"/>
          <a:stretch/>
        </p:blipFill>
        <p:spPr>
          <a:xfrm rot="301200">
            <a:off x="1114560" y="2493720"/>
            <a:ext cx="25365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2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755640" y="1484280"/>
            <a:ext cx="74818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24000" y="62064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826920" y="2477520"/>
            <a:ext cx="748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范文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值得赞颂的事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人们都以为只有做了好事才值得人们去称颂，而我觉得，那些能够知错就改的人更值得人们去尊重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我家旁边有一个包子店，那是我娟阿姨开的，生意特别红火，有空我就去那里帮忙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那是一个星期六的早晨，我来到娟阿姨的包子店，听到娟阿姨和姨夫正在吵架。娟阿姨说：“你怎么能买豆猪肉呢？你明明知道那种肉吃完后人容易变傻的。”姨夫说：“管它呢，只要能赚钱，我豁出去了。”“娟阿姨，你不能那样。”我劝道。可最后，娟阿姨一狠心，还是把猪肉剁了，包成了包子。这时，那个经常来买包子的小女孩儿一蹦一跳地来了。她大声叫到：“阿姨，我要买六个白菜猪肉馅的包子。”只见娟阿姨走了过去，包了六个包子递给了小女孩，小姑娘又一蹦一跳地走了。突然，娟阿姨喊到：“小姑娘你等一下。”小姑娘停下了，“你刚才的包子不是白菜猪肉的，对不起，你明早再来吧！”我愣了一下，问到：“娟阿姨，你不挣钱了吗？”“不挣了，挣了心里也不会安心的。”这句话深深地印在了我的脑海里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虽然娟阿姨这次差点儿犯下了大错，但她能悬崖勒马，及时改正错误，所以在我心目中她还是我的好娟阿姨。通过这件事，我明白了挣钱要挣干净的钱，做人要做正直的人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2:30:33Z</dcterms:created>
  <dc:creator>lenovo</dc:creator>
  <dc:description/>
  <dc:language>en-US</dc:language>
  <cp:lastModifiedBy>Windows 用户</cp:lastModifiedBy>
  <dcterms:modified xsi:type="dcterms:W3CDTF">2015-04-29T00:56:02Z</dcterms:modified>
  <cp:revision>38</cp:revision>
  <dc:subject/>
  <dc:title>Can  you match them ?</dc:title>
</cp:coreProperties>
</file>