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13.png" ContentType="image/png"/>
  <Override PartName="/ppt/media/image7.gif" ContentType="image/gif"/>
  <Override PartName="/ppt/media/image12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064-3C11-4765-AE75-C0BC77F8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657-948F-413C-BB8F-37C7A2E0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102-720A-4187-8043-0AE6D18B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726-8285-46A1-A131-9CF19850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B663-4084-4992-B41E-D6D83E3B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713-F83C-4CBD-8011-DBF4BC1F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759C-7EFA-456C-8AFB-B3A3C1FB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2C9A-A8CF-41DE-8155-39A6BE29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333F-0D15-4DB1-BD20-BF4999CF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FBF7-CF9F-4709-AE55-D68CCABC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E215-C4F5-4A95-8C8F-C5C3FB8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015-C873-47C7-82DC-06945C9D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53C5-211D-4DE7-97EB-006A258B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CD68-7317-48D4-BDDA-4A3682D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DECF-17FC-4DDF-A826-A90024CB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BA69-18CB-4C63-ACC6-528F57F0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A333-B3D9-4508-80AA-FAF0F5DE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B09C-9754-4050-9F08-8EFA518D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52E1-1875-45B2-945A-E7B67879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B02A-9602-4F35-B044-561055D4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B634-9BD1-4858-A25F-C4602F28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0DF2-54A1-453C-AD24-C509E5B1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7C9-3611-444F-83CD-8467CE9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CD5B-E074-46A1-8737-9305CB68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502E-88A2-4203-90D6-5B196357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B8D6-865D-4D3B-941A-EBE69D6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88FE-47C7-43DA-8F69-A4294861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FD009-906B-4F01-8161-3527F6C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1441-AD37-4E96-BEB0-CBA89305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5395-6C84-4BA0-99F4-B1F6CB02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537-E965-4E75-AA5E-1E1F37DB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C71-3A35-4097-BC5F-5E9A7A9C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D39-0F60-4B47-8E5E-1953A142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3A4-2A5C-4A6B-87F1-CFA0D307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D8A-D40A-4FDB-8980-FDBB30A8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B22-0A2E-4B17-8EC5-55C889C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B44-28EB-41BF-A6C9-BD450CBE1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ky, sunset, stars"/>
          <p:cNvPicPr/>
          <p:nvPr/>
        </p:nvPicPr>
        <p:blipFill>
          <a:blip r:embed="rId2"/>
          <a:srcRect l="16121" t="18327" r="11572" b="0"/>
          <a:stretch/>
        </p:blipFill>
        <p:spPr>
          <a:xfrm>
            <a:off x="0" y="0"/>
            <a:ext cx="91584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矩形 8"/>
          <p:cNvSpPr/>
          <p:nvPr/>
        </p:nvSpPr>
        <p:spPr>
          <a:xfrm>
            <a:off x="0" y="0"/>
            <a:ext cx="9158400" cy="6858000"/>
          </a:xfrm>
          <a:prstGeom prst="rect">
            <a:avLst/>
          </a:prstGeom>
          <a:solidFill>
            <a:srgbClr val="2454a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4422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72D6-3023-44E7-9B84-1E3E9E59A0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7b6e7"/>
              </a:buClr>
              <a:buSzPct val="80000"/>
              <a:buFont typeface="Webding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7b6e7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1bbe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7b6e7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7b6e7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7b6e7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7b6e7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7b6e7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7b6e7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ky, sunset, stars"/>
          <p:cNvPicPr/>
          <p:nvPr/>
        </p:nvPicPr>
        <p:blipFill>
          <a:blip r:embed="rId2"/>
          <a:srcRect l="16121" t="18327" r="11572" b="0"/>
          <a:stretch/>
        </p:blipFill>
        <p:spPr>
          <a:xfrm>
            <a:off x="0" y="0"/>
            <a:ext cx="9158400" cy="68803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10"/>
          <p:cNvGrpSpPr/>
          <p:nvPr/>
        </p:nvGrpSpPr>
        <p:grpSpPr>
          <a:xfrm>
            <a:off x="1906560" y="1847880"/>
            <a:ext cx="5484960" cy="342720"/>
            <a:chOff x="1906560" y="1847880"/>
            <a:chExt cx="5484960" cy="342720"/>
          </a:xfrm>
        </p:grpSpPr>
        <p:sp>
          <p:nvSpPr>
            <p:cNvPr id="86" name="L 形 11"/>
            <p:cNvSpPr/>
            <p:nvPr/>
          </p:nvSpPr>
          <p:spPr>
            <a:xfrm flipV="1" rot="5400000">
              <a:off x="5996160" y="795240"/>
              <a:ext cx="342720" cy="2448000"/>
            </a:xfrm>
            <a:custGeom>
              <a:avLst/>
              <a:gdLst/>
              <a:ahLst/>
              <a:rect l="l" t="t" r="r" b="b"/>
              <a:pathLst>
                <a:path w="343164" h="2448564">
                  <a:moveTo>
                    <a:pt x="0" y="0"/>
                  </a:moveTo>
                  <a:lnTo>
                    <a:pt x="50761" y="0"/>
                  </a:lnTo>
                  <a:lnTo>
                    <a:pt x="50761" y="2393706"/>
                  </a:lnTo>
                  <a:lnTo>
                    <a:pt x="343164" y="2393706"/>
                  </a:lnTo>
                  <a:lnTo>
                    <a:pt x="343164" y="2448564"/>
                  </a:lnTo>
                  <a:lnTo>
                    <a:pt x="0" y="24485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 形 12"/>
            <p:cNvSpPr/>
            <p:nvPr/>
          </p:nvSpPr>
          <p:spPr>
            <a:xfrm flipH="1" flipV="1" rot="16200000">
              <a:off x="3001320" y="753120"/>
              <a:ext cx="342720" cy="2532240"/>
            </a:xfrm>
            <a:custGeom>
              <a:avLst/>
              <a:gdLst/>
              <a:ahLst/>
              <a:rect l="l" t="t" r="r" b="b"/>
              <a:pathLst>
                <a:path w="343164" h="2532627">
                  <a:moveTo>
                    <a:pt x="0" y="0"/>
                  </a:moveTo>
                  <a:lnTo>
                    <a:pt x="50761" y="0"/>
                  </a:lnTo>
                  <a:lnTo>
                    <a:pt x="50761" y="2477769"/>
                  </a:lnTo>
                  <a:lnTo>
                    <a:pt x="343164" y="2477769"/>
                  </a:lnTo>
                  <a:lnTo>
                    <a:pt x="343164" y="2532627"/>
                  </a:lnTo>
                  <a:lnTo>
                    <a:pt x="0" y="25326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组合 13"/>
          <p:cNvGrpSpPr/>
          <p:nvPr/>
        </p:nvGrpSpPr>
        <p:grpSpPr>
          <a:xfrm>
            <a:off x="1906560" y="3632400"/>
            <a:ext cx="5484960" cy="344520"/>
            <a:chOff x="1906560" y="3632400"/>
            <a:chExt cx="5484960" cy="344520"/>
          </a:xfrm>
        </p:grpSpPr>
        <p:sp>
          <p:nvSpPr>
            <p:cNvPr id="89" name="L 形 14"/>
            <p:cNvSpPr/>
            <p:nvPr/>
          </p:nvSpPr>
          <p:spPr>
            <a:xfrm rot="16200000">
              <a:off x="6485760" y="3071160"/>
              <a:ext cx="344520" cy="1467000"/>
            </a:xfrm>
            <a:custGeom>
              <a:avLst/>
              <a:gdLst/>
              <a:ahLst/>
              <a:rect l="l" t="t" r="r" b="b"/>
              <a:pathLst>
                <a:path w="343164" h="1467490">
                  <a:moveTo>
                    <a:pt x="0" y="0"/>
                  </a:moveTo>
                  <a:lnTo>
                    <a:pt x="50761" y="0"/>
                  </a:lnTo>
                  <a:lnTo>
                    <a:pt x="50761" y="1412632"/>
                  </a:lnTo>
                  <a:lnTo>
                    <a:pt x="343164" y="1412632"/>
                  </a:lnTo>
                  <a:lnTo>
                    <a:pt x="343164" y="1467490"/>
                  </a:lnTo>
                  <a:lnTo>
                    <a:pt x="0" y="14674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 形 15"/>
            <p:cNvSpPr/>
            <p:nvPr/>
          </p:nvSpPr>
          <p:spPr>
            <a:xfrm flipH="1" rot="5400000">
              <a:off x="2399760" y="3138840"/>
              <a:ext cx="344520" cy="1331280"/>
            </a:xfrm>
            <a:custGeom>
              <a:avLst/>
              <a:gdLst/>
              <a:ahLst/>
              <a:rect l="l" t="t" r="r" b="b"/>
              <a:pathLst>
                <a:path w="343164" h="1331623">
                  <a:moveTo>
                    <a:pt x="0" y="0"/>
                  </a:moveTo>
                  <a:lnTo>
                    <a:pt x="50761" y="0"/>
                  </a:lnTo>
                  <a:lnTo>
                    <a:pt x="50761" y="1276765"/>
                  </a:lnTo>
                  <a:lnTo>
                    <a:pt x="343164" y="1276765"/>
                  </a:lnTo>
                  <a:lnTo>
                    <a:pt x="343164" y="1331623"/>
                  </a:lnTo>
                  <a:lnTo>
                    <a:pt x="0" y="13316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55C-37DB-4798-8BF0-AF4FD32D16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2031840" y="2219040"/>
            <a:ext cx="52452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qq.yh31.com/tp/zjbq/201211021143148523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../../Local%20Settings/Temp/KuaiZipe1da3145$.tmp/&#20013;&#24425;&#37027;&#22825;.swf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qq.yh31.com/xq/sk/64432.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26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sqql.com/html_file/62/89952.html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b5d8"/>
            </a:gs>
            <a:gs pos="100000">
              <a:srgbClr val="3d3f4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268360" y="2781360"/>
            <a:ext cx="5334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中彩那天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868680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1430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18160"/>
            <a:ext cx="64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子三：我不明白父亲为什么中了彩还不高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郁闷了QQ表情"/>
          <p:cNvPicPr/>
          <p:nvPr/>
        </p:nvPicPr>
        <p:blipFill>
          <a:blip r:embed="rId1"/>
          <a:stretch/>
        </p:blipFill>
        <p:spPr>
          <a:xfrm>
            <a:off x="4067280" y="4076640"/>
            <a:ext cx="252072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114300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子四：母亲让我仔细辨别两张彩票有什么不同。我看了又看，终于看到中彩的那张右上角有铅笔写的淡淡的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字。可以看出，那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字用橡皮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擦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过，留有淡淡的痕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11430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198900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句子五：那天吃饭时，我们围坐在一起，父亲显得特别高兴，给我们讲了许多有趣的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6443640" y="4436280"/>
            <a:ext cx="95256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84360" y="3654360"/>
            <a:ext cx="680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242100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父亲是怎么做的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9051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父亲把车还给了库伯。虽然，别人不知道这事，父亲有将车据为己有的很好的机会，但“诚实、有信用”的做人原则又不允许把车留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99036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26920" y="1916280"/>
            <a:ext cx="7705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你认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父亲是一位（                   ）    的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没有道德的人会怎样做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03280" y="3215160"/>
            <a:ext cx="548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中奖那天我是什么样的态度？画出有关描写我态度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03640" y="2958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句子一：我几次兴奋地想上车与父亲共享这幸福的时刻，都被他赶了下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SO_BC1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232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1125360"/>
            <a:ext cx="81356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预习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理解“道德难题”和诚信与财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勾画父亲的表现的句子和我态度变化的句子，体会人物的内心世界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从课文中你感受到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有感情地朗读课文，体会作者表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清楚、首尾呼应的表达方法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0920" y="1844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句子二：我不明白父亲为什么中了彩还不高兴，闷闷不乐的回到家里，向母亲诉说刚才的情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79640" y="2205000"/>
            <a:ext cx="53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子三：“难道我们中彩得到汽车是不道德的事吗？”我迷惑不解的问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0840" y="2118240"/>
            <a:ext cx="830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句子四：“可是库伯是有钱人，我们家穷啊！”我激动得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87280" y="2421000"/>
            <a:ext cx="597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你认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我是一位（          ）的孩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71236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0920" y="2465280"/>
            <a:ext cx="943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1125360"/>
            <a:ext cx="626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父亲最后拨电话给库伯，让他把车开走，你觉得父亲这样做值吗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581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成年以后，回忆往事，我对母亲的教诲有了深刻的体会。是呀，中彩那天父亲打电话的时候，是我家最富有的时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17360"/>
            <a:ext cx="5904000" cy="4422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848720" y="5867280"/>
            <a:ext cx="99036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-252360" y="177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母亲的教诲指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285264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车被人开走了，为什么说“是我家最富有的时刻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把母亲说的话找出来读一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112536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4922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父亲通过打电话通知对方，领走的是中奖的车子，但得到的是人情和道义，是更多的真正的朋友，是心灵的宁静和快乐。这同样是一笔很大的财富，是金钱所买不到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812000" y="5877000"/>
            <a:ext cx="99072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9640" y="112536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人只要活得诚实、有信用，就等于有了一大笔财富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5840" y="2708280"/>
            <a:ext cx="88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02400" y="1975320"/>
            <a:ext cx="527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自学指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认真阅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两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 “你父亲正面临着一个道德难题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道德难题指的是什么？为什么难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112536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4922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父亲通过打电话通知对方，领走的是中奖的车子，但得到的是人情和道义，是更多的真正的朋友，是心灵的宁静和快乐。这同样是一笔很大的财富，是金钱所买不到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99036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76360" y="2349360"/>
            <a:ext cx="6551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你认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母亲是一位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                 )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的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32000" y="17002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请读第一自然段和最后一段，说一说它们有什么联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76360" y="206064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开头简洁的交代家庭背景，特别提到母亲安慰大家的一句话，为下文父亲做的事埋下伏笔，有照应了文章的结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1280" y="134136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堂练习：三选一（视时间机动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谈一谈父亲，母亲，库伯，“我”四个人中你喜欢谁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看了又看，终于看到中彩的那张右上角有铅笔写的淡淡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字。可以看出，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字用橡皮擦过，留有淡淡的痕迹。”从这一个“擦”字，我们感受到了父亲左右为难的矛盾心理，现在咱们反过来想一想，在擦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字的时候，父亲会是一种什么样的表情？什么样的动作呢？心里想些什么呢？咱们试着写一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父亲终于拿起了橡皮，他在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_______________________________________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58920" y="1557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照样子试着写一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诚实信用是为人的根本，只有它才能让我们开出灿烂的生命之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诚实信用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心灵的开放，只有它才能让我们拥有真挚的友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诚实信用是（         ），只有它才能让我们（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47640" y="2133720"/>
            <a:ext cx="64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学了本课你有什么收获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933720"/>
            <a:ext cx="3235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32000" y="1197000"/>
            <a:ext cx="5688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我能想象库伯先生派人把汽车开走后，“我们”全家人当时的表现，我要把想到的写下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71280" y="549360"/>
            <a:ext cx="388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楷体_GB2312"/>
              </a:rPr>
              <a:t>再见</a:t>
            </a:r>
            <a:endParaRPr b="1" lang="en-US" sz="96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315200" y="1219320"/>
            <a:ext cx="716040" cy="715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200400" y="1371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213080" y="1295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943600" y="1828800"/>
            <a:ext cx="716040" cy="716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5029200" y="6094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5638680" y="2438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7543800" y="220968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11280" y="836640"/>
            <a:ext cx="6400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照样子，把句子的意思补充完整：</a:t>
            </a:r>
            <a:endParaRPr b="1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2708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中彩后，父亲“神情严肃”，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96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库伯先生把车开回家后，父亲非常高兴，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37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那一天，我的心情特别好，因为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（       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5146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417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（他正面临着一个道德难题——车辆该归谁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65300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（他通过思想斗争，明白了正直、诚实最可贵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4842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例：我们家的生活拮据，因为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（全家六口人全靠父亲一人维持生计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11970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父亲正面临着一个道德难题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13372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父亲梦寐以求自己有一辆车，但当有了一辆车时，内心却充满了矛盾：把车还给库伯，做一个诚实、守信的人，还是占为己有？父亲左右徘徊，拿不准主意，所以说遇到了道德难题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55640" y="177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文章又是怎么写出父亲“难”的表现的？请速读第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段画出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342900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86640" y="4221000"/>
            <a:ext cx="54936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思考 打鬼主意 小破孩常用表情专辑第12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49672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5640" y="26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母亲让我仔细辨别两张彩票有什么不同。我看了又看，终于看到中彩的那张右上角有铅笔写的淡淡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字。可以看出，那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字用橡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过，留有淡淡的痕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2997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在这样难的抉择之下父亲的表情有变化吗？画出有关父亲表情的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773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414760" cy="4689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5105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句子一： 不一会儿，我看见父亲开着车从拥挤的人群中缓缓驶过。只是，他的神情严肃，看不出中彩带给他的喜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f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9640" y="1268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句子二：我几次兴奋地想上车与父亲共享这幸福的时刻，都被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赶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了下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2:50:28Z</dcterms:created>
  <dc:creator>Administrator</dc:creator>
  <dc:description/>
  <dc:language>en-US</dc:language>
  <cp:lastModifiedBy/>
  <dcterms:modified xsi:type="dcterms:W3CDTF">2015-08-19T02:19:18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