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E67-ADB9-4556-AAA6-43CFD1F1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CCD-F09F-440F-AB1A-4B4CD643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699-8A8C-4319-9C37-FF11F52C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692-F6D3-4E27-974C-210DB494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182-EE40-47D5-8396-B3379AE8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4D0-82BD-471A-9D04-CD9B9DDD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36D-239B-42C5-9530-1D160D9B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713-6618-452E-9D64-8AD9C6FA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62F-B121-44C9-9F12-0F697EA6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D9A-ED50-4C29-BCA0-570EF81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F4E-8E58-4CC9-802D-C6B8CD1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39F-1639-4869-BBDF-85A946FF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4B58-463B-4F6A-B16D-64CB9B967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写眼睛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78560" y="480600"/>
            <a:ext cx="691992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秀美：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只见她生得两条春山含翠的柳叶眉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一双秋水无尘的杏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文康《侠女奇缘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她的体质很健壮，是典型的生长在黑龙江农村里的姑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她那双黑亮的眼睛，给那两排长长的睫毛一衬，简直别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有多秀美啦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以至整个本是很平常的脸型，都显得惹人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目的漂亮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骆宾基《在山区收购站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这是位十分秀丽的江南姑娘：二十三四岁模样，中等个儿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苗条但并不瘦削；长圆型丰腴白皙的脸蛋上长着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一对乌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乌亮的大眼睛，晶莹透澈得宛如两潭秋水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；她的睫毛长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密密，柔软地覆盖在眼睑上，不时随着眼睑的启合微微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动，使人感到一种纯女性的脉脉含情的妖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卢群 李牧《心曲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8240" y="767880"/>
            <a:ext cx="889776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聪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她拿笔的手托着腮，</a:t>
            </a:r>
            <a:r>
              <a:rPr b="1" lang="zh-CN" sz="2700" spc="-1" strike="noStrike" u="sng">
                <a:solidFill>
                  <a:srgbClr val="000000"/>
                </a:solidFill>
                <a:uFillTx/>
                <a:latin typeface="Arial"/>
              </a:rPr>
              <a:t>长大的眼眶里，明亮的眸子缓慢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 u="sng">
                <a:solidFill>
                  <a:srgbClr val="000000"/>
                </a:solidFill>
                <a:uFillTx/>
                <a:latin typeface="Arial"/>
              </a:rPr>
              <a:t>游动着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，丰满的下巴微微上翘——这是每当她要想出更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巧妙的方法来解决一道数学题时，为数学老师所熟悉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所喜欢的神态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刘心武《班主任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他们的</a:t>
            </a:r>
            <a:r>
              <a:rPr b="1" lang="zh-CN" sz="2700" spc="-1" strike="noStrike" u="sng">
                <a:solidFill>
                  <a:srgbClr val="000000"/>
                </a:solidFill>
                <a:uFillTx/>
                <a:latin typeface="Arial"/>
              </a:rPr>
              <a:t>眼睛里闪射出一道道的光波，那光波映出一幅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 u="sng">
                <a:solidFill>
                  <a:srgbClr val="000000"/>
                </a:solidFill>
                <a:uFillTx/>
                <a:latin typeface="Arial"/>
              </a:rPr>
              <a:t>画，一幅幅崭新奇丽的画，一幅幅充满童心幻想的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画…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张岐《画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披散的头发垂在腰间，</a:t>
            </a:r>
            <a:r>
              <a:rPr b="1" lang="zh-CN" sz="2700" spc="-1" strike="noStrike" u="sng">
                <a:solidFill>
                  <a:srgbClr val="000000"/>
                </a:solidFill>
                <a:uFillTx/>
                <a:latin typeface="Arial"/>
              </a:rPr>
              <a:t>“刘海”下闪动着一双大眼睛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；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蓝小褂，尽管补缀得像挂在墙上那面千缝百纳的鱼网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她那美丽的身躯和聪慧的眼睛，却显露出渔家女的刚毅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果敢和顽强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王汪《渔家女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42840" y="854280"/>
            <a:ext cx="542952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机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是，从鱼菱村归来以后，十一岁的小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那一双乌溜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的眼睛看得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妈妈的身子强壮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刘绍棠《君子兰和她的女儿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个男孩子，大约十二三岁，又黑又瘦的小脸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嵌着一个尖尖的鼻子，头发有两寸来长，乱蓬蓬的，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一个喜鹊窝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浓浓的眉毛下边摆着对大眼睛，乌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眼珠，像算盘珠似的滴溜滴溜地乱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　王愿坚《小游击队员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机灵、淘气而又幼稚，胖乎乎的身体，圆圆的脑袋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着个小平头，满是稚气的脸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那对乌黑发亮的大眼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老是忽闪忽闪的，仿佛对一切都感到新奇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　顾青松《可爱的表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909000"/>
            <a:ext cx="856944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疏眉细眼，故意眯缝着眼瞧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小鼻子微微翘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薄薄的两片小嘴唇因忍俊不禁而闲着，两个小酒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浩然《红枣林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那梳着小辫的脑袋歪倚在右肩头上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水灵灵的大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睛向我顽皮地眨巴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鼻子略略上翘，显露出一副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王路遥《小星星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从来不打骂我们。仅仅有一次，她的教鞭好像要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来，我用石板一迎，教鞭轻轻地敲在石板上，大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笑了，她也笑了。我用儿童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狡猾的眼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察觉，她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，并没有存心要打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魏巍《我的老师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68440" y="1505520"/>
            <a:ext cx="6152760" cy="48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温柔：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的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眼睛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长得象耶斯林家的其他人一样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在直而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黑的眉毛下长着一双深凹的眼睛。像水一样明亮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呈蓝灰色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看起来总是那样温柔，不像耶斯林家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他人那样目光逼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西格丽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塞特《克丽丝丁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那双若有所思的、梦幻般的眼睛文静地瞧着你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彬彬有礼地询问你去哪里，要不要买票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时候，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们不由地就会想起久已被人遗忘的教养和礼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洁《谁生活得更美好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89240" y="2206800"/>
            <a:ext cx="6331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个儿不高，年龄大约十二三岁，白白净净的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脸，两个短短的小辫，扎着绿色的玻璃丝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乌黑漆亮的眼睛和那纤巧的嘴唇，含着天真的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笑，透着愿意同每个人交朋友的神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费枝《春晖寸草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9920" y="550800"/>
            <a:ext cx="71712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泼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黑黑的眸子是活泼的，有生气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又长又浓的眉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精神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晓岚《荷花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女孩的真名叫诺沙芭，但整个街区的人都管她叫芭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娅，意思是“小馅饼”。请想象一下：圆圆的小脸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是用圆规画出来的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滴溜圆的金色眼睛，宛如盛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甘蔗汁的杯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圆圆的鼻子，连小鼻孔也是圆圆的；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嘴甜甜地一笑，就成了圆圆的甜馅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伊斯马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丘葛麦《芭塔西娅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个二十多岁出头的姑娘，圆脸蛋润润的，眉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细长的双眼闪动着爽直的、热乎乎的目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老是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言先笑，语言也带着笑，像唱歌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缨《花癫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53040" y="1630440"/>
            <a:ext cx="60127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喜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微笑像小火星一样，在她美丽的脸上，雾般的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中闪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尔基《马特维克日米亚金的一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穿着一身蓝帆布的新工作服，隆起的肌肉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服里突了出来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他笑眯眯地望着我，浓密眉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下的一双大眼睛里，跳跃着兴奋而喜悦的火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丛维熙《女瓦斯员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51680" y="1440360"/>
            <a:ext cx="5856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激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方的棕红色的脸上，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一对含蓄的眼睛，只有遇到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它分外激动的事情的时候，那双眼睛才迸射出火花似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光芒，但一霎时，又隐没在眼睛的深处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竹青《高高的天线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玉吉脸上红一阵，白一阵。她倚在墙边站着，全身都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微地颤动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细长浓黑的眉，大大的湿漉漉的眼睛望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我。那眼光：信赖，尊敬，感激，欣慰，愧疚，慈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祈求，温柔……我再也找不到合适的词来形容了。过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许久，她垂下漆针似的眼睛，两行清泪渗了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姜天民《第九个售货亭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29200" y="1126800"/>
            <a:ext cx="62521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沉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老头儿这些天又瘦了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眼窝深深地塌陷下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但眼睛还是那么亮，那么沉静，像深秋的湖水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就是在这双目光的注视下，在车间选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表示的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郑万隆《明天行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润的脸上带着一丝笑意，使人感到和蔼可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眼神里蕴藏着一点含蓄的威严，会使你不得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肃然起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路遥《破案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3702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眼睛是心灵的窗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167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极俭省的画出一个人的特点，最好是画它的眼睛。——鲁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0320" y="659160"/>
            <a:ext cx="690912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祁老师亲自把我送到车站，离别之时，我突然觉得心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缺点什么，我又习惯地去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祁老师的眼睛，那里露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了喜悦、期望、鼓励的光…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汽车开动了，我慢慢地转过头来，想起祁老师永远留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眼里。她，仍旧是个矮个子，瘦身条，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那架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镜的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不，应该是人民教师心灵的窗户，却是那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明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祖国、未来都装在她那无边的视野里，我不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这扇窗前找到远行者脚下的路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她，还伫立在那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风徐来，掀动着那三十多年用粉笔面染白的头发，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的目光终于扯出了我止不住的泪水，在模糊的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我好象还能看到她那母爱的目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王春芳《目光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28520" y="1194120"/>
            <a:ext cx="731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爱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亲正在很高的白床上躺着，用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渴望惊喜的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光来迎接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护士放我在她的臂上，她很羞涩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开怀。她年纪仿佛很轻，很黑的秀发向后拢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眉毛弯弯的淡淡的像新月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没有血色的淡白的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衬着很大很黑的眼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床侧暗淡的一圈灯影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同一个石像。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冰心《分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1040" y="1668960"/>
            <a:ext cx="671256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情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弯似蹙非蹙罥烟眉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一双似喜非喜含情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态生两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愁，娇袭一身之病。泪光点点，娇喘微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曹雪芹《红楼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若中秋之月，色如春晓之花，鬓若刀裁，眉如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如桃瓣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目若秋波。虽怒时而若笑，即瞋视而有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曹雪芹《红楼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如敷粉，唇若施脂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转盼多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语言常笑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天然一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风骚，全在眉梢；平生万种情思，悉堆眼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曹雪芹《红楼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40200" y="1423080"/>
            <a:ext cx="663480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浮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的确长得很美，脸上有红似白的，两道漆黑的眉毛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地飞扬起来，使你不由得想起乌鸦在阳光下闪着光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翅膀。只是笑得十分邪气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两只眼睛故意眯缝着，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眼仁从眼角勾着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柯岩《寻找回来的世界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那张脸上，特别是由惨白无光的脸色衬托着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她的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睛显得很黑，很亮，稍稍有点浮肿，可是非常有生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其中一只眼睛略为带点斜睨的眼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托尔斯泰《复活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04920" y="1982880"/>
            <a:ext cx="6727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分明看出了我的心思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长而黑的睫毛包围着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大眼睛潮湿了，透过水汪汪的目光，我看到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情、关切、忧虑和焦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维熙《泥泞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97000" y="1982880"/>
            <a:ext cx="6727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胡杏不看，也不动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她的眼睛注视着屋顶的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桁，只有眼白露在下面，好像希腊古代的艺术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雕刻的女神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欧阳山《苦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35800" y="1129320"/>
            <a:ext cx="6843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老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几天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那因小草破土而明亮起来的眼睛灭了，如同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盏耗干了的油灯，上面厚厚地生了一层灰雾，连痛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闪光也不见了。这是一双没有生命、没有感情、没有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泽的眸子，像是玻璃球做的假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陈放《白与绿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老妇人拄着拐杖走出来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她的眼睛几乎要合成一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缝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口里微微地喘气，一手牢牢地把住门边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摩挲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老眼，目不转睛地凝望，好像在期待着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蹇先艾《水莽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11160" y="1884600"/>
            <a:ext cx="54597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疲惫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是个非常英武的军人。从形体到面容，都够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标准的仪仗队员。因为缺乏睡眠的缘故，此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那拧着两股英俊之气的剑眉下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一双明眸里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满了血丝，流露出不尽的忧伤和悲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存葆《高山下的花环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18440" y="1398240"/>
            <a:ext cx="55389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痛苦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他谈到日本人把他们的重伤兵抛在火里烧得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的时候，他也曾表现过同样的神情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半闭眼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右眉向上蹙着，眼睑有点颤动，而眼角的皱纹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更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沙汀《贺龙将军印象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一双火力十足的眼睛不看别人，只盯住手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香烟，饱满的嘴唇铁闸一般紧闭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蒋子龙《乔厂长上任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29440" y="1935720"/>
            <a:ext cx="56516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压抑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的全部骄傲都在勉励她克制自己。她有气无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瞧着邓尼森，后来又一个一个地瞧着我们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的眼睛里流露出一种可怕的神色，她的嘴唇一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在哆嗦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杰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伦敦《在甲板的天棚下面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2800" y="1238400"/>
            <a:ext cx="5301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须发浓密、脸色阴沉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眼睛细小；他那双小眼睛从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眉下边看人时，总带着猜疑的、不怀好意的冷笑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厂里最好的钳工，工人区数他的力气最大，但他对上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态度粗鲁，所以挣钱很少。每逢假日，他总要打人，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都不喜欢他，都怕他。有人也想打他，但都没有打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符拉索夫只要看见有人向他袭来，便拣起石头、木板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铁块，宽宽地叉开两腿，一声不吭地等着对手。他从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直到脖子长满黑胡须的面孔和毛茸茸的两手，使人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生畏。尤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令人害怕的是他那双眼睛……细小而且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利，像钢钻一样刺人，不管是谁，只要和他的目光相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都会感到自己面前的这个人有一股无所畏惧的蛮劲，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时准备毫不留情地痛打别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尔基《母亲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96160" y="117720"/>
            <a:ext cx="612288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忧伤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斯佳是一个年约十岁的孩子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那沉思的、悲伤的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光引起我的好奇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他的脸庞不大，瘦削而有麻雀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尖尖的，像松鼠一样；嘴唇不大看得出，然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那双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黑的、水汪汪的大眼睛给人以异样的印象；这双眼睛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乎想表达什么意思，可是语言（至少他的语言）却表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不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他的身材矮小，体格虚弱，穿得十分贫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屠格涅夫《白净草原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那双含着几丝悲凉的眼睛里也透出一股活活的神气，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像恶魔般的癌症从她的躯体里悄然飘逝了，垂死的身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又注进了蓬勃的活力，心在开始有力地搏动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然而，妈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发黑的眼角却滚出一颗泪珠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自己心里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，这正是她快要离开人间而远走的预兆。她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目光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慢地移动，流连地望着眼前的一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曹文轩《太阳，熄灭了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30400" y="1282320"/>
            <a:ext cx="6855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怅惘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望着爷爷的眼睛，很久很久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他细长却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总是明亮的眼睛里，此刻有一层说不清楚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意思，仿佛是秋天过去了，一匹老马某天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马厩里出来，突然发现在自己面前的是一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空荡荒凉牧场一样，带着些惊诧，也带着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悲哀和无可奈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蓓佳《遥远的地方有一片海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07200" y="1868760"/>
            <a:ext cx="55130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恐怖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仿佛觉得已经被投入了那黑暗的深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他的一双大眼睛恐怖地睁视着那阴森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井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尔多迈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约《十二号风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83840" y="334800"/>
            <a:ext cx="64108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愤怒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女人抬起眼睛，老魏不由停住了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这是怎样一双眼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哪，这是一个受了骗、伤了心的女人的眼睛，在那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恶的眼光底下，是深得没有底的悲哀。她的眼睛好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大声呐喊，又像是从牙缝里，轻轻地、然而重重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吐出，一个字一个字地说：“不要再来碰我们，不要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来碰我们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安忆《尾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船姑娘真像野马一样发威，用一般女儿家难以出口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词儿警告对方：“别以为渡口只剩下船姑奶奶一个孤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哼！你要是瞎了眼，跟船姑奶奶掉歪，船姑奶奶一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你打下水里去，叫你喂芙蓉河的王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****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着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双杏子眼瞪得溜溜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猛地举起手中的船篙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丛维熙《洁白的睡莲花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76760" y="406440"/>
            <a:ext cx="723672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麻木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不再看见别的，眼前只有她那眼睛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上眼皮总算有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两条略微弯曲的纹路，这两根线条的始和终都很清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从这一眼角到另一眼角，线条死板、僵硬，还有点充血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发炎，使眼泡稍稍肿胀着，两根线条扯着眼皮，使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呆呆傻傻，迟迟疑疑，好像不能也不敢闪动。细长的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睛是变大了，木木地瞪视着我，要不是偶然费劲地不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活地眨动一下，那就虚假得像画在玩偶上的眼睛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韩蔼丽《眸子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身材增加了一倍；先前的紫色圆脸，已经变作灰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且加上了很深的皱纹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眼睛也像他父亲一样，周围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肿得通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知道，在海边种地的人，终日吹着海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抵是这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鲁迅《故乡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61920" y="1418400"/>
            <a:ext cx="5392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伪善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身子又粗又大，面孔臃肿，像枕头一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柔软；鼻子很大，是黄色的；嘴唇肥厚，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潮润的；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黑色的眼睛无耻地向外凸出，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瞳孔的表面上假装出善良的、实际倒也不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愚蠢的微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尔基《索洛维茨劳动改造营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99760" y="1066320"/>
            <a:ext cx="6172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狡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巴突出些，并且常常掩着手帕，免得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吐沫沾湿。那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小小的眼睛还没有呆滞，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浓眉底下转来转去，恰如两匹小鼠子，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它的尖嘴钻出暗洞来，立起耳朵，动着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须，看看是否藏着猫或者顽皮的孩子，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疑的嗅着空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果戈里《死魂灵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8960" y="886680"/>
            <a:ext cx="67276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阴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留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一双精气外露、四处打量的眼睛，镶在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瘪瘪的眼眶里。目光挑剔、冷冰冰、不祥、咄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逼人。而且总是不客气地盯着别人的脸；连心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最坦白的人，也不愿碰到这种目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冯骥才《啊！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刁钻的眼睛眯成两条塌角的细缝，鹰嘴似的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子两边各有一条牛角弯刀一样的长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辛勤 段云星《摔交王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澈：明亮：精神：锐利：秀美：聪慧：机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皮：温柔：友善：活泼：喜悦：激动：深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待：慈爱：含情：轻浮：同情：专注：苍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疲惫：痛苦：压抑：忧伤：怅惘：恐怖：愤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麻木：伪善：狡猾：阴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349080" y="1339560"/>
            <a:ext cx="243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学会观察：因为世界上没有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人的眼睛完全一样，同一个人，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同的年龄、时间、心情……其眼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是不一样的，写出这种差异，就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掘出深层的东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抓住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有文采，注意与修辞的结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最重要的，要为主题服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2600" y="838800"/>
            <a:ext cx="675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，她今年三十九岁，看上去，倒像是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开外的人了，她的个子，在女人里面算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的，背稍有点驼。稠密的头发，已有些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蓬蓬的，在那双浓厚的眉毛下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一双大而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的眼睛，陪衬在方圆的大脸盘上，看得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年青时，她是个美丽和善的姑娘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，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己镶上密密的皱纹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本来水灵灵的眼睛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去了光泽，只剩下善良的接近迟钝的柔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里面像藏着许多苦涩的东西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冯德英《苦菜花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27280" y="292428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课堂训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07800" y="2467800"/>
            <a:ext cx="357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眼睛描写的片断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97280" y="550800"/>
            <a:ext cx="697788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澈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叶是个十分苗条的姑娘，显得纤弱，她一头乌发，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束着一只紫红色的发箍，发箍上还缀满了白色的小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深深的酒窝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一双眼睛像一汪清澈的湖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长长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睫毛像道纱幕，使那双眼睛有时显得神秘、深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李兴叶《“氓”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的眼睛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蔚蓝色的，像最深的湖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安徒生《海的女儿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瞧她那黑亮的头发，瞧她那头发上的柔美的波纹，瞧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得体的轻纱连衣裙，瞧她那黄金的胸针，高跟鞋使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身量更显颀长苗条了。然而这一切的美，似乎都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衬托她那俏丽的面庞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水泉映月般的眼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和她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生动人的眉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孟伟哉《夫妇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30840" y="618480"/>
            <a:ext cx="664848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眼睛很亮，亮得像没有微尘的海水，亮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静，永远不斜视似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　　　陈残云《深圳河畔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那样笑着，微微侧着头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眼睛亮晶晶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两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窝浅浅地浮在面颊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　柯岩《寻找回来的世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醒了，缓缓地睁开灰暗的眼睛，那是一双毫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待的眼睛，冷漠而枯涩。忽然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像灯花一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眼里有了神，越来越亮了，一闪一闪地现出惊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的光，像太阳越升越高，越来越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陈放《白与绿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0240" y="496800"/>
            <a:ext cx="710892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一双丹凤三角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弯柳叶吊梢眉，身量苗条，体格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骚；粉面含春威不露，丹唇未启笑先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曹雪芹《红楼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将鼓捶子轻轻地点了两下，方抬起头来，向台下一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那双眼睛，如秋水，如寒星，如宝玉，如白水银里头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着两丸黑水银，左右一顾一看，连那坐在远远墙角子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的人，都觉得王小玉看见我了。那坐得近的，更不必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就这一眼，满院子里便鸦雀无声，比皇帝出来还要静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得多呢，连一根针掉在地下都听得见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刘鹗《老残游记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长九尺，髯长二尺；面如重枣，唇若涂脂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丹凤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卧蚕眉：相貌堂堂，威风凛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罗贯中《三国演义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83120" y="736200"/>
            <a:ext cx="63439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锐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头子浑身没有多少肉，干瘦的像老了的鱼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是那晒得干黑的脸，短短的花白胡子却特别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那一对深陷的眼睛却特别亮。很少见到这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尖利的眼睛，除非是在白洋淀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孙犁《荷花淀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车里走出舰队司令员，他短小精悍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细眯着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脸上露着幽默的微笑，朝大家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　　哈华《深夜发生的情况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眼睛更尖锐了，像吃草的畜生；眼珠子里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佛有一块锈了的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高尔基《不平常的故事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8:56:47Z</dcterms:created>
  <dc:creator>  </dc:creator>
  <dc:description> </dc:description>
  <dc:language>en-US</dc:language>
  <cp:lastModifiedBy>USER</cp:lastModifiedBy>
  <dcterms:modified xsi:type="dcterms:W3CDTF">2015-11-05T01:58:27Z</dcterms:modified>
  <cp:revision>0</cp:revision>
  <dc:subject> </dc:subject>
  <dc:title> </dc:title>
</cp:coreProperties>
</file>