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D6D-7D57-45E2-AC7E-0013112B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435-154A-4F31-8D2A-2D87F647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E9D-3ACA-44A3-93AE-16BCD55B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731-810E-4452-9EB3-6F3B374B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E9F-8099-47FD-8256-0DCA2B0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DF7-E536-4A9A-B497-00E11CE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FEB-191B-4E20-886E-C2DCBAD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B66-9F4C-46FF-A423-A04C551A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16E-30D0-46BA-B499-3B37E7E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811-4F0E-4C00-A9C0-4A45A68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CE2-0010-462B-A272-4F16FEC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0BA-FA08-41F8-8E4B-8F33CBB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63E-3C74-425F-87D2-3D46E51BA8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77640" y="457200"/>
            <a:ext cx="47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神通广大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57200" y="2133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入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字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1711440"/>
            <a:ext cx="864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你爷爷手腕的动脉上，割开一个小口子，把微型机器人放进去。它就随着血液进入脑血管，清除堵塞血管的黏稠血浆。血液循环畅通了，你爷爷的病就好啦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神奇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蒙赞叹道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话里的孙悟空，变成小虫子钻进铁扇公主的肚子里；科学家造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能够进入脑血管里做手术，神通更大哩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乐得直蹦。忽然，他停下来，恭恭敬敬向小小机器人敬了个礼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你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38280" y="280368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5943600" y="249876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5257800" y="76320"/>
            <a:ext cx="3124080" cy="1523880"/>
          </a:xfrm>
          <a:prstGeom prst="cloudCallout">
            <a:avLst>
              <a:gd name="adj1" fmla="val 55638"/>
              <a:gd name="adj2" fmla="val 418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把“清除”换成“清理”行不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533520" y="152280"/>
            <a:ext cx="2971800" cy="1524240"/>
          </a:xfrm>
          <a:prstGeom prst="cloudCallout">
            <a:avLst>
              <a:gd name="adj1" fmla="val -51870"/>
              <a:gd name="adj2" fmla="val 5395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如果把“畅通”换成“神通”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31880" y="2438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黏稠血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3354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脑血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3612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脑血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31880" y="3657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孙悟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116240" y="3657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黏稠血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361280" y="3657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脑血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28600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410080" y="2743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205740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556272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758680" y="215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堵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914800" y="215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75868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清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914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1562040" y="1371600"/>
            <a:ext cx="6019920" cy="3809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晓蒙了解到“小孙悟空”帮爷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治好了病，便恭恭敬敬地向它敬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个礼。我们也认识了“小孙悟空”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定也有自己的感受。你想对“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”说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906560" y="1295280"/>
            <a:ext cx="86652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脑血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血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编故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镊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478560" y="1295280"/>
            <a:ext cx="63792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微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手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动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畅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381120" y="4572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借助字典，说说下列词语的意思。任选一组词语分别写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07280" y="1752480"/>
            <a:ext cx="24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神通  畅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007280" y="3154320"/>
            <a:ext cx="24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清理  清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37520" y="4648320"/>
            <a:ext cx="331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惊奇  好奇  神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1"/>
          <p:cNvPicPr/>
          <p:nvPr/>
        </p:nvPicPr>
        <p:blipFill>
          <a:blip r:embed="rId1"/>
          <a:stretch/>
        </p:blipFill>
        <p:spPr>
          <a:xfrm>
            <a:off x="2629080" y="568440"/>
            <a:ext cx="3886200" cy="3698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04920" y="44514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脑血栓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是老年人的一种常见疾病。血液在人体血管内流动，就像是河水，流速越快，沉淀越少；反之，流速越慢，沉淀越多。血粘度增高势必导致血液流速减慢，血液中的血小板、胆固醇、纤维蛋白等物质便在血管壁上沉淀下来，久而久之，沉淀物越积越多，导致脑血栓形成。患脑血栓后会有说话不清，失忆等症状，甚至发生脑癌，危及患者生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4905721d6fc62989a78669f8"/>
          <p:cNvPicPr/>
          <p:nvPr/>
        </p:nvPicPr>
        <p:blipFill>
          <a:blip r:embed="rId1"/>
          <a:stretch/>
        </p:blipFill>
        <p:spPr>
          <a:xfrm>
            <a:off x="2693880" y="685800"/>
            <a:ext cx="375624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207320" y="594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3029040"/>
            <a:ext cx="8534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放学回家，听说爷爷生病住了医院，便赶紧跑去探望。在医院门口，他碰见了妈妈，忙问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病得厉害吗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妈妈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患的是脑血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栓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shuān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要不是抢救得快，真很危险。现在已经脱离危险了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走进病房，一看，爷爷正在休息。晓蒙轻轻地问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，您不要紧吧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爷爷张开眼睛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亏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kuī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悟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及时清理了堵塞脑血管的黏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nián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稠血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浆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jiānɡ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现在舒服多了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‘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爷爷，您不是说故事吧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，谁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编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，你去问值班的医生张叔叔吧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说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195720" y="21938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通广大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259092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找到了张叔叔，问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事。张叔叔端出一个盘子，用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i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夹起一个小蚂蚁似的东西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要知道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是这个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í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机器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器人能做得这么小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蒙惊奇不已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微型机器人，也有电脑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ò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制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它的行动吧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啰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叔叔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过，它的电脑要在显微镜下才能见到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好奇地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怎样用它给爷爷治病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8600" y="1117440"/>
            <a:ext cx="864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你爷爷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动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，割开一个小口子，把微型机器人放进去。它就随着血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进入脑血管，清除堵塞血管的黏稠血浆。血液循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了，你爷爷的病就好啦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神奇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蒙赞叹道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话里的孙悟空，变成小虫子钻进铁扇公主的肚子里；科学家造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能够进入脑血管里做手术，神通更大哩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乐得直蹦。忽然，他停下来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ō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恭敬敬向小小机器人敬了个礼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你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3505320"/>
            <a:ext cx="8534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放学回家，听说爷爷生病住了医院，便赶紧跑去探望。在医院门口，他碰见了妈妈，忙问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病得厉害吗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妈妈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患的是脑血栓，要不是抢救得快，真很危险。现在已经脱离危险了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195720" y="24224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通广大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5791320" y="762120"/>
            <a:ext cx="2819160" cy="1752480"/>
          </a:xfrm>
          <a:prstGeom prst="cloudCallout">
            <a:avLst>
              <a:gd name="adj1" fmla="val 32601"/>
              <a:gd name="adj2" fmla="val 6657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小孙悟空”为什么要加引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31880" y="2438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黏稠血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3354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脑血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3612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脑血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317680" y="2743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5410080" y="2743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79036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堵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914800" y="215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3594240"/>
            <a:ext cx="8534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走进病房，一看，爷爷正在休息。晓蒙轻轻地问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，您不要紧吧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爷爷张开眼睛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亏一个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及时清理了堵塞脑血管的黏稠血浆，现在舒服多了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‘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爷爷，您不是说故事吧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，谁编故事，你去问值班的医生张叔叔吧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说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33520" y="1447920"/>
            <a:ext cx="2514600" cy="1447560"/>
          </a:xfrm>
          <a:prstGeom prst="cloudCallout">
            <a:avLst>
              <a:gd name="adj1" fmla="val -46462"/>
              <a:gd name="adj2" fmla="val 61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小孙悟空”是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590920"/>
            <a:ext cx="84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找到了张叔叔，问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事。张叔叔端出一个盘子，用镊子夹起一个小蚂蚁似的东西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要知道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孙悟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是这个微型机器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器人能做得这么小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蒙惊奇不已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微型机器人，也有电脑控制它的行动吧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啰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叔叔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过，它的电脑要在显微镜下才能见到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晓蒙好奇地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怎样用它给爷爷治病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752480" y="304920"/>
            <a:ext cx="3048120" cy="1828800"/>
          </a:xfrm>
          <a:prstGeom prst="cloudCallout">
            <a:avLst>
              <a:gd name="adj1" fmla="val -46560"/>
              <a:gd name="adj2" fmla="val 5989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说这样的“小孙悟空”神通广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07:59:29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