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5.jpeg" ContentType="image/jpeg"/>
  <Override PartName="/ppt/media/image14.png" ContentType="image/pn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225-8458-4B9E-AC39-5177D69B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906-9A0E-4845-BE9E-85BE64E7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423-7F84-4955-A141-A5ABD466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FFA-574B-4353-8CA8-0A36DF1B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1EE7-0EA6-4423-8C1C-0A148A45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E0E9-F3D3-4EFF-AFF7-D6374002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397A-6F18-4EDD-8B30-98553BF6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F1E4-D4AA-462C-B636-9F9ED2CB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1D4D-2C38-437A-88A2-B0FC6D7E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499C-F775-443F-ACEF-035D107D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EEE1-A7FE-496C-8803-D2EE12B8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20B-AE45-4476-81BB-25658182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4195-87A2-4074-AFE3-DE440EFF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7D4C-1BF4-47C8-82A0-9332A45F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0ED6-C284-42B6-984D-4D5BEA18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52FA-232C-4CEF-B2D7-1DD721AC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B3D8-FA36-444A-ACCD-7C1705F7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C0A-2753-4585-AC47-C88D61FB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390-0D68-4267-946A-09E023A3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6CB-37FE-4DE8-BEE1-8142ED4F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8F1-EAB7-4879-A8EE-586DCB49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F3CD-E7D6-410A-85F0-4D32F331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B8F-0FA8-4E86-BBFB-F0B89E70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B4C-6EBD-420D-8386-58AA4B28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6F48-E513-45E3-8B54-98B094CFCF5D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6007-6D26-4B05-BC70-6A59EA93665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332000" y="2997360"/>
            <a:ext cx="67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050920" y="1268280"/>
            <a:ext cx="48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男女生  大比拼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95280" y="234936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举手发言，说说关于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情况危急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心情紧张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成语，我会快速点名，一个男生一个女生，如果点到你，你却</a:t>
            </a:r>
            <a:r>
              <a:rPr b="1" lang="zh-CN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不能快速说出来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或者</a:t>
            </a:r>
            <a:r>
              <a:rPr b="1" lang="zh-CN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与前面的人重复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或者你们那一队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没人举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很遗憾，你们这一队就输了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2349360"/>
            <a:ext cx="8540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在这生死攸关的时刻，如果此时你就是家中唯一的男子汉雅克，你会想些什么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4360" y="1844640"/>
            <a:ext cx="7821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华文仿宋"/>
              </a:rPr>
              <a:t>           </a:t>
            </a:r>
            <a:r>
              <a:rPr b="1" lang="zh-CN" sz="4000" spc="-1" strike="noStrike">
                <a:solidFill>
                  <a:srgbClr val="3333ff"/>
                </a:solidFill>
                <a:latin typeface="Calibri"/>
                <a:ea typeface="华文仿宋"/>
              </a:rPr>
              <a:t>这时候，儿子雅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华文仿宋"/>
              </a:rPr>
              <a:t>慢慢地</a:t>
            </a:r>
            <a:r>
              <a:rPr b="1" lang="zh-CN" sz="4000" spc="-1" strike="noStrike">
                <a:solidFill>
                  <a:srgbClr val="3333ff"/>
                </a:solidFill>
                <a:latin typeface="Calibri"/>
                <a:ea typeface="华文仿宋"/>
              </a:rPr>
              <a:t>站起来，</a:t>
            </a:r>
            <a:r>
              <a:rPr b="1" lang="zh-CN" sz="40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“</a:t>
            </a:r>
            <a:r>
              <a:rPr b="1" lang="zh-CN" sz="4000" spc="-1" strike="noStrike">
                <a:solidFill>
                  <a:srgbClr val="3333ff"/>
                </a:solidFill>
                <a:latin typeface="Calibri"/>
                <a:ea typeface="华文仿宋"/>
              </a:rPr>
              <a:t>天真冷，我到柴房去搬些柴来生个火吧。</a:t>
            </a:r>
            <a:r>
              <a:rPr b="1" lang="zh-CN" sz="40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”</a:t>
            </a:r>
            <a:r>
              <a:rPr b="1" lang="zh-CN" sz="4000" spc="-1" strike="noStrike">
                <a:solidFill>
                  <a:srgbClr val="3333ff"/>
                </a:solidFill>
                <a:latin typeface="Calibri"/>
                <a:ea typeface="华文仿宋"/>
              </a:rPr>
              <a:t>说着伸手端起烛台朝门口走去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</a:rPr>
              <a:t>，房子顿时暗了下来</a:t>
            </a:r>
            <a:r>
              <a:rPr b="0" lang="zh-CN" sz="4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华文仿宋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11280" y="3357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4360" y="1844640"/>
            <a:ext cx="7821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华文仿宋"/>
              </a:rPr>
              <a:t>           </a:t>
            </a:r>
            <a:r>
              <a:rPr b="1" lang="zh-CN" sz="4000" spc="-1" strike="noStrike">
                <a:solidFill>
                  <a:srgbClr val="3333ff"/>
                </a:solidFill>
                <a:latin typeface="Calibri"/>
                <a:ea typeface="华文仿宋"/>
              </a:rPr>
              <a:t>这时候，儿子雅克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华文仿宋"/>
              </a:rPr>
              <a:t>慢慢地</a:t>
            </a:r>
            <a:r>
              <a:rPr b="1" lang="zh-CN" sz="4000" spc="-1" strike="noStrike">
                <a:solidFill>
                  <a:srgbClr val="3333ff"/>
                </a:solidFill>
                <a:latin typeface="Calibri"/>
                <a:ea typeface="华文仿宋"/>
              </a:rPr>
              <a:t>站起来，</a:t>
            </a:r>
            <a:r>
              <a:rPr b="1" lang="zh-CN" sz="40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“</a:t>
            </a:r>
            <a:r>
              <a:rPr b="1" lang="zh-CN" sz="4000" spc="-1" strike="noStrike">
                <a:solidFill>
                  <a:srgbClr val="3333ff"/>
                </a:solidFill>
                <a:latin typeface="Calibri"/>
                <a:ea typeface="华文仿宋"/>
              </a:rPr>
              <a:t>天真冷，我到柴房去搬些柴来生个火吧。</a:t>
            </a:r>
            <a:r>
              <a:rPr b="1" lang="zh-CN" sz="40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”</a:t>
            </a:r>
            <a:r>
              <a:rPr b="1" lang="zh-CN" sz="4000" spc="-1" strike="noStrike">
                <a:solidFill>
                  <a:srgbClr val="3333ff"/>
                </a:solidFill>
                <a:latin typeface="Calibri"/>
                <a:ea typeface="华文仿宋"/>
              </a:rPr>
              <a:t>说着伸手端起烛台朝门口走去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</a:rPr>
              <a:t>，房子顿时暗了下来</a:t>
            </a:r>
            <a:r>
              <a:rPr b="0" lang="zh-CN" sz="4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华文仿宋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11280" y="3357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1125360"/>
            <a:ext cx="7821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华文仿宋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9640" y="162864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孩子是懂事的，他知道，厄运即将到来了，但在斗争的最后阶段，自己必须在场。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从容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搬回一捆木柴，生了火，默默地坐待最后的时刻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11280" y="1125360"/>
            <a:ext cx="7821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华文仿宋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9640" y="1628640"/>
            <a:ext cx="8209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知道，厄运即将到来了，但在斗争的最后阶段，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必须在场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从容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搬回一捆木柴，生了火，默默地坐待最后的时刻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11280" y="1125360"/>
            <a:ext cx="7821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华文仿宋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39640" y="162864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孩子是懂事的，他知道，厄运即将到来了，但在斗争的最后阶段，自己必须在场。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从容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搬回一捆木柴，生了火，默默地坐待最后的时刻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烛光摇曳着，发出微弱的光。此时此刻，它仿佛成了这房子里最可怕的东西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68360" y="2637000"/>
            <a:ext cx="7272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8ed5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558ed5"/>
                </a:solidFill>
                <a:latin typeface="楷体_GB2312"/>
                <a:ea typeface="楷体_GB2312"/>
              </a:rPr>
              <a:t>烛光摇曳着，发出微弱的光。此时此刻，它仿佛成了这房子里最可怕的东西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3789360"/>
            <a:ext cx="914400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9280" y="2924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突然，杰奎琳娇声地对德国人说道：“司令官先生，天晚了，楼上黑，我可以拿一盏灯上楼睡觉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50920" y="3860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杰奎琳仰起小脸，高兴地说：“那太好了。不过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司令官先生，今晚我的头很痛，我想睡觉了，下次再给我讲好吗？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5300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杰奎琳镇定地把烛台端起来，向几位军官道过晚安，上楼去了。正当她踏上最后一级阶梯时，蜡烛熄灭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生命攸关的烛光"/>
          <p:cNvPicPr/>
          <p:nvPr/>
        </p:nvPicPr>
        <p:blipFill>
          <a:blip r:embed="rId1"/>
          <a:srcRect l="10784" t="10858" r="10138" b="45117"/>
          <a:stretch/>
        </p:blipFill>
        <p:spPr>
          <a:xfrm>
            <a:off x="0" y="0"/>
            <a:ext cx="9144000" cy="2865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4000" y="980640"/>
            <a:ext cx="82915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时间一分一秒地过去了。突然，小女儿杰奎琳娇声地对德国人说道：“司令官先生，天晚了，楼上黑，我可以拿一盏灯上楼睡觉吗？”少校瞧了瞧这位可爱的小姑娘，一把拉她到身边，用亲切的声音说：“当然可以。我家也有一个你这样年纪的小女儿。来，我给你讲讲我的路易莎好吗？”杰奎琳仰起小脸，高兴地说：“那太好了！不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司令官先生，今晚我的头很痛，我想睡觉了，下次您再给我讲好吗？”“当然可以，小姑娘。”杰奎琳镇定地把烛台端起来，向几们军官道过晚安，上楼去了。正当她踏上最后一级阶梯时，蜡烛熄灭了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续编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死攸关的烛光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1332000" y="2565360"/>
            <a:ext cx="6480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楷体"/>
              </a:rPr>
              <a:t>生死攸关的烛光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、课后自由结合，把课文改编成课本剧，看哪一组表现得最好，评选出最佳编剧、导演和演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、好书推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第二次世界大战回忆录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》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英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]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丘吉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第二次世界大战战史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》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英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]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哈 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Calibri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826920" y="1628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情报泄露，将会导致多少人死亡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987640" y="256536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小于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059280" y="357336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等于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987640" y="46530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大于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1"/>
          <p:cNvPicPr/>
          <p:nvPr/>
        </p:nvPicPr>
        <p:blipFill>
          <a:blip r:embed="rId1"/>
          <a:stretch/>
        </p:blipFill>
        <p:spPr>
          <a:xfrm>
            <a:off x="936720" y="1600200"/>
            <a:ext cx="3079800" cy="2185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35280" y="6021000"/>
            <a:ext cx="5472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ff"/>
                </a:solidFill>
                <a:latin typeface="Calibri"/>
              </a:rPr>
              <a:t>二战时期的德军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0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0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0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5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06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6477120" y="160020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42040" y="1295280"/>
            <a:ext cx="1896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德军处死的妇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07"/>
          <p:cNvPicPr/>
          <p:nvPr/>
        </p:nvPicPr>
        <p:blipFill>
          <a:blip r:embed="rId7"/>
          <a:stretch/>
        </p:blipFill>
        <p:spPr>
          <a:xfrm>
            <a:off x="0" y="115920"/>
            <a:ext cx="7162920" cy="6742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7472160" y="1752480"/>
            <a:ext cx="91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屠杀现场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4" descr="08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英雄的黎明.mp3" descr=""/>
          <p:cNvPicPr/>
          <p:nvPr/>
        </p:nvPicPr>
        <p:blipFill>
          <a:blip r:embed="rId9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WordArt 2" descr=""/>
          <p:cNvPicPr/>
          <p:nvPr/>
        </p:nvPicPr>
        <p:blipFill>
          <a:blip r:embed="rId1"/>
          <a:stretch/>
        </p:blipFill>
        <p:spPr>
          <a:xfrm>
            <a:off x="2182680" y="1255680"/>
            <a:ext cx="4237200" cy="1030320"/>
          </a:xfrm>
          <a:prstGeom prst="rect">
            <a:avLst/>
          </a:prstGeom>
          <a:ln w="0">
            <a:noFill/>
          </a:ln>
        </p:spPr>
      </p:pic>
      <p:pic>
        <p:nvPicPr>
          <p:cNvPr id="105" name="WordArt 3" descr=""/>
          <p:cNvPicPr/>
          <p:nvPr/>
        </p:nvPicPr>
        <p:blipFill>
          <a:blip r:embed="rId2"/>
          <a:stretch/>
        </p:blipFill>
        <p:spPr>
          <a:xfrm>
            <a:off x="2182680" y="3054240"/>
            <a:ext cx="4199040" cy="816120"/>
          </a:xfrm>
          <a:prstGeom prst="rect">
            <a:avLst/>
          </a:prstGeom>
          <a:ln w="0">
            <a:noFill/>
          </a:ln>
        </p:spPr>
      </p:pic>
      <p:pic>
        <p:nvPicPr>
          <p:cNvPr id="106" name="WordArt 4" descr=""/>
          <p:cNvPicPr/>
          <p:nvPr/>
        </p:nvPicPr>
        <p:blipFill>
          <a:blip r:embed="rId3"/>
          <a:stretch/>
        </p:blipFill>
        <p:spPr>
          <a:xfrm>
            <a:off x="2255760" y="4572000"/>
            <a:ext cx="42735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3059280" y="2291400"/>
            <a:ext cx="54496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自学</a:t>
            </a: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3-7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自然段，回答问题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这生死攸关的时刻，伯瑙德一家三口如何与德军巧妙周旋保护情报？边读边画出有关语句，重点标出他们的语言、动作的地方，在旁边写写你的体会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图片1"/>
          <p:cNvPicPr/>
          <p:nvPr/>
        </p:nvPicPr>
        <p:blipFill>
          <a:blip r:embed="rId1"/>
          <a:stretch/>
        </p:blipFill>
        <p:spPr>
          <a:xfrm>
            <a:off x="324000" y="476280"/>
            <a:ext cx="22748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3635280" y="836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她看着两个脸色苍白的儿女，急忙从厨房中取出一盏油灯放在桌上。“瞧，先生们，这盏灯亮些。”说着轻轻把蜡烛吹熄。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图片1"/>
          <p:cNvPicPr/>
          <p:nvPr/>
        </p:nvPicPr>
        <p:blipFill>
          <a:blip r:embed="rId1"/>
          <a:stretch/>
        </p:blipFill>
        <p:spPr>
          <a:xfrm>
            <a:off x="324000" y="620640"/>
            <a:ext cx="2771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635280" y="836640"/>
            <a:ext cx="47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她看着两个脸色苍白的儿女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急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从厨房中取出一盏油灯放在桌上。“瞧，先生们，这盏灯亮些。”说着轻轻把蜡烛吹熄。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图片1"/>
          <p:cNvPicPr/>
          <p:nvPr/>
        </p:nvPicPr>
        <p:blipFill>
          <a:blip r:embed="rId1"/>
          <a:stretch/>
        </p:blipFill>
        <p:spPr>
          <a:xfrm>
            <a:off x="324000" y="620640"/>
            <a:ext cx="2771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635280" y="836640"/>
            <a:ext cx="47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她看着两个脸色苍白的儿女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急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从厨房中取出一盏油灯放在桌上。“瞧，先生们，这盏灯亮些。”说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轻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把蜡烛吹熄。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图片1"/>
          <p:cNvPicPr/>
          <p:nvPr/>
        </p:nvPicPr>
        <p:blipFill>
          <a:blip r:embed="rId1"/>
          <a:stretch/>
        </p:blipFill>
        <p:spPr>
          <a:xfrm>
            <a:off x="324000" y="620640"/>
            <a:ext cx="2771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3:33:29Z</dcterms:created>
  <dc:creator/>
  <dc:description/>
  <cp:keywords/>
  <dc:language>en-US</dc:language>
  <cp:lastModifiedBy>Administrator</cp:lastModifiedBy>
  <dcterms:modified xsi:type="dcterms:W3CDTF">2015-04-09T14:55:11Z</dcterms:modified>
  <cp:revision>164</cp:revision>
  <dc:subject/>
  <dc:title>幻灯片 1</dc:title>
</cp:coreProperties>
</file>